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FBFD-CA64-42B1-836F-5084233D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1C37-3A0F-4DAE-9EF2-D64AB9CE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D743-763E-41BF-BBFD-E6A78E5B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9521-118C-4BAF-85ED-B946863D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69AA-F066-413E-8257-0B08CA07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2922-9D98-4A67-A13D-2B182A4B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3129-CD1D-4C1F-BF77-534F6484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646-65BD-4EE2-9869-C65F9359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023D-C646-4CE9-8152-7BD03305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EFB2-8257-4A89-A6D5-FD433421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5519-2268-4EB2-B41E-4EAC12AA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4A2B-0614-42D7-9201-1F150D11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0DE4-D526-479B-87A1-13F57DC97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tatystyka publiczna w procesie integracji europejskiej ze szczególnym uwzględnieniem  problematyki obszarów transgranicz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YSTKA PUBLICZ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ŹRÓDŁEM ZASILANIA SYSTEMÓW INFORMACYJNYCH BANK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niwersytet Marii Curie – Skłodowskiej w Lubli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ian Żukow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 09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ystka publiczna źródłem zasilania systemów informacyjnych bank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Białorus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asady funkcjonowania statystyki publicznej reguluje „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Ustawa Republiki Białoruś o statystyce państwowe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Organam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ystyki państwowej są: republikański organ administracji rządowej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mitet Statystyk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 tworzone przez niego terytorialne organy statystyki państwowej.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Użytkownikam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ystyki publicznej są: państwowe organy władzy i administracji, osoby prawne i fizyczne, w tym przedsiębiorcy indywidualni, obcokrajowcy, osoby bez obywatelstwa, zagraniczne i międzynarodowej osoby prawne, którzy wykorzystują dane (informację) statystycz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ystka publiczna źródłem zasilania systemów informacyjnych bank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izując przepisy prawne -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bardzo duże podobieństw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gulacji przyjętych w poszczególnych kraja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chą szczególną metod, na których opiera się statystyka publiczna we wszystkich wyżej wymienionych krajach jest to, że jest ona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wyposażo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 odpowiednie instrumentarium i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prawnio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zbierania informacji pierwotnych ze wszystkich dostępnych źródeł. Zakres gromadzonych danych jest określony szczegółowo w programie badań statystycznych statystyki publicznej. Określona jes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metodyk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omadzenia danych statystycznych oraz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odmioty obowiązane do składania informacj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la statystyki publicznej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ystka publiczna źródłem zasilania systemów informacyjnych bank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spółczesna gospodarka składa się z dwu segmentów. Stanowi ją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ktor real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óbr i usług) oraz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ktor finansow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ieniądz). W obydwu sferach przepływają strumienie pieniężne, które odzwierciedlają procesy ilościowe. Coraz większe znaczenie dla wszystkich procesów gospodarczych mają zmiany w gospodarce światowej i gospodarce krajowej. Na systemy gospodarcze coraz silniej oddziałują takie zjawiska jak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lobalizacja, liberalizacja i deregulac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arakter procesów zachodzących w gospodarce odzwierciedlają informacje gromadzone w statystyce publiczne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Podstawą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skutecznego działan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 wszystkich poziomach systemu ekonomicznego jest rzetelna i kompletna informacja generowana przez statystyki publicz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ystka publiczna źródłem zasilania systemów informacyjnych bank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ystyka publiczna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ostarcza dany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prognozowania rozwoju sytuacji na różnych poziomach systemu ekonomicznego. Pozwala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konstruować mode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 charakterze makroekonomicznym oparte na prawach ekonomicznych i informacjach ze statystyki publicznej. Pozwala to przewidywać przyszły rozwój sytuacji w poszczególnych segmentach gospodark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ystka publiczna źródłem zasilania systemów informacyjnych bank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ektywnie funkcjonujący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system finansow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est podstawą prawidłowej alokacji zasobów rzeczowych i finansowych, kreuje wzrost gospodarczy, sprawnie transformuje oszczędności w inwestycje, pozwala uczestniczyć w zmianach o charakterze globalnym. Podstawowym elementem systemu finansowego jest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sektor bankow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Monitorowanie sektora bankowego ma znaczenie zasadnicze dla oceny sytuacji sektora finansowego i możliwości rozwoju gospodarki jako całośc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e oznacza to, że pozostałe elementy systemu finansowego (system emerytalny, ubezpieczenia, rynek kapitałowy czy instytucje zbiorowego inwestowania) mają znaczenie drugorzędne. Od jakości ich funkcjonowania także zależy stabilność systemu finansowego. Każdy z nich może generować ryzyka skutkujące infekcją całego systemu bankowego, następnie systemu finansowego i w konsekwencji kryzysem ogólnogospodarczym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ystka publiczna źródłem zasilania systemów informacyjnych bank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ażnym </a:t>
            </a:r>
            <a:r>
              <a:rPr b="0" lang="pl-PL" sz="3200" spc="-1" strike="noStrike">
                <a:solidFill>
                  <a:srgbClr val="ff0000"/>
                </a:solidFill>
                <a:latin typeface="Arial"/>
              </a:rPr>
              <a:t>narzędziem ograniczania ryzyk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gospodarczego jest </a:t>
            </a:r>
            <a:r>
              <a:rPr b="1" lang="pl-PL" sz="3200" spc="-1" strike="noStrike">
                <a:solidFill>
                  <a:srgbClr val="0000ff"/>
                </a:solidFill>
                <a:latin typeface="Arial"/>
              </a:rPr>
              <a:t>informacj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generowana przez statystykę publiczną oraz gromadzona w systemie finansowym, w tym bankowym. </a:t>
            </a:r>
            <a:r>
              <a:rPr b="0" lang="pl-PL" sz="3200" spc="-1" strike="noStrike">
                <a:solidFill>
                  <a:srgbClr val="ff0000"/>
                </a:solidFill>
                <a:latin typeface="Arial"/>
              </a:rPr>
              <a:t>Informacje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wspierają procesy decyzyjne oraz </a:t>
            </a:r>
            <a:r>
              <a:rPr b="0" lang="pl-PL" sz="3200" spc="-1" strike="noStrike">
                <a:solidFill>
                  <a:srgbClr val="ff0000"/>
                </a:solidFill>
                <a:latin typeface="Arial"/>
              </a:rPr>
              <a:t>zmniejszają niepewność działani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. Dane statystyki publicznej dostarczane uczestnikom rynku </a:t>
            </a:r>
            <a:r>
              <a:rPr b="1" lang="pl-PL" sz="3200" spc="-1" strike="noStrike">
                <a:solidFill>
                  <a:srgbClr val="ff0000"/>
                </a:solidFill>
                <a:latin typeface="Arial"/>
              </a:rPr>
              <a:t>zmniejszają zjawisko „asymetrii informacji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’,wspierają „dyscyplinę rynkową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ystka publiczna źródłem zasilania systemów informacyjnych bank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stotną rolę pełni statystyka publiczna w procesie zarządzania stabilnością systemów bankowy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ostarcza informacji pozwalającyc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ceniać ryzyk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tencjalnych zagrożeń (zewnętrznych i wewnętrznych) dla systemu bankowego w oparciu o monitorowanie odpowiednio dobranych parametrów charakteryzujących system bankowy i jego bliższe i dalsze otocze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umożliwi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nitorowanie sytuacj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ansowej systemu bankowego jako całości i elementów kluczowych dla zachowania jego stabilności (w tym jego otoczenia regulacyjnego i polityki poszczególnych banków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ostarcza danych pomagających w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arządzaniu sytuacją kryzysow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ostarcza informacji sprzyjających podejmowaniu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ziałań restrukturyzacyjny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 systemie bankowym (w wymiarze finansowo – instytucjonalno -organizacyjnym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ostarcza informacji stanowiących uzasadnienie merytoryczne dla przyjęcia określonych decyzji i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zasadniających podejmowanie dopuszczalnego ryzy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ystka publiczna źródłem zasilania systemów informacyjnych bank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e dostarczane przez statystykę publiczną pozwalają na wykrywani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zagroże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kcjonujących w otoczeniu systemu bankowego oraz wewnątrz tego systemu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ank komercyjny, inne struktu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danych ułatwia prowadzenie polityki monetarnej przez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ank central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Organy regulacyjne i kontrolne systemu finansowego (nadzór nad rynkiem finansowym) otrzymują obiektywną informację, co pozwala im na podejmowanie skutecznych działań stabilizujących systemy finansow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ystka publiczna źródłem zasilania systemów informacyjnych bank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Beneficjentem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danych statystyki publicznej są przedsiębiorstwa, banki oraz instytucje państwowe, samorządowe. Statystyka publiczna dostarcza 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komercyjnym podmiotom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w tym przede wszystkim bankom, informacji, które są podstawą do podejmowania decyzji ograniczania ryzyka finansowego. Dane statystyki publicznej wpływają także na charakter relacji z klientami banków jako stronami czynności bankowych. 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Niepokojąc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dane zgromadzone przez statystykę publiczną mobilizują zarządy banków do tworzenia surowszych procedur postępowania, np. w procesie kredytowania hipotecznego. 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Beneficjentem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danych statystyki publicznej są w tym przypadku właściciele banków, a pośrednio także klienci i inni interesariusze bankó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ystka publiczna źródłem zasilania systemów informacyjnych bank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Reasumując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: informacje gromadzone, przetwarzane i generowane przez instytucje statystyki publicznej są powszechnie wykorzystywane przez uczestników życia gospodarczego, w tym przypadku przed system bankowy i poszczególne banki komercyjne. Pozwala to na ograniczanie zjawiska „asymetrii informacji” wśród uczestników rynku, mobilizuje do poprawy zarządzania korporacyjnego (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ang. corporate governanc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 oraz zwiększa dyscyplinę rynkow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Zadania i funkcje, jakie pełnią instytucje statystyki publicznej w gospodarce i społeczeństwie są nie do przecenienia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Arial"/>
              </a:rPr>
              <a:t>Banki operują pieniądzem ale opierają się na informacji spośród której zasadnicze znaczenie ma informacja generowana przez system statystyki publiczn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ystka publiczna źródłem zasilania systemów informacyjnych bank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zedmiotem rozważań będzie rola i znaczenie statystyki publicznej w Polsce, w Rosji na Białorusi i na Ukrainie oraz możliwości wykorzystania statystyki publicznej w systemie zasilania banków w informacje statyst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ystyka publiczna jest systemem zbierania danych statystycznych, gromadzenia, przechowywania i opracowywania zebranych danych oraz ogłaszania, udostępniania i rozpowszechniania wyników badań statystycznych jako oficjalnych danych statystycznych. Taka definicja statystyki publicznej gwarantuj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zetel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biektywne i systematycz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formowanie społeczeństwa, organów państwa i administracji publicznej oraz podmiotów gospodarczych, szczególnie o sytuacji społeczno – ekonomicznej kraju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ystyka publiczna zapewnia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ównopraw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ównorzęd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ównoczes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stęp do wynikowych informacji statystyczny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ystka publiczna źródłem zasilania systemów informacyjnych bank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em jaki stawia przed sobą państwo jest stworzenie jednolitych prawnych zasad prowadzenia państwowej statystyki publicznej, zabezpieczenie informacyjnych potrzeb państwa i społeczeństwa związanych z tworzeniem i posiadaniem zasobów danych statystycznych zabezpieczających popyt ze strony państwowych, społecznych i prywatnych struktu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ystka publiczna źródłem zasilania systemów informacyjnych bank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Badania, na których opiera się statystyka publiczna polegają na tym, że dotyczą one każdej dziedziny życia społecznego i gospodarczego (oraz występujących w nim zjawisk) dających się obserwować i analizować z wykorzystaniem metod statystyczny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 Rosj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kwestie statystyki publicznej reguluje ustawa federalna o oficjalnej ewidencji statystycznej oraz systemie statystyki państwowej w Federacji Rosyjskiej. Oficjalna ewidencja statystyczna w Federacji Rosji, jest to działalność polegająca na prowadzeniu - zgodnie z przyjętą metodologią statystyczną - obserwacji statystycznych na poziomie Federacji Rosyjskiej oraz opracowywanie danych zebranych w wyniku tych obserwacji, dokonywane w celu prowadzenia publicznej informacji statystyczn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tawa z dnia 29 listopada 2007 roku, „O oficjalnej ewidencji statystycznej oraz systemie statystyki państwowej w Federacji Rosyjskiej Nr 282- FZ, Moskw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ystka publiczna źródłem zasilania systemów informacyjnych bank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dmiotó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zujących publiczną ewidencję statystyczną zalicza si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deralne organy władzy państwowej, inne federalne organy państwowe, które gromadzą i opracowują publiczną informację statystyczną zgodnie z ustawodawstwem Federacji Rosyjskie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Korzystającym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oficjalnej informacji statystycznej s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gany państwowe, organy samorządowe, osoby prawne i fizyczne, które zwracają się do instytucji reprezentujących system statystyki państwowej lub do podmiotów publicznej ewidencji statystycznej w celu otrzymania niezbędnej informacji statystycznej i (lub) wykorzystujących tę informację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ystka publiczna źródłem zasilania systemów informacyjnych bank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oordynacj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działalności w sferze państwowej ewidencji statystycznej jest dokonywana przez upoważniony do tego (przez rząd Federacji Rosyjskiej) organ federalny władzy wykonawczej – Federalny Komitet Statystyki Państwowej (</a:t>
            </a:r>
            <a:r>
              <a:rPr b="0" i="1" lang="pl-PL" sz="3200" spc="-1" strike="noStrike">
                <a:solidFill>
                  <a:srgbClr val="000000"/>
                </a:solidFill>
                <a:latin typeface="Arial"/>
              </a:rPr>
              <a:t>ros. </a:t>
            </a:r>
            <a:r>
              <a:rPr b="1" i="1" lang="pl-PL" sz="3200" spc="-1" strike="noStrike">
                <a:solidFill>
                  <a:srgbClr val="ff0000"/>
                </a:solidFill>
                <a:latin typeface="Arial"/>
              </a:rPr>
              <a:t>Fiedieralnaja Służba Gosudarstwiennoj Statistiki</a:t>
            </a:r>
            <a:r>
              <a:rPr b="0" i="1" lang="pl-PL" sz="32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ystka publiczna źródłem zasilania systemów informacyjnych bank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mioty państwowej ewidencji statystycznej zbierają od respondentów pierwotne dane statystyczne. Wśród danych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znajdują się również dane objęte tajemnicą państwową, tajemnicą komercyjną, informacje o podatnikach, dane osobowe osób fizyczny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od warunkiem odpersonalizowania tych danych), a także inne dane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 których dostęp jest jednak ograniczony przez stosowne ustawy federal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Podmioty państwowej ewidencji maja obowiązek zapewnić niezbędną ochronę pozyskanych danych zgodnie z ustawodawstwem Federacji Rosyjskiej o informacjach z ograniczonym dostęp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ystka publiczna źródłem zasilania systemów informacyjnych bank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Ukraini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funkcjonuje podobny jak w Rosji system statystyki państwowej. Zasady prowadzenia statystyki państwowej (publicznej) reguluje ustawa Ukrainy „O statystyce państwowej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Instytucją, która zajmuje się statystyką j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aństwowy Komitet Statystyki Ukrai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yka państwa w sferze statystyki jest oparta na jednolitym systemie obowiązującym na terytorium Ukrainy. Jest ona </a:t>
            </a:r>
            <a:r>
              <a:rPr b="1" lang="en-US" sz="3200" spc="-1" strike="noStrike">
                <a:solidFill>
                  <a:srgbClr val="9900ff"/>
                </a:solidFill>
                <a:latin typeface="Arial"/>
              </a:rPr>
              <a:t>zunifikowana ze standardami i metodologią międzynarodow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ystka publiczna źródłem zasilania systemów informacyjnych bank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ostęp do informacji statystyczne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na Ukrainie jest zapewniany poprze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00ff"/>
                </a:solidFill>
                <a:latin typeface="Arial"/>
              </a:rPr>
              <a:t>systematyczne prezentowanie publicznej informacji statystycznej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00ff"/>
                </a:solidFill>
                <a:latin typeface="Arial"/>
              </a:rPr>
              <a:t>rozpowszechnienie informacji statystycznej za pomocą środków masowego przekaz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00ff"/>
                </a:solidFill>
                <a:latin typeface="Arial"/>
              </a:rPr>
              <a:t>bezpośrednie udostępnianie informacji statystycznej organom władzy państwowej i samorządowej, osobom prawnym i fizyczny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Arial"/>
              </a:rPr>
              <a:t>Tryb i warunki udostępnie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ganom władzy państwowej, organom samorządowym oraz osobom prawnym i fizycznym informacji statystycznej (w tym odpowiedzi na ich pytania) są regulowane przez </a:t>
            </a:r>
            <a:r>
              <a:rPr b="0" lang="pl-PL" sz="2400" spc="-1" strike="noStrike">
                <a:solidFill>
                  <a:srgbClr val="0000ff"/>
                </a:solidFill>
                <a:latin typeface="Arial"/>
              </a:rPr>
              <a:t>ustawę Ukrainy „O informacj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”. Nie są udostępniane posiadane informacje, jeśli mają one charakter wewnątrzresortowy i są wykorzystywane do dalszych obliczeń i agregacji, lub jeśli znajdują się w fazie wstępnego opracowywania, przed akceptacją i zatwierdzeni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15:04:27Z</dcterms:created>
  <dc:creator>marian</dc:creator>
  <dc:description/>
  <dc:language>en-US</dc:language>
  <cp:lastModifiedBy>marian</cp:lastModifiedBy>
  <dcterms:modified xsi:type="dcterms:W3CDTF">2008-09-22T16:04:15Z</dcterms:modified>
  <cp:revision>3</cp:revision>
  <dc:subject/>
  <dc:title>Statystka publiczna źródłem zasilania systemów informacyjnych banków</dc:title>
</cp:coreProperties>
</file>