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9D56-171A-4CCE-8B89-88605B1FC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6F28-BCDA-47D6-B332-EC6997E7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9C0D-F5B6-43DB-8570-C8D19ED40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0B92C-717E-4CA0-BA5E-A49EE9D89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3A1D-6A45-40AB-B822-90EE7CCB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3CAE-B6C7-45C5-90B1-9C355AA6B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414D1-FE04-4FF5-91F9-4B8DC908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E72F-7CF5-40FA-8ACA-69E1260E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2CD0-365A-4105-BC06-B5B14092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91AE-6731-46D8-9964-41842BF6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90AF-183B-4E1D-9389-B93EB6EB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2CCD-4392-48B6-883A-C8C7194E6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6285-D78B-4F69-9F86-862A38109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spa.pl/"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0" y="0"/>
            <a:ext cx="9144000" cy="360"/>
          </a:xfrm>
          <a:prstGeom prst="rect">
            <a:avLst/>
          </a:prstGeom>
          <a:noFill/>
          <a:ln w="0">
            <a:noFill/>
          </a:ln>
        </p:spPr>
        <p:style>
          <a:lnRef idx="0"/>
          <a:fillRef idx="0"/>
          <a:effectRef idx="0"/>
          <a:fontRef idx="minor"/>
        </p:style>
        <p:txBody>
          <a:bodyPr wrap="none" lIns="90000" rIns="90000" tIns="-37440" bIns="-151920" anchor="ctr">
            <a:spAutoFit/>
          </a:bodyPr>
          <a:p>
            <a:endParaRPr b="0" lang="en-US" sz="1800" spc="-1" strike="noStrike">
              <a:solidFill>
                <a:srgbClr val="000000"/>
              </a:solidFill>
              <a:latin typeface="Arial"/>
            </a:endParaRPr>
          </a:p>
        </p:txBody>
      </p:sp>
      <p:sp>
        <p:nvSpPr>
          <p:cNvPr id="42" name=""/>
          <p:cNvSpPr/>
          <p:nvPr/>
        </p:nvSpPr>
        <p:spPr>
          <a:xfrm>
            <a:off x="684360" y="1773360"/>
            <a:ext cx="7775280" cy="3854880"/>
          </a:xfrm>
          <a:prstGeom prst="rect">
            <a:avLst/>
          </a:prstGeom>
          <a:noFill/>
          <a:ln w="0">
            <a:noFill/>
          </a:ln>
        </p:spPr>
        <p:style>
          <a:lnRef idx="0"/>
          <a:fillRef idx="0"/>
          <a:effectRef idx="0"/>
          <a:fontRef idx="minor"/>
        </p:style>
        <p:txBody>
          <a:bodyPr lIns="90000" rIns="90000" tIns="152280" bIns="38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zej Miszczuk</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wolucja funkcji granicy i pogranicz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tatystyka regional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a:t>
            </a:r>
            <a:r>
              <a:rPr b="1" lang="en-US" sz="3200" spc="-1" strike="noStrike">
                <a:solidFill>
                  <a:srgbClr val="000000"/>
                </a:solidFill>
                <a:latin typeface="Arial"/>
              </a:rPr>
              <a:t>próba ujęcia modelowe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blin 22-24 września 2008</a:t>
            </a:r>
            <a:endParaRPr b="0" lang="en-US" sz="2400" spc="-1" strike="noStrike">
              <a:solidFill>
                <a:srgbClr val="000000"/>
              </a:solidFill>
              <a:latin typeface="Arial"/>
            </a:endParaRPr>
          </a:p>
        </p:txBody>
      </p:sp>
      <p:sp>
        <p:nvSpPr>
          <p:cNvPr id="43" name="PlaceHolder 1"/>
          <p:cNvSpPr>
            <a:spLocks noGrp="1"/>
          </p:cNvSpPr>
          <p:nvPr>
            <p:ph type="title"/>
          </p:nvPr>
        </p:nvSpPr>
        <p:spPr>
          <a:xfrm>
            <a:off x="611280" y="-1494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4" name="" descr=""/>
          <p:cNvPicPr/>
          <p:nvPr/>
        </p:nvPicPr>
        <p:blipFill>
          <a:blip r:embed="rId1"/>
          <a:stretch/>
        </p:blipFill>
        <p:spPr>
          <a:xfrm>
            <a:off x="1187280" y="549360"/>
            <a:ext cx="1173240" cy="1108080"/>
          </a:xfrm>
          <a:prstGeom prst="rect">
            <a:avLst/>
          </a:prstGeom>
          <a:ln w="0">
            <a:noFill/>
          </a:ln>
        </p:spPr>
      </p:pic>
      <p:pic>
        <p:nvPicPr>
          <p:cNvPr id="45" name="" descr="">
            <a:hlinkClick r:id="rId2"/>
          </p:cNvPr>
          <p:cNvPicPr/>
          <p:nvPr/>
        </p:nvPicPr>
        <p:blipFill>
          <a:blip r:embed="rId3"/>
          <a:stretch/>
        </p:blipFill>
        <p:spPr>
          <a:xfrm>
            <a:off x="6588000" y="620640"/>
            <a:ext cx="1371600" cy="828720"/>
          </a:xfrm>
          <a:prstGeom prst="rect">
            <a:avLst/>
          </a:prstGeom>
          <a:ln w="0">
            <a:noFill/>
          </a:ln>
        </p:spPr>
      </p:pic>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826920" y="692280"/>
            <a:ext cx="7490160" cy="554724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Funkcje granicy jako bariery przestrzennej (T.Komornicki 1999):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ilitarna (obrona przed zewnętrzną agresją),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ekonomiczna (ograniczenie swobody przepływu towarów i kapitału),</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społeczne (ograniczenie przepływu ludnośc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rozja granic – zmniejszanie bariery – wzrost przenikalnośc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enikalność granicy (Z.Chojnicki 1998):</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fizyczno-techniczna,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polityczno-prawna</a:t>
            </a:r>
            <a:endParaRPr b="0" lang="en-US" sz="24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apy rozwoju i funkcje granicy:</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p granicy wrogości</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p granicy koegzystencji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p granicy współpracy</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p granicy współzależności </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unkcja dezintegracyj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unkcja fragmengracyj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unkcja fragmengracyj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unkcja integracyjna</a:t>
            </a:r>
            <a:endParaRPr b="0" lang="en-US" sz="2800" spc="-1" strike="noStrike">
              <a:solidFill>
                <a:srgbClr val="000000"/>
              </a:solidFill>
              <a:latin typeface="Arial"/>
            </a:endParaRPr>
          </a:p>
        </p:txBody>
      </p:sp>
    </p:spTree>
  </p:cSld>
  <p:transition>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826920" y="765000"/>
            <a:ext cx="7561440" cy="4579920"/>
          </a:xfrm>
          <a:prstGeom prst="rect">
            <a:avLst/>
          </a:prstGeom>
          <a:noFill/>
          <a:ln w="0">
            <a:noFill/>
          </a:ln>
        </p:spPr>
        <p:style>
          <a:lnRef idx="0"/>
          <a:fillRef idx="0"/>
          <a:effectRef idx="0"/>
          <a:fontRef idx="minor"/>
        </p:style>
        <p:txBody>
          <a:bodyPr lIns="90000" rIns="90000" tIns="152280" bIns="381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łne otwarcie granicy państwowej może oznaczać, pojawienie się na obszarze przygranicznym: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fektu kohezji,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fektu drenażu,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fektu „wyspy”,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fektu wykluczenia.</a:t>
            </a:r>
            <a:endParaRPr b="0" lang="en-US" sz="2400" spc="-1" strike="noStrike">
              <a:solidFill>
                <a:srgbClr val="000000"/>
              </a:solidFill>
              <a:latin typeface="Arial"/>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826920" y="476280"/>
            <a:ext cx="7632720" cy="5677200"/>
          </a:xfrm>
          <a:prstGeom prst="rect">
            <a:avLst/>
          </a:prstGeom>
          <a:noFill/>
          <a:ln w="0">
            <a:noFill/>
          </a:ln>
        </p:spPr>
        <p:style>
          <a:lnRef idx="0"/>
          <a:fillRef idx="0"/>
          <a:effectRef idx="0"/>
          <a:fontRef idx="minor"/>
        </p:style>
        <p:txBody>
          <a:bodyPr lIns="90000" rIns="90000" tIns="152280" bIns="38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ekt kohezji</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ega na integracji ekonomicznej  i stymulacji wzrostu gospodarczego na obszarze ok. 40-60 km w głąb każdego kraju. By efekt ten wystąpił niezbędne s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korzystne warunki topograficzne umożliwiające łatwe przekraczanie gran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relatywnie wysoka gęstość zaludnienia po obu stronach grani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brak w odległości co najmniej 100 km od granicy w głąb każdego z państwa, atrakcyjnych, przyciągających ludność - mia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zczególnie sprzyjającymi integracji rodzajami aktywności gospodarczej są usługi dla ludności. </a:t>
            </a:r>
            <a:endParaRPr b="0" lang="en-US" sz="2400" spc="-1" strike="noStrike">
              <a:solidFill>
                <a:srgbClr val="000000"/>
              </a:solidFill>
              <a:latin typeface="Arial"/>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684360" y="1125360"/>
            <a:ext cx="7920000" cy="440460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ekt drenażu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jawia się wówczas gdy na pograniczu brak jest odpowiednio wysokiego potencjału rozwojowego, w tym zwłaszcza osób przedsiębiorczych oraz zasobów kapitału. Dotyczyć to może także niezbyt sprzyjających warunków topograficznych wzdłuż granicy. Jednocześnie w każdym kraju zlokalizowane są w pewnej odległości duże aglomeracje miejskie, dla których otwarcie granicy staje się ważnym impulsem rozwojowym. Rozwój ten odbywa się kosztem obszaru położonego bliżej granicy. </a:t>
            </a:r>
            <a:endParaRPr b="0" lang="en-US" sz="24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3" name=""/>
          <p:cNvSpPr/>
          <p:nvPr/>
        </p:nvSpPr>
        <p:spPr>
          <a:xfrm>
            <a:off x="684360" y="549360"/>
            <a:ext cx="7991280" cy="465120"/>
          </a:xfrm>
          <a:prstGeom prst="rect">
            <a:avLst/>
          </a:prstGeom>
          <a:noFill/>
          <a:ln w="0">
            <a:noFill/>
          </a:ln>
        </p:spPr>
        <p:style>
          <a:lnRef idx="0"/>
          <a:fillRef idx="0"/>
          <a:effectRef idx="0"/>
          <a:fontRef idx="minor"/>
        </p:style>
        <p:txBody>
          <a:bodyPr lIns="90000" rIns="90000" tIns="152280" bIns="381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55640" y="549360"/>
            <a:ext cx="7632720" cy="588276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fekt „wysp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Dotyczy pogranicza, na którym warunki geograficzne i historyczne spowodowały wspólny rozwój aglomeracji pomimo przynależności jej części do różnych państw. Ta dwu- lub trzypaństwowa aglomeracja rozwija się w dużym stopniu autonomicznie, niezależnie od obszarów położnych w głębi poszczególnych państw.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fekt wykluczeni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ega na tym, że na otwarciu granicy zyskuje tylko jedna część pogranicza, kosztem drugiej. Sytuacja ta występuje wówczas, gdy poszczególne części nie reprezentują komplementarnej struktury i potencjału społeczno-gospodarczego. </a:t>
            </a:r>
            <a:endParaRPr b="0" lang="en-US" sz="2400" spc="-1" strike="noStrike">
              <a:solidFill>
                <a:srgbClr val="000000"/>
              </a:solidFill>
              <a:latin typeface="Arial"/>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539640" y="1700280"/>
            <a:ext cx="8136000" cy="2751120"/>
          </a:xfrm>
          <a:prstGeom prst="rect">
            <a:avLst/>
          </a:prstGeom>
          <a:noFill/>
          <a:ln w="0">
            <a:noFill/>
          </a:ln>
        </p:spPr>
        <p:style>
          <a:lnRef idx="0"/>
          <a:fillRef idx="0"/>
          <a:effectRef idx="0"/>
          <a:fontRef idx="minor"/>
        </p:style>
        <p:txBody>
          <a:bodyPr lIns="90000" rIns="90000" tIns="152280" bIns="381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spółpraca transgraniczna jest to każde wspólnie podjęte działanie mające na celu umocnienie i dalszy rozwój sąsiedzkich kontaktów między wspólnotami i władzami terytorialnymi dwóch lub większej liczby państw. Jest ona ograniczona właściwościami wspólnot i władz terytorialnych, określonymi przez prawo wewnętrzne każdego z państw. (KM)</a:t>
            </a:r>
            <a:endParaRPr b="0" lang="en-US" sz="2400" spc="-1" strike="noStrike">
              <a:solidFill>
                <a:srgbClr val="000000"/>
              </a:solidFill>
              <a:latin typeface="Arial"/>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539640" y="476280"/>
            <a:ext cx="8209080" cy="6040800"/>
          </a:xfrm>
          <a:prstGeom prst="rect">
            <a:avLst/>
          </a:prstGeom>
          <a:noFill/>
          <a:ln w="0">
            <a:noFill/>
          </a:ln>
        </p:spPr>
        <p:style>
          <a:lnRef idx="0"/>
          <a:fillRef idx="0"/>
          <a:effectRef idx="0"/>
          <a:fontRef idx="minor"/>
        </p:style>
        <p:txBody>
          <a:bodyPr lIns="90000" rIns="90000" tIns="152280" bIns="3816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Cele współpracy transgranicznej w Europie (EKRGT)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adanie granicom nowej jakości – obszary spotkań,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równanie dysproporcji w zakresie europejskiej polityki zagospodarowania przestrzennego,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konywanie deficytów położenia przygranicznego i wykorzystanie szans, poprzez: poprawę wyposażenia infrastrukturalnego, wspierania atrakcyjności regionów i wspólnego rozwoju gospodarczego,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Doskonalenie transgranicznej ochrony środowiska i przyrody,</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spieranie transgranicznej współpracy kulturalnej, </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artnerstwo i pomocniczość.</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900000" y="620640"/>
            <a:ext cx="7488360" cy="573768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Dziedziny współpracy transgranicznej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C.Ricq 1995):</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środowisko i planowanie przestrzenn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transport i komunikacj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bezpieczeństwo publiczne i ochrona przed klęskami żywiołowymi,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gospodarka i zatrudnieni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turystyk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edukacja i kultur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infrastruktura graniczna i ruch graniczny ludności </a:t>
            </a:r>
            <a:endParaRPr b="0" lang="en-US" sz="2400" spc="-1" strike="noStrike">
              <a:solidFill>
                <a:srgbClr val="000000"/>
              </a:solidFill>
              <a:latin typeface="Arial"/>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8" name=""/>
          <p:cNvSpPr/>
          <p:nvPr/>
        </p:nvSpPr>
        <p:spPr>
          <a:xfrm>
            <a:off x="826920" y="692280"/>
            <a:ext cx="7777440" cy="537192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oblemy utrudniające współpracę transgraniczn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bariery fizjogeograficzn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problemy geopolityczn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dystans instytucjonalno-organizacyjny regionów i jednostek subregionalnych,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problemy demograficzno-etniczn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dysproporcje ekonomiczn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negatywne stereotypy narodow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bariery językowe.</a:t>
            </a:r>
            <a:endParaRPr b="0" lang="en-US" sz="24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1187280" y="981000"/>
            <a:ext cx="6697800" cy="55584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4360" y="836640"/>
            <a:ext cx="7920000" cy="535680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a jest jednym z najistotniejszym atrybutów państwa, rozumianego jako suwerenna organizacja polityczna społeczeństwa, zamieszkującego określone terytorium (W.Lamentowicz 199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a państwa sensu stricto (L.Antonowicz 200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Linia oddzielająca terytorium państwa od terytoriów innych państw, terytoriów zależnych i morza pełneg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a sensu largo (L.Antonowicz 2005):</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łaszczyzna prostopadła do linii granicznej</a:t>
            </a:r>
            <a:endParaRPr b="0" lang="en-US" sz="2400" spc="-1" strike="noStrike">
              <a:solidFill>
                <a:srgbClr val="000000"/>
              </a:solidFill>
              <a:latin typeface="Arial"/>
            </a:endParaRPr>
          </a:p>
        </p:txBody>
      </p:sp>
    </p:spTree>
  </p:cSld>
  <p:transition>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69" name=""/>
          <p:cNvSpPr/>
          <p:nvPr/>
        </p:nvSpPr>
        <p:spPr>
          <a:xfrm>
            <a:off x="826920" y="1125360"/>
            <a:ext cx="7705800" cy="425952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ypologia etapów współpracy transgranicznej (C.Ricq 199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informacje,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konsultacje,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kooperacja,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harmonizacja,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integracja</a:t>
            </a:r>
            <a:endParaRPr b="0" lang="en-US" sz="2400" spc="-1" strike="noStrike">
              <a:solidFill>
                <a:srgbClr val="000000"/>
              </a:solidFill>
              <a:latin typeface="Arial"/>
            </a:endParaRPr>
          </a:p>
        </p:txBody>
      </p:sp>
    </p:spTree>
  </p:cSld>
  <p:transition>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395280" y="907920"/>
            <a:ext cx="8459640" cy="4449960"/>
          </a:xfrm>
          <a:prstGeom prst="rect">
            <a:avLst/>
          </a:prstGeom>
          <a:noFill/>
          <a:ln w="0">
            <a:noFill/>
          </a:ln>
        </p:spPr>
        <p:style>
          <a:lnRef idx="0"/>
          <a:fillRef idx="0"/>
          <a:effectRef idx="0"/>
          <a:fontRef idx="minor"/>
        </p:style>
        <p:txBody>
          <a:bodyPr lIns="90000" rIns="90000" tIns="152280" bIns="381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Korzyści ze współpracy transgranicznej (EKRGT 2004)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zw. wartość dodana współpracy transgranicznej)</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artość europejska</a:t>
            </a:r>
            <a:r>
              <a:rPr b="1" lang="pl-PL"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artość polityczna</a:t>
            </a:r>
            <a:r>
              <a:rPr b="1" lang="pl-PL"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artość instytucjonal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artość społeczno-ekonomicz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i="1" lang="pl-PL" sz="2400" spc="-1" strike="noStrike">
                <a:solidFill>
                  <a:srgbClr val="000000"/>
                </a:solidFill>
                <a:latin typeface="Arial"/>
              </a:rPr>
              <a:t>Wartość społeczno-kulturalna</a:t>
            </a:r>
            <a:endParaRPr b="0" lang="en-US" sz="2400" spc="-1" strike="noStrike">
              <a:solidFill>
                <a:srgbClr val="000000"/>
              </a:solidFill>
              <a:latin typeface="Arial"/>
            </a:endParaRPr>
          </a:p>
        </p:txBody>
      </p:sp>
    </p:spTree>
  </p:cSld>
  <p:transition>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1" name=""/>
          <p:cNvSpPr/>
          <p:nvPr/>
        </p:nvSpPr>
        <p:spPr>
          <a:xfrm>
            <a:off x="900000" y="1484280"/>
            <a:ext cx="7344000" cy="3848400"/>
          </a:xfrm>
          <a:prstGeom prst="rect">
            <a:avLst/>
          </a:prstGeom>
          <a:noFill/>
          <a:ln w="0">
            <a:noFill/>
          </a:ln>
        </p:spPr>
        <p:style>
          <a:lnRef idx="0"/>
          <a:fillRef idx="0"/>
          <a:effectRef idx="0"/>
          <a:fontRef idx="minor"/>
        </p:style>
        <p:txBody>
          <a:bodyPr lIns="90000" rIns="90000" tIns="152280" bIns="381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Statystykę regionalną definiuje się na ogół jako część statystyki publicznej, przedstawiającą zjawiska społeczno-ekonomiczne w przekroju administracyjnych i/lub statystycznych jednostek terytorialnych (S.Godowski 2003). Jej rosnące znaczenie w krajach Unii Europejskiej jest następstwem procesów decentralizacji regionalnej, dzięki którym wzbogaceniu ulega podział państw jedynie na federalne i unitarne oraz pozycji regionów w tych państwach. </a:t>
            </a:r>
            <a:endParaRPr b="0" lang="en-US" sz="24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2" name=""/>
          <p:cNvGraphicFramePr/>
          <p:nvPr/>
        </p:nvGraphicFramePr>
        <p:xfrm>
          <a:off x="324000" y="476280"/>
          <a:ext cx="8424720" cy="6057360"/>
        </p:xfrm>
        <a:graphic>
          <a:graphicData uri="http://schemas.openxmlformats.org/drawingml/2006/table">
            <a:tbl>
              <a:tblPr/>
              <a:tblGrid>
                <a:gridCol w="2060280"/>
                <a:gridCol w="1324080"/>
                <a:gridCol w="1295280"/>
                <a:gridCol w="1800360"/>
                <a:gridCol w="1944720"/>
              </a:tblGrid>
              <a:tr h="455760">
                <a:tc>
                  <a:txBody>
                    <a:bodyPr lIns="90000" rIns="90000" tIns="152280" bIns="381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chy regionów administracyjny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3400">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yp państw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ybieralność wład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dział w tworzeniu polityki krajowe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awieranie traktatów międzynarodowy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ea typeface="Times New Roman"/>
                        </a:rPr>
                        <a:t>polityczna/prawna kontrola nad władzami subregionalnym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ederal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7680">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ionalne unitar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3280">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decentralizowane unitarn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5880">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entralizowane unitar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228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042920" y="1341360"/>
            <a:ext cx="7272360" cy="42141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odele polityki regionalne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1) centralistyczno-wyrównawcz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2) decentralizacyjno-konkurencyj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yjęcie pierwszego modelu polityki regionalnej powoduje, że w systemie statystyki publicznej dominuje podejście centralistyczno-sektorowe, a statystyka regionalna jest co najwyżej efektem dezagregacji wybranych, najważniejszych – z punktu widzenia polityki interregionalnej - informacji ogólnokrajowych. </a:t>
            </a:r>
            <a:endParaRPr b="0" lang="en-US" sz="2400" spc="-1" strike="noStrike">
              <a:solidFill>
                <a:srgbClr val="000000"/>
              </a:solidFill>
              <a:latin typeface="Arial"/>
            </a:endParaRPr>
          </a:p>
        </p:txBody>
      </p:sp>
    </p:spTree>
  </p:cSld>
  <p:transition>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1042920" y="1628640"/>
            <a:ext cx="684072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 drugim modelu, w ramach którego regiony o szerokim zakresie kompetencji, w tym także ustawodawczych, są podstawowymi podmiotami polityki regionalnej, statystyka regionalna staje się ważnym instrumentarium sterowania procesami rozwoju, a jej zakres jest wyrazem przede wszystkim potrzeb władz regionalnych i lokalnych, a nie wyłącznie rządu centralnego. </a:t>
            </a:r>
            <a:endParaRPr b="0" lang="en-US" sz="2400" spc="-1" strike="noStrike">
              <a:solidFill>
                <a:srgbClr val="000000"/>
              </a:solidFill>
              <a:latin typeface="Arial"/>
            </a:endParaRPr>
          </a:p>
        </p:txBody>
      </p:sp>
    </p:spTree>
  </p:cSld>
  <p:transition>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971640" y="765000"/>
            <a:ext cx="7200720" cy="567720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Statystyka regionalna powinna pełnić trzy zasadnicze funkcj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1) funkcja poznawcza (informacyjna), obejmująca zasilanie krajowych i międzynarodowych baz danych oraz dostarczanie informacji odbiorcom (administracja rządowa, samorządowa, przedsiębiorcy krajowi i zagraniczni, uczelnie wyższe, szkoły itp.). Źródłami informacji są przede wszystkim: spisy powszechne oraz inne pełne badania statystyczne, badania reprezentacyjne oraz rejestry urzędowe, pozwalające na dokonywanie dezagregacji przestrzennej.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endParaRPr b="0" lang="en-US" sz="2400" spc="-1" strike="noStrike">
              <a:solidFill>
                <a:srgbClr val="000000"/>
              </a:solidFill>
              <a:latin typeface="Arial"/>
            </a:endParaRPr>
          </a:p>
        </p:txBody>
      </p:sp>
    </p:spTree>
  </p:cSld>
  <p:transition>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826920" y="692280"/>
            <a:ext cx="7201080" cy="6042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funkcja metodologiczna związana z definiowaniem oraz harmonizowaniem kategorii i klasyfikacji statystycznych, stosowanych w różnych przekrojach terytorialnych (regionalnych, lokalny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unkcja aplikacyjna, polega na przetwarzaniu informacji podstawowych i tworzeniu - w oparciu o nie - systemu wskaźników opisowych, analitycznych i efektywnościowych oraz przeprowadzaniu analiz regionalnych, zarówno dla potrzeb podmiotów gospodarczych jak i administracji publicznej, między innymi w zakresie tworzenia i ewaluowania planów rozwoju oraz realizowanych w oparciu o nie,  projektów, w tym współfinansowanych z 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7" name=""/>
          <p:cNvSpPr/>
          <p:nvPr/>
        </p:nvSpPr>
        <p:spPr>
          <a:xfrm>
            <a:off x="826920" y="1197000"/>
            <a:ext cx="7417080" cy="45799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 przypadku statystyki obszarów transgranicznych funkcje te nabierają szczególnego znaczenia, jako że konfrontowane są systemu statystyki publicznej co najmniej dwóch państw. Doświadczenia państw UE dotyczące współpracy transgranicznej, pokazują że pierwszym impulsem obniżania bariery granicy państwowej (etap koegzystencji) jest wymiana informacji na obszarach przygranicznych. Można zatem stwierdzić, że w początkowym okresie najważniejszą funkcją wypełnianą przez statystykę regionalną jest funkcja informacyjna. </a:t>
            </a:r>
            <a:endParaRPr b="0" lang="en-US" sz="2400" spc="-1" strike="noStrike">
              <a:solidFill>
                <a:srgbClr val="000000"/>
              </a:solidFill>
              <a:latin typeface="Arial"/>
            </a:endParaRPr>
          </a:p>
        </p:txBody>
      </p:sp>
    </p:spTree>
  </p:cSld>
  <p:transition>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1187280" y="907920"/>
            <a:ext cx="6553440" cy="49456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 efektywności funkcji informacyjnej – w dużym stopniu – zależy pojawianie się w pewnej sekwencji czasowej zapotrzebowania na funkcję aplikacyjną (etap granicy współpracy i współzależności), co jest spowodowane podejmowaniem wspólnych przedsięwzięć gospodarczych, opracowywaniem projektów i strategii rozwoju, pozyskiwaniem zewnętrznych źródeł finansowania, w tym z Funduszy Strukturalnych 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900000" y="1628640"/>
            <a:ext cx="770436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radycyjne pojmowanie granic, wywodzące się z poglądów F.Ratzla rozumiane jest jako wyznaczanie linii demarkacyjnych, określających przestrzenny zasięg państwa/narodu. Istotą tego podejścia – określanego mianem </a:t>
            </a:r>
            <a:r>
              <a:rPr b="1" i="1" lang="pl-PL" sz="2400" spc="-1" strike="noStrike">
                <a:solidFill>
                  <a:srgbClr val="000000"/>
                </a:solidFill>
                <a:latin typeface="Arial"/>
              </a:rPr>
              <a:t>boundary studies</a:t>
            </a:r>
            <a:r>
              <a:rPr b="1" lang="pl-PL" sz="2400" spc="-1" strike="noStrike">
                <a:solidFill>
                  <a:srgbClr val="000000"/>
                </a:solidFill>
                <a:latin typeface="Arial"/>
              </a:rPr>
              <a:t>, dominującego jeszcze w latach 60-tych XX było analizowanie czynników wpływających na przebieg,  ewolucję i zmiany linii granicznych. </a:t>
            </a:r>
            <a:endParaRPr b="0" lang="en-US" sz="2400" spc="-1" strike="noStrike">
              <a:solidFill>
                <a:srgbClr val="000000"/>
              </a:solidFill>
              <a:latin typeface="Arial"/>
            </a:endParaRPr>
          </a:p>
        </p:txBody>
      </p:sp>
    </p:spTree>
  </p:cSld>
  <p:transition>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1042920" y="333360"/>
            <a:ext cx="6985080" cy="6042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a sprawność wypełniania funkcji informacyjnej i aplikacyjnej w ramach statystyki obszarów transgranicznych bardzo istotnie wpływa funkcja metodologiczna jako, że przy wymianie informacji między regionami pogranicza, tworzeniu wspólnych baz danych oraz opracowywaniu analiz pojawia się jednak szereg problemów, związanych z (T.Borys 199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1) jakością danych, a w szczególności ich przydatnością (relewantnością), pewnością i wiarygodnością, reprezentatywnością przestrzenną (dotyczy badań opartych na próbach losowych), kompletnością oraz aktualnością, </a:t>
            </a:r>
            <a:endParaRPr b="0" lang="en-US" sz="2400" spc="-1" strike="noStrike">
              <a:solidFill>
                <a:srgbClr val="000000"/>
              </a:solidFill>
              <a:latin typeface="Arial"/>
            </a:endParaRPr>
          </a:p>
        </p:txBody>
      </p:sp>
    </p:spTree>
  </p:cSld>
  <p:transition>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042920" y="1557360"/>
            <a:ext cx="712944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2) dostępnością danych w odniesieniu do obszaru zarówno całego pogranicza jak i poszczególnych jego części, możliwościami ich dezagregacji w różnych przekrojach przestrzennych oraz koniecznością zachowania tajemnicy statystycznej,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 porównywalnością metodologiczną, terminologiczną i czasową danych. </a:t>
            </a:r>
            <a:endParaRPr b="0" lang="en-US" sz="2400" spc="-1" strike="noStrike">
              <a:solidFill>
                <a:srgbClr val="000000"/>
              </a:solidFill>
              <a:latin typeface="Arial"/>
            </a:endParaRPr>
          </a:p>
        </p:txBody>
      </p:sp>
    </p:spTree>
  </p:cSld>
  <p:transition>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81" name=""/>
          <p:cNvSpPr/>
          <p:nvPr/>
        </p:nvSpPr>
        <p:spPr>
          <a:xfrm>
            <a:off x="755640" y="692280"/>
            <a:ext cx="7416720" cy="49456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ajwiększe problemy wiążą się z trzecim ze wskazanych powyżej zagadnień. Konieczne jest w tym względzie dokonanie analizy porównawczej pojęć i klasyfikacji. W jej efekcie można wyróżnić trzy grupy pojęć i klasyfikacji, tj. (T.Borys 199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1) o pełnej zgodności metodologicznej,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2) o niepełnej zgodności metodologicznej, ale z możliwością doprowadzenia do porównywalnośc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 o braku zgodności metodologicznej i niemożności doprowadzenia do porównywalności. </a:t>
            </a:r>
            <a:endParaRPr b="0" lang="en-US" sz="2400" spc="-1" strike="noStrike">
              <a:solidFill>
                <a:srgbClr val="000000"/>
              </a:solidFill>
              <a:latin typeface="Arial"/>
            </a:endParaRPr>
          </a:p>
        </p:txBody>
      </p:sp>
    </p:spTree>
  </p:cSld>
  <p:transition>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755640" y="620640"/>
            <a:ext cx="7561440" cy="3848400"/>
          </a:xfrm>
          <a:prstGeom prst="rect">
            <a:avLst/>
          </a:prstGeom>
          <a:noFill/>
          <a:ln w="0">
            <a:noFill/>
          </a:ln>
        </p:spPr>
        <p:style>
          <a:lnRef idx="0"/>
          <a:fillRef idx="0"/>
          <a:effectRef idx="0"/>
          <a:fontRef idx="minor"/>
        </p:style>
        <p:txBody>
          <a:bodyPr lIns="90000" rIns="90000" tIns="152280" bIns="3816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że rozbieżności metodologiczne występują na ogół w takich dziedzinach jak:</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hrona środowiska (kryteria klasyfikacyjne czystości czy też zanieczyszczeń zasobów przyrodniczych, formy ochrony prawnej), </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spodarka (rynek pracy, bezrobocie, klasyfikowanie działalności gospodarczej)</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frastruktury społecznej (system edukacji, ochrona zdrowi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900000" y="549360"/>
            <a:ext cx="7345440" cy="567720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ystępowanie rozbieżności metodologicznych staje się jednocześnie impulsem do zwiększania roli współpracy międzynarodowej w harmonizowaniu poszczególnych dziedzin statystyki (J.Witkowski 200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decydowanie najlepsza pod tym względem sytuacja występuje w regionach położnych wzdłuż wewnętrznych granic UE, nieco gorsza w przypadku granic zewnętrznych z państwami stowarzyszonymi lub aspirującymi do takiego statusu, a najgorsza z krajami, które nie podejmują wysiłków związanych z tworzeniem ujednoliconego europejskiego systemu statystyki publicznej. </a:t>
            </a:r>
            <a:endParaRPr b="0" lang="en-US" sz="2400" spc="-1" strike="noStrike">
              <a:solidFill>
                <a:srgbClr val="000000"/>
              </a:solidFill>
              <a:latin typeface="Arial"/>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826920" y="765000"/>
            <a:ext cx="7848720" cy="55584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900000" y="765000"/>
            <a:ext cx="7559640" cy="497592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2400" spc="-1" strike="noStrike">
                <a:solidFill>
                  <a:srgbClr val="000000"/>
                </a:solidFill>
                <a:latin typeface="Arial"/>
              </a:rPr>
              <a:t>Kierunki badań w ramach </a:t>
            </a:r>
            <a:r>
              <a:rPr b="1" i="1" lang="pl-PL" sz="2400" spc="-1" strike="noStrike">
                <a:solidFill>
                  <a:srgbClr val="000000"/>
                </a:solidFill>
                <a:latin typeface="Arial"/>
              </a:rPr>
              <a:t>boundary studies</a:t>
            </a:r>
            <a:r>
              <a:rPr b="1" lang="pl-PL"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fizjograficzny – ocena zgodności przebiegu granic z naturalnymi warunkami geograficznymi,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antropogeograficzny – znaczenie zróżnicowania cech i zachowań człowieka w rozgraniczaniu terytoriów państw,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historyczno-geograficzny – analiza rozmieszczenia i opis wydarzeń historycznych na tle środowiska przyrodniczego (obszar rdzeniow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geopolityczny – granica jest funkcją siły państwa. </a:t>
            </a:r>
            <a:endParaRPr b="0" lang="en-US" sz="2400" spc="-1" strike="noStrike">
              <a:solidFill>
                <a:srgbClr val="000000"/>
              </a:solidFill>
              <a:latin typeface="Arial"/>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826920" y="765000"/>
            <a:ext cx="7561440" cy="518148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e (Z.Rykiel 2006):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naturalne (obronne, stworzone przez przyrodę, krajobrazów kulturowych),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sztuczne (stworzone przez człowiek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ale: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zarówno granice naturalne jak i sztuczne są stworzone przez człowieka,</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wszystkie granice można kwestionować </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1042920" y="981000"/>
            <a:ext cx="7129440" cy="387864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e (Z.Rykiel 200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antecendentne – pierwotne w stosunku do form zagospodarowania przestrzennego obszaru,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subsekwentne – są wtórne w stosunku do zagospodarowania przestrzennego obszaru</a:t>
            </a:r>
            <a:r>
              <a:rPr b="1" lang="pl-PL" sz="2400" spc="-1" strike="noStrike">
                <a:solidFill>
                  <a:srgbClr val="ffffff"/>
                </a:solidFill>
                <a:latin typeface="Arial"/>
              </a:rPr>
              <a:t> </a:t>
            </a:r>
            <a:endParaRPr b="0" lang="en-US" sz="2400" spc="-1" strike="noStrike">
              <a:solidFill>
                <a:srgbClr val="000000"/>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755640" y="692280"/>
            <a:ext cx="7632720" cy="5356800"/>
          </a:xfrm>
          <a:prstGeom prst="rect">
            <a:avLst/>
          </a:prstGeom>
          <a:noFill/>
          <a:ln w="0">
            <a:noFill/>
          </a:ln>
        </p:spPr>
        <p:style>
          <a:lnRef idx="0"/>
          <a:fillRef idx="0"/>
          <a:effectRef idx="0"/>
          <a:fontRef idx="minor"/>
        </p:style>
        <p:txBody>
          <a:bodyPr lIns="90000" rIns="90000" tIns="152280" bIns="381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mienność</a:t>
            </a:r>
            <a:r>
              <a:rPr b="1" lang="pl-PL" sz="2400" spc="-1" strike="noStrike">
                <a:solidFill>
                  <a:srgbClr val="ffffff"/>
                </a:solidFill>
                <a:latin typeface="Arial"/>
              </a:rPr>
              <a:t> </a:t>
            </a:r>
            <a:r>
              <a:rPr b="1" lang="pl-PL" sz="2400" spc="-1" strike="noStrike">
                <a:solidFill>
                  <a:srgbClr val="000000"/>
                </a:solidFill>
                <a:latin typeface="Arial"/>
              </a:rPr>
              <a:t>przestrzenna granic państwowy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tworzenie państw narodowych (XVIII-XX wiek),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tworzenia państw na terytoriach zależnych (XX wie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zjednoczenie dwóch lub więcej państw,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podział państwa (rozczłonkowanie, secesj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cesja terytorialna (nieodpłatna, wzajemna, odpłatna, plebiscytarn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przyrost terytorium państwa w wyniku procesów naturalnych lub działalności człowieka (państwa nadmorskie). </a:t>
            </a:r>
            <a:endParaRPr b="0" lang="en-US" sz="24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755640" y="1268280"/>
            <a:ext cx="7632720" cy="42141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spółczesne podejście – </a:t>
            </a:r>
            <a:r>
              <a:rPr b="1" i="1" lang="pl-PL" sz="2400" spc="-1" strike="noStrike">
                <a:solidFill>
                  <a:srgbClr val="000000"/>
                </a:solidFill>
                <a:latin typeface="Arial"/>
              </a:rPr>
              <a:t>border studies</a:t>
            </a:r>
            <a:r>
              <a:rPr b="1" lang="pl-PL" sz="2400" spc="-1" strike="noStrike">
                <a:solidFill>
                  <a:srgbClr val="000000"/>
                </a:solidFill>
                <a:latin typeface="Arial"/>
              </a:rPr>
              <a:t> -  ma charakter wielowymiarowy i traktuje granicę jako konstrukcję społeczno-przestrzenną, ukazującą i artykułującą istniejące zróżnicowania (H.van Houtum 2005) Przedmiotem zainteresowania </a:t>
            </a:r>
            <a:r>
              <a:rPr b="1" i="1" lang="pl-PL" sz="2400" spc="-1" strike="noStrike">
                <a:solidFill>
                  <a:srgbClr val="000000"/>
                </a:solidFill>
                <a:latin typeface="Arial"/>
              </a:rPr>
              <a:t>border studies</a:t>
            </a:r>
            <a:r>
              <a:rPr b="1" lang="pl-PL" sz="2400" spc="-1" strike="noStrike">
                <a:solidFill>
                  <a:srgbClr val="000000"/>
                </a:solidFill>
                <a:latin typeface="Arial"/>
              </a:rPr>
              <a:t> są między innymi (D.Newman, A.Passi 2001):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jawisko zanikania granic państwowyc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budowanie tożsamości społeczno-przestrzennej,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e dostępności i wykluczeni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granice w różnych skalach przestrzennych. </a:t>
            </a:r>
            <a:endParaRPr b="0" lang="en-US" sz="2400" spc="-1" strike="noStrike">
              <a:solidFill>
                <a:srgbClr val="000000"/>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bdf53"/>
            </a:gs>
          </a:gsLst>
          <a:path path="rect">
            <a:fillToRect l="50000" t="50000" r="50000" b="50000"/>
          </a:path>
        </a:gradFill>
      </p:bgPr>
    </p:bg>
    <p:spTree>
      <p:nvGrpSpPr>
        <p:cNvPr id="1" name=""/>
        <p:cNvGrpSpPr/>
        <p:nvPr/>
      </p:nvGrpSpPr>
      <p:grpSpPr>
        <a:xfrm>
          <a:off x="0" y="0"/>
          <a:ext cx="0" cy="0"/>
          <a:chOff x="0" y="0"/>
          <a:chExt cx="0" cy="0"/>
        </a:xfrm>
      </p:grpSpPr>
      <p:sp>
        <p:nvSpPr>
          <p:cNvPr id="55" name=""/>
          <p:cNvSpPr/>
          <p:nvPr/>
        </p:nvSpPr>
        <p:spPr>
          <a:xfrm>
            <a:off x="755640" y="836640"/>
            <a:ext cx="7848720" cy="5311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półczesne rozważania na temat granic państwowych zdominowane są przez podejście postmodernistyczne, co widoczne jest między innymi w optymistycznym podejściu do zanikania granic państwowych jako barier przestrzennych. Jest ono w dużym stopniu efektem globalizacji i wiążącej się z nią swobody przepływu informacji, która powoduje, że w miejsce przestrzeni miejsc pojawia się przestrzeń przepływów, co z kolei oznacza, że państwo narodowe przestaje być podmiotem w międzynarodowych relacjach ekonomicznych w „bezgranicznym świecie”, otwartych rynków światowych bez barier handlowych. </a:t>
            </a:r>
            <a:endParaRPr b="0" lang="en-US" sz="24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34:04Z</dcterms:created>
  <dc:creator>Miszczuk</dc:creator>
  <dc:description/>
  <dc:language>en-US</dc:language>
  <cp:lastModifiedBy>Miszczuk</cp:lastModifiedBy>
  <dcterms:modified xsi:type="dcterms:W3CDTF">2008-09-17T21:11:10Z</dcterms:modified>
  <cp:revision>28</cp:revision>
  <dc:subject/>
  <dc:title>Andrzej Miszczuk   Zewnętrzna granica Unii Europejskiej jako nowe uwarunkowanie rozwoju polskich i ukraińskich regionów przygranicznych </dc:title>
</cp:coreProperties>
</file>