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E53-8457-417C-BCA5-C08D5DEE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6D5-C14D-4ABC-AEA9-134C001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514-470A-487F-8802-B555D284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8BB-2417-44CE-AFAD-226770C6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12D3-6CA7-44F8-8C10-A9D04EBB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1773360"/>
            <a:ext cx="8028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C97-18C4-4626-96CD-A506F70E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358-910C-4469-883D-425CA86B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B6A-C256-4E72-A1B6-0888F82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E90-9254-4532-9692-0A7F4B46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7AA-20F3-4144-A39A-B42A450B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B4E-FDFE-4E01-81F3-2B4E6345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A49-DBA9-4366-BBB8-BB2C6575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91C4-6D4A-4691-9CDB-D6646B7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C06F-078E-4D5E-A3B1-12EEF15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CD4-0F05-4DBA-B432-283CA620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3432-B94C-45DA-B0C0-2F25E2DD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3F5-87CA-412A-949B-1CACAF2F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5640" y="1773360"/>
            <a:ext cx="8028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C4D5-4E74-4FE8-9119-E3AFCFC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E8C3-B242-473F-9C32-366EC2B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10C0-AE60-4629-8D1E-44FC1FF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8CE6-B997-4574-B427-B45683D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DD9D-E681-4DC5-B18A-5AE91D28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559A-1918-4BA3-B098-37BDE03C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FD57-0D12-45AF-8721-258E5282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1773360"/>
            <a:ext cx="8028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8028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054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0" name=""/>
          <p:cNvGrpSpPr/>
          <p:nvPr/>
        </p:nvGrpSpPr>
        <p:grpSpPr>
          <a:xfrm>
            <a:off x="-7920" y="84240"/>
            <a:ext cx="8658360" cy="896760"/>
            <a:chOff x="-7920" y="84240"/>
            <a:chExt cx="8658360" cy="896760"/>
          </a:xfrm>
        </p:grpSpPr>
        <p:sp>
          <p:nvSpPr>
            <p:cNvPr id="41" name=""/>
            <p:cNvSpPr/>
            <p:nvPr/>
          </p:nvSpPr>
          <p:spPr>
            <a:xfrm>
              <a:off x="-7920" y="236520"/>
              <a:ext cx="4724280" cy="600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925800" y="236520"/>
              <a:ext cx="4724640" cy="60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9640" y="84240"/>
              <a:ext cx="262080" cy="8967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12000" y="112680"/>
              <a:ext cx="289080" cy="7952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028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7E3E-7C99-473A-9746-E5DFB31066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1EE1-A0C1-49E8-A4AC-92832F606A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84240"/>
            <a:ext cx="8658360" cy="896760"/>
            <a:chOff x="0" y="84240"/>
            <a:chExt cx="8658360" cy="896760"/>
          </a:xfrm>
        </p:grpSpPr>
        <p:sp>
          <p:nvSpPr>
            <p:cNvPr id="92" name=""/>
            <p:cNvSpPr/>
            <p:nvPr/>
          </p:nvSpPr>
          <p:spPr>
            <a:xfrm>
              <a:off x="0" y="236520"/>
              <a:ext cx="4724280" cy="6001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33720" y="236520"/>
              <a:ext cx="4724640" cy="60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7560" y="84240"/>
              <a:ext cx="262080" cy="8967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19920" y="112680"/>
              <a:ext cx="289080" cy="79524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5"/>
          <p:cNvSpPr>
            <a:spLocks noGrp="1"/>
          </p:cNvSpPr>
          <p:nvPr>
            <p:ph type="title"/>
          </p:nvPr>
        </p:nvSpPr>
        <p:spPr>
          <a:xfrm>
            <a:off x="692280" y="260280"/>
            <a:ext cx="80280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1b054d"/>
                </a:solidFill>
                <a:latin typeface="Tahoma"/>
              </a:rPr>
              <a:t>Obszary transgraniczne a spójność metodologiczna</a:t>
            </a:r>
            <a:br>
              <a:rPr sz="2200"/>
            </a:br>
            <a:r>
              <a:rPr b="1" lang="uk-UA" sz="2200" spc="-1" strike="noStrike">
                <a:solidFill>
                  <a:srgbClr val="1b054d"/>
                </a:solidFill>
                <a:latin typeface="Tahoma"/>
              </a:rPr>
              <a:t>ukraińskiej,</a:t>
            </a:r>
            <a:r>
              <a:rPr b="1" lang="en-US" sz="2200" spc="-1" strike="noStrike">
                <a:solidFill>
                  <a:srgbClr val="1b054d"/>
                </a:solidFill>
                <a:latin typeface="Tahoma"/>
              </a:rPr>
              <a:t> </a:t>
            </a:r>
            <a:r>
              <a:rPr b="1" lang="uk-UA" sz="2200" spc="-1" strike="noStrike">
                <a:solidFill>
                  <a:srgbClr val="1b054d"/>
                </a:solidFill>
                <a:latin typeface="Tahoma"/>
              </a:rPr>
              <a:t>białoruskiej i polskiej</a:t>
            </a:r>
            <a:br>
              <a:rPr sz="2200"/>
            </a:br>
            <a:r>
              <a:rPr b="1" lang="uk-UA" sz="2200" spc="-1" strike="noStrike">
                <a:solidFill>
                  <a:srgbClr val="1b054d"/>
                </a:solidFill>
                <a:latin typeface="Tahoma"/>
              </a:rPr>
              <a:t>statystyki regionalnej</a:t>
            </a:r>
            <a:endParaRPr b="1" lang="en-US" sz="2200" spc="-1" strike="noStrike">
              <a:solidFill>
                <a:srgbClr val="1b054d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579840" y="3976560"/>
            <a:ext cx="5325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2c0900"/>
                </a:solidFill>
                <a:latin typeface="Tahoma"/>
              </a:rPr>
              <a:t>prof.</a:t>
            </a:r>
            <a:r>
              <a:rPr b="1" i="1" lang="uk-UA" sz="2000" spc="-1" strike="noStrike">
                <a:solidFill>
                  <a:srgbClr val="2c0900"/>
                </a:solidFill>
                <a:latin typeface="Tahoma"/>
              </a:rPr>
              <a:t> </a:t>
            </a:r>
            <a:r>
              <a:rPr b="1" lang="pl-PL" sz="2000" spc="-1" strike="noStrike">
                <a:solidFill>
                  <a:srgbClr val="2c0900"/>
                </a:solidFill>
                <a:latin typeface="Tahoma"/>
              </a:rPr>
              <a:t>Semen Matk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c0900"/>
                </a:solidFill>
                <a:latin typeface="Tahoma"/>
              </a:rPr>
              <a:t>Główny Urząd Statystyczny w Obwodzie Lwowsk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c0900"/>
                </a:solidFill>
                <a:latin typeface="Tahoma"/>
              </a:rPr>
              <a:t>Uniwersytet im. Iwana Franki we Lwow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2350440"/>
            <a:ext cx="820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just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31f4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31f49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Dla regionów transgranicznych, szczególnie takich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,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 któr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e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 są 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położone są na 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zewnętrzny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ch 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granica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ch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1f49"/>
                </a:solidFill>
                <a:latin typeface="Arial"/>
              </a:rPr>
              <a:t>UE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, a do takich należą pograniczne regiony Polski, Ukrainy i Białorusi, istotnym problemem jest porównywalność danych statystycznych, 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zwłaszcza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 na niż</a:t>
            </a:r>
            <a:r>
              <a:rPr b="1" lang="pl-PL" sz="2000" spc="-1" strike="noStrike">
                <a:solidFill>
                  <a:srgbClr val="031f49"/>
                </a:solidFill>
                <a:latin typeface="Arial"/>
              </a:rPr>
              <a:t>s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zym poziomie agregacji  niż obwód</a:t>
            </a:r>
            <a:r>
              <a:rPr b="1" lang="en-US" sz="2000" spc="-1" strike="noStrike">
                <a:solidFill>
                  <a:srgbClr val="031f49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31f49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31f49"/>
                </a:solidFill>
                <a:latin typeface="Arial"/>
              </a:rPr>
              <a:t>województwo.</a:t>
            </a:r>
            <a:r>
              <a:rPr b="0" lang="ru-RU" sz="2000" spc="-1" strike="noStrike">
                <a:solidFill>
                  <a:srgbClr val="031f4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9840" y="4581360"/>
            <a:ext cx="1440000" cy="1800360"/>
          </a:xfrm>
          <a:prstGeom prst="rect">
            <a:avLst/>
          </a:prstGeom>
          <a:gradFill rotWithShape="0">
            <a:gsLst>
              <a:gs pos="0">
                <a:srgbClr val="f8c6a0">
                  <a:alpha val="49019"/>
                </a:srgbClr>
              </a:gs>
              <a:gs pos="100000">
                <a:srgbClr val="f48938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48938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5280" y="4581360"/>
            <a:ext cx="1439640" cy="1800360"/>
          </a:xfrm>
          <a:prstGeom prst="rect">
            <a:avLst/>
          </a:prstGeom>
          <a:gradFill rotWithShape="0">
            <a:gsLst>
              <a:gs pos="0">
                <a:srgbClr val="f8c6a0">
                  <a:alpha val="49019"/>
                </a:srgbClr>
              </a:gs>
              <a:gs pos="100000">
                <a:srgbClr val="f48938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48938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662840"/>
            <a:ext cx="792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Doświadczenia współpracy ukraińskich, polskich i białoruskich statystyków w trakcie przygotowywania wspólnych publikacji wskazują, że część problemów powiązan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a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 jest 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z:</a:t>
            </a:r>
            <a:r>
              <a:rPr b="1" lang="ru-RU" sz="1600" spc="-1" strike="noStrike">
                <a:solidFill>
                  <a:srgbClr val="031f4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2562120"/>
            <a:ext cx="6121440" cy="1006560"/>
          </a:xfrm>
          <a:prstGeom prst="rect">
            <a:avLst/>
          </a:prstGeom>
          <a:gradFill rotWithShape="0">
            <a:gsLst>
              <a:gs pos="0">
                <a:srgbClr val="ffffff">
                  <a:alpha val="54117"/>
                </a:srgbClr>
              </a:gs>
              <a:gs pos="100000">
                <a:srgbClr val="e8e8e8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00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porównywalnością metodologii statystycznej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0547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terminologią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0547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pojęciami i klasyfikacjami w czasie i przestrze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364500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Na przykład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 w 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trakcie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 porównywania struktury ludnoś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c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i według wieku 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występują 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pewne </a:t>
            </a:r>
            <a:r>
              <a:rPr b="1" lang="pl-PL" sz="1600" spc="-1" strike="noStrike">
                <a:solidFill>
                  <a:srgbClr val="003e00"/>
                </a:solidFill>
                <a:latin typeface="Arial"/>
              </a:rPr>
              <a:t>różnice</a:t>
            </a:r>
            <a:r>
              <a:rPr b="1" lang="uk-UA" sz="1600" spc="-1" strike="noStrike">
                <a:solidFill>
                  <a:srgbClr val="003e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31f4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3520" y="4797720"/>
            <a:ext cx="677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f2a01"/>
                </a:solidFill>
                <a:latin typeface="Arial Black"/>
              </a:rPr>
              <a:t>Polska</a:t>
            </a:r>
            <a:r>
              <a:rPr b="0" lang="en-US" sz="1800" spc="-1" strike="noStrike">
                <a:solidFill>
                  <a:srgbClr val="0d334b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d334b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pl-PL" sz="1800" spc="-1" strike="noStrike">
                <a:solidFill>
                  <a:srgbClr val="4f2a01"/>
                </a:solidFill>
                <a:latin typeface="Arial Black"/>
              </a:rPr>
              <a:t>Ukra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0f00"/>
                </a:solidFill>
                <a:latin typeface="Arial Black"/>
              </a:rPr>
              <a:t>Ludność w wie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60f00"/>
                </a:solidFill>
                <a:latin typeface="Arial Black"/>
              </a:rPr>
              <a:t>przedprodukcyjny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4f2a01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4f2a01"/>
                </a:solidFill>
                <a:latin typeface="Arial Black"/>
              </a:rPr>
              <a:t>do 17 la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uk-UA" sz="1800" spc="-1" strike="noStrike">
                <a:solidFill>
                  <a:srgbClr val="4f2a01"/>
                </a:solidFill>
                <a:latin typeface="Arial Black"/>
              </a:rPr>
              <a:t>do 16 lat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865840" y="5518080"/>
            <a:ext cx="504720" cy="0"/>
          </a:xfrm>
          <a:prstGeom prst="line">
            <a:avLst/>
          </a:prstGeom>
          <a:ln w="101520">
            <a:solidFill>
              <a:srgbClr val="f4893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553840" y="5518080"/>
            <a:ext cx="505080" cy="0"/>
          </a:xfrm>
          <a:prstGeom prst="line">
            <a:avLst/>
          </a:prstGeom>
          <a:ln w="101520">
            <a:solidFill>
              <a:srgbClr val="f489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443640" y="1700280"/>
            <a:ext cx="2305080" cy="2448000"/>
          </a:xfrm>
          <a:prstGeom prst="rect">
            <a:avLst/>
          </a:prstGeom>
          <a:gradFill rotWithShape="0">
            <a:gsLst>
              <a:gs pos="0">
                <a:srgbClr val="f8c6a0">
                  <a:alpha val="49019"/>
                </a:srgbClr>
              </a:gs>
              <a:gs pos="100000">
                <a:srgbClr val="f48938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4893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1700280"/>
            <a:ext cx="2376360" cy="2448000"/>
          </a:xfrm>
          <a:prstGeom prst="rect">
            <a:avLst/>
          </a:prstGeom>
          <a:gradFill rotWithShape="0">
            <a:gsLst>
              <a:gs pos="0">
                <a:srgbClr val="f8c6a0">
                  <a:alpha val="49019"/>
                </a:srgbClr>
              </a:gs>
              <a:gs pos="100000">
                <a:srgbClr val="f48938">
                  <a:alpha val="44313"/>
                </a:srgbClr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4893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2423880"/>
            <a:ext cx="273708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f2a01"/>
                </a:solidFill>
                <a:latin typeface="Arial Black"/>
              </a:rPr>
              <a:t>Ludność w wiek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f2a01"/>
                </a:solidFill>
                <a:latin typeface="Arial Black"/>
              </a:rPr>
              <a:t>p</a:t>
            </a:r>
            <a:r>
              <a:rPr b="0" lang="pl-PL" sz="1600" spc="-1" strike="noStrike">
                <a:solidFill>
                  <a:srgbClr val="4f2a01"/>
                </a:solidFill>
                <a:latin typeface="Arial Black"/>
              </a:rPr>
              <a:t>rodukcyjn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f2a01"/>
                </a:solidFill>
                <a:latin typeface="Arial Black"/>
              </a:rPr>
              <a:t>Ludność w wieku poprodukcyjny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796000" y="2708280"/>
            <a:ext cx="504720" cy="0"/>
          </a:xfrm>
          <a:prstGeom prst="line">
            <a:avLst/>
          </a:prstGeom>
          <a:ln w="101520">
            <a:solidFill>
              <a:srgbClr val="f4893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987640" y="2708280"/>
            <a:ext cx="504720" cy="0"/>
          </a:xfrm>
          <a:prstGeom prst="line">
            <a:avLst/>
          </a:prstGeom>
          <a:ln w="101520">
            <a:solidFill>
              <a:srgbClr val="f489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75480" y="1771560"/>
            <a:ext cx="68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f2a01"/>
                </a:solidFill>
                <a:latin typeface="Arial Black"/>
              </a:rPr>
              <a:t>Polska</a:t>
            </a:r>
            <a:r>
              <a:rPr b="0" lang="en-US" sz="1800" spc="-1" strike="noStrike">
                <a:solidFill>
                  <a:srgbClr val="0d334b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d334b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pl-PL" sz="1800" spc="-1" strike="noStrike">
                <a:solidFill>
                  <a:srgbClr val="4f2a01"/>
                </a:solidFill>
                <a:latin typeface="Arial Black"/>
              </a:rPr>
              <a:t>Ukra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2492280"/>
            <a:ext cx="23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Mężczyźni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-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64</a:t>
            </a:r>
            <a:br>
              <a:rPr sz="1600"/>
            </a:b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Kobiety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-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Mężczyźni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ponad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5 lat</a:t>
            </a:r>
            <a:br>
              <a:rPr sz="1600"/>
            </a:b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Kobiety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ponad 60 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15280" y="2486160"/>
            <a:ext cx="2304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Mężczyźni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6 - 59</a:t>
            </a:r>
            <a:br>
              <a:rPr sz="1600"/>
            </a:b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Kobiety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6 -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Mężczyźni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 ponad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0 l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d334b"/>
                </a:solidFill>
                <a:latin typeface="Times New Roman"/>
              </a:rPr>
              <a:t>Kobiety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d334b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ponad </a:t>
            </a:r>
            <a:r>
              <a:rPr b="1" lang="uk-UA" sz="1600" spc="-1" strike="noStrike">
                <a:solidFill>
                  <a:srgbClr val="0d334b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d334b"/>
                </a:solidFill>
                <a:latin typeface="Times New Roman"/>
              </a:rPr>
              <a:t>5 lat</a:t>
            </a:r>
            <a:r>
              <a:rPr b="1" lang="ru-RU" sz="1600" spc="-1" strike="noStrike">
                <a:solidFill>
                  <a:srgbClr val="4f2a01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796000" y="3859200"/>
            <a:ext cx="504720" cy="0"/>
          </a:xfrm>
          <a:prstGeom prst="line">
            <a:avLst/>
          </a:prstGeom>
          <a:ln w="101520">
            <a:solidFill>
              <a:srgbClr val="f4893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987640" y="3859200"/>
            <a:ext cx="504720" cy="0"/>
          </a:xfrm>
          <a:prstGeom prst="line">
            <a:avLst/>
          </a:prstGeom>
          <a:ln w="101520">
            <a:solidFill>
              <a:srgbClr val="f489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866840"/>
            <a:ext cx="8137440" cy="845640"/>
          </a:xfrm>
          <a:prstGeom prst="rect">
            <a:avLst/>
          </a:prstGeom>
          <a:gradFill rotWithShape="0">
            <a:gsLst>
              <a:gs pos="0">
                <a:srgbClr val="c8c8c8">
                  <a:alpha val="40000"/>
                </a:srgbClr>
              </a:gs>
              <a:gs pos="100000">
                <a:srgbClr val="ffffff">
                  <a:alpha val="29019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Stąd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 mamy </a:t>
            </a: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pewne 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różn</a:t>
            </a: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ice w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 obliczon</a:t>
            </a: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ych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 wska</a:t>
            </a: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ź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nik</a:t>
            </a:r>
            <a:r>
              <a:rPr b="1" lang="pl-PL" sz="1700" spc="-1" strike="noStrike">
                <a:solidFill>
                  <a:srgbClr val="0d334b"/>
                </a:solidFill>
                <a:latin typeface="Arial"/>
              </a:rPr>
              <a:t>ach</a:t>
            </a:r>
            <a:r>
              <a:rPr b="1" lang="uk-UA" sz="1700" spc="-1" strike="noStrike">
                <a:solidFill>
                  <a:srgbClr val="0d334b"/>
                </a:solidFill>
                <a:latin typeface="Arial"/>
              </a:rPr>
              <a:t> zatrudnienia, bezrobocia, aktywności zawodowej.</a:t>
            </a:r>
            <a:r>
              <a:rPr b="1" lang="ru-RU" sz="1700" spc="-1" strike="noStrike">
                <a:solidFill>
                  <a:srgbClr val="0d334b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651640" y="2854440"/>
            <a:ext cx="2665440" cy="50328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3930480"/>
            <a:ext cx="2665440" cy="23781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>
                  <a:alpha val="50196"/>
                </a:srgbClr>
              </a:gs>
              <a:gs pos="100000">
                <a:srgbClr val="a0ebd8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2640" y="2854440"/>
            <a:ext cx="2879640" cy="50328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2640" y="3930480"/>
            <a:ext cx="2879640" cy="122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>
                  <a:alpha val="50196"/>
                </a:srgbClr>
              </a:gs>
              <a:gs pos="100000">
                <a:srgbClr val="a0ebd8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00000" y="1485000"/>
            <a:ext cx="7418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d334b"/>
                </a:solidFill>
                <a:latin typeface="Arial"/>
              </a:rPr>
              <a:t>P</a:t>
            </a:r>
            <a:r>
              <a:rPr b="1" lang="pl-PL" sz="1600" spc="-1" strike="noStrike">
                <a:solidFill>
                  <a:srgbClr val="0d334b"/>
                </a:solidFill>
                <a:latin typeface="Arial"/>
              </a:rPr>
              <a:t>roblem jakości danych otrzymywanych w wyniku różnych rodzajów i sposobów badań statystyczn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a01"/>
                </a:solidFill>
                <a:latin typeface="Arial"/>
              </a:rPr>
              <a:t>      </a:t>
            </a:r>
            <a:r>
              <a:rPr b="1" lang="pl-PL" sz="2000" spc="-1" strike="noStrike">
                <a:solidFill>
                  <a:srgbClr val="4f2a01"/>
                </a:solidFill>
                <a:latin typeface="Arial"/>
              </a:rPr>
              <a:t>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0640" y="292572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a00"/>
                </a:solidFill>
                <a:latin typeface="Arial Black"/>
              </a:rPr>
              <a:t>Polska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  </a:t>
            </a:r>
            <a:r>
              <a:rPr b="0" lang="pl-PL" sz="1800" spc="-1" strike="noStrike">
                <a:solidFill>
                  <a:srgbClr val="002a00"/>
                </a:solidFill>
                <a:latin typeface="Arial Black"/>
              </a:rPr>
              <a:t>Ukra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480" y="3462840"/>
            <a:ext cx="78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źnik produkcji sprzedanej ważniejszych wyrobów według PK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3920" y="3942720"/>
            <a:ext cx="27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 podmioty gospodarcze,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w których liczba pracujących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przekracza 9 osó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24360" y="4017240"/>
            <a:ext cx="23767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wszystkie podmioty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gospodarcze, niezależn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ie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 od liczby pracujących z wyjątkiem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osób fizycznych pr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wadzących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działalność gospodarczą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20720" y="2708280"/>
            <a:ext cx="3130560" cy="115236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48360" y="4437000"/>
            <a:ext cx="3168720" cy="1656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>
                  <a:alpha val="50196"/>
                </a:srgbClr>
              </a:gs>
              <a:gs pos="100000">
                <a:srgbClr val="a0ebd8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514760"/>
            <a:ext cx="3139920" cy="1079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cc99">
                  <a:alpha val="50196"/>
                </a:srgbClr>
              </a:gs>
              <a:gs pos="100000">
                <a:srgbClr val="a0ebd8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557360"/>
            <a:ext cx="3168720" cy="50328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360" y="1557360"/>
            <a:ext cx="3139920" cy="50328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509720"/>
            <a:ext cx="2997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podmioty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gospodarcze, sekcji „Budownictwo” z liczbą pracujących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ponad 9 osób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1440" y="4403520"/>
            <a:ext cx="2950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podmioty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   gospodarcze – osoby prawne,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oraz ich wyodrębnione jednostki, które należą do sekcji „Budownictwo”, z liczbą pracujących ponad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20 osó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708280"/>
            <a:ext cx="3141720" cy="1152360"/>
          </a:xfrm>
          <a:prstGeom prst="rect">
            <a:avLst/>
          </a:prstGeom>
          <a:gradFill rotWithShape="0">
            <a:gsLst>
              <a:gs pos="0">
                <a:srgbClr val="99e9d5">
                  <a:alpha val="40000"/>
                </a:srgbClr>
              </a:gs>
              <a:gs pos="100000">
                <a:srgbClr val="00cc99">
                  <a:alpha val="50196"/>
                </a:srgbClr>
              </a:gs>
            </a:gsLst>
            <a:lin ang="135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659320"/>
            <a:ext cx="3240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podmioty gospodarcze,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które prowadzą księgi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rachunkowe i liczba pracujących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przekracza 9 osób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92360" y="1628640"/>
            <a:ext cx="630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a00"/>
                </a:solidFill>
                <a:latin typeface="Arial Black"/>
              </a:rPr>
              <a:t>Polska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     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2a00"/>
                </a:solidFill>
                <a:latin typeface="Arial Black"/>
              </a:rPr>
              <a:t>           </a:t>
            </a:r>
            <a:r>
              <a:rPr b="0" lang="pl-PL" sz="1800" spc="-1" strike="noStrike">
                <a:solidFill>
                  <a:srgbClr val="002a00"/>
                </a:solidFill>
                <a:latin typeface="Arial Black"/>
              </a:rPr>
              <a:t>Ukra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5800" y="2239200"/>
            <a:ext cx="53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źniki statystyki finansów przedsiębiorst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2659320"/>
            <a:ext cx="302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b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ada</a:t>
            </a:r>
            <a:r>
              <a:rPr b="0" lang="pl-PL" sz="1600" spc="-1" strike="noStrike">
                <a:solidFill>
                  <a:srgbClr val="003600"/>
                </a:solidFill>
                <a:latin typeface="Arial"/>
              </a:rPr>
              <a:t>ne s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wszystkie podmioty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gospodarcze – osoby prawne,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br>
              <a:rPr sz="1600"/>
            </a:b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które prowadzą działalność </a:t>
            </a:r>
            <a:r>
              <a:rPr b="0" lang="en-US" sz="1600" spc="-1" strike="noStrike">
                <a:solidFill>
                  <a:srgbClr val="0036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600"/>
                </a:solidFill>
                <a:latin typeface="Arial"/>
              </a:rPr>
              <a:t>przedsiębiorczą</a:t>
            </a:r>
            <a:r>
              <a:rPr b="0" lang="ru-RU" sz="1600" spc="-1" strike="noStrike">
                <a:solidFill>
                  <a:srgbClr val="003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81200" y="4004280"/>
            <a:ext cx="56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udownictwo, produkcja budowlano-montażo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2123640"/>
            <a:ext cx="7920000" cy="29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2a00"/>
                </a:solidFill>
                <a:latin typeface="Arial"/>
              </a:rPr>
              <a:t>Możemy wyodrębnić trzy grupy wskaźników charakteryzujących się</a:t>
            </a:r>
            <a:r>
              <a:rPr b="1" lang="uk-UA" sz="2000" spc="-1" strike="noStrike">
                <a:solidFill>
                  <a:srgbClr val="002a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012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d334b"/>
                </a:solidFill>
                <a:latin typeface="Arial"/>
              </a:rPr>
              <a:t>całkowitą zgodnością metodologiczną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012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34b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d334b"/>
                </a:solidFill>
                <a:latin typeface="Arial"/>
              </a:rPr>
              <a:t>niecałkowitą zgodnością metodologiczną, ale możliwością doprowadzenia do porównywalnośc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34b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d334b"/>
                </a:solidFill>
                <a:latin typeface="Arial"/>
              </a:rPr>
              <a:t>brakiem zgodności metodologicznej i niemożliwością doprowadzenia do porównywalnoś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565360"/>
            <a:ext cx="1224000" cy="0"/>
          </a:xfrm>
          <a:prstGeom prst="line">
            <a:avLst/>
          </a:prstGeom>
          <a:ln w="28440">
            <a:solidFill>
              <a:srgbClr val="ff03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4360" y="2202480"/>
            <a:ext cx="7775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a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3600"/>
                </a:solidFill>
                <a:latin typeface="Arial"/>
              </a:rPr>
              <a:t>Duże</a:t>
            </a:r>
            <a:r>
              <a:rPr b="1" lang="pl-PL" sz="1800" spc="-1" strike="noStrike">
                <a:solidFill>
                  <a:srgbClr val="a21f00"/>
                </a:solidFill>
                <a:latin typeface="Arial"/>
              </a:rPr>
              <a:t> rozbieżności metodologiczne</a:t>
            </a:r>
            <a:r>
              <a:rPr b="1" lang="pl-PL" sz="1800" spc="-1" strike="noStrike">
                <a:solidFill>
                  <a:srgbClr val="002a00"/>
                </a:solidFill>
                <a:latin typeface="Arial"/>
              </a:rPr>
              <a:t> występują na ogół w takich dziedzinach, jak: ochrona środowiska (kryteria klasyfikacyjne, formy ochrony prawnej), infrastruktura społeczna (system edukacji, ochrona zdrow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a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2a00"/>
                </a:solidFill>
                <a:latin typeface="Arial"/>
              </a:rPr>
              <a:t>Podane </a:t>
            </a:r>
            <a:r>
              <a:rPr b="1" lang="pl-PL" sz="1800" spc="-1" strike="noStrike">
                <a:solidFill>
                  <a:srgbClr val="a21f00"/>
                </a:solidFill>
                <a:latin typeface="Arial"/>
              </a:rPr>
              <a:t>rozbieżności metodo</a:t>
            </a:r>
            <a:r>
              <a:rPr b="1" lang="uk-UA" sz="1800" spc="-1" strike="noStrike">
                <a:solidFill>
                  <a:srgbClr val="a21f00"/>
                </a:solidFill>
                <a:latin typeface="Arial"/>
              </a:rPr>
              <a:t>lo</a:t>
            </a:r>
            <a:r>
              <a:rPr b="1" lang="pl-PL" sz="1800" spc="-1" strike="noStrike">
                <a:solidFill>
                  <a:srgbClr val="a21f00"/>
                </a:solidFill>
                <a:latin typeface="Arial"/>
              </a:rPr>
              <a:t>giczne</a:t>
            </a:r>
            <a:r>
              <a:rPr b="1" lang="pl-PL" sz="1800" spc="-1" strike="noStrike">
                <a:solidFill>
                  <a:srgbClr val="002a00"/>
                </a:solidFill>
                <a:latin typeface="Arial"/>
              </a:rPr>
              <a:t> nię są barierami dla skutecznej współpracy w ramach statystyki transgranicznej. Musimy analizować je, poznawać i wyjaśniać użytkownikom informacji statystycznej.</a:t>
            </a:r>
            <a:r>
              <a:rPr b="0" lang="ru-RU" sz="18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2013480"/>
            <a:ext cx="8136000" cy="4137120"/>
          </a:xfrm>
          <a:prstGeom prst="rect">
            <a:avLst/>
          </a:prstGeom>
          <a:gradFill rotWithShape="0">
            <a:gsLst>
              <a:gs pos="0">
                <a:srgbClr val="ffffff">
                  <a:alpha val="43137"/>
                </a:srgbClr>
              </a:gs>
              <a:gs pos="100000">
                <a:srgbClr val="fefefe">
                  <a:alpha val="4431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00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Procesy integracyjne w Europie prowadzą do coraz większego zainteresowania statystyką regionalną w obszarach pogranicznych. Nowym imp</a:t>
            </a:r>
            <a:r>
              <a:rPr b="1" lang="uk-UA" sz="1600" spc="-1" strike="noStrike">
                <a:solidFill>
                  <a:srgbClr val="161656"/>
                </a:solidFill>
                <a:latin typeface="Arial"/>
              </a:rPr>
              <a:t>ulsem 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do rozszerzenia zakresu publikacji informacyjno-statystycznych jest decyzja o przeprowadzeniu finałowych meczy piłki nożnej „Euro-2012” w Polsce i Ukrain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5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Wydaje się, że współpraca pomiędzy statystykami na pograniczu polsko-ukraińskim osiągnęła już taki poziom, że warto podjąć wysiłek utworzenia banku danych transgranicznych, co zagwarantuje współpracę nowej jakości. Również  sprzyja temu, zainteresowanie informacją na zewnętrznych granicach 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5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Statystyki ukraińskie i polskie mają dość doświadczeń dla przedstawiania ich użytkownikom w dostępny sposób - drogą internetową oraz przez stworzenie wspólnego banku danych w różnych języka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61656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Dla stworzenia, prowadzenia i aktualizacji takiego banku danych potrzebne są pewne fundusze. </a:t>
            </a:r>
            <a:r>
              <a:rPr b="1" lang="uk-UA" sz="1600" spc="-1" strike="noStrike">
                <a:solidFill>
                  <a:srgbClr val="161656"/>
                </a:solidFill>
                <a:latin typeface="Arial"/>
              </a:rPr>
              <a:t>Ź</a:t>
            </a:r>
            <a:r>
              <a:rPr b="1" lang="pl-PL" sz="1600" spc="-1" strike="noStrike">
                <a:solidFill>
                  <a:srgbClr val="161656"/>
                </a:solidFill>
                <a:latin typeface="Arial"/>
              </a:rPr>
              <a:t>ródła ich należy szukać wspólnie.</a:t>
            </a:r>
            <a:r>
              <a:rPr b="1" lang="ru-RU" sz="1500" spc="-1" strike="noStrike">
                <a:solidFill>
                  <a:srgbClr val="161656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64720" y="14130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85c86"/>
                </a:solidFill>
                <a:latin typeface="Times New Roman"/>
              </a:rPr>
              <a:t>Zakończe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15240" y="3141000"/>
            <a:ext cx="45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c1c6e"/>
                </a:solidFill>
                <a:latin typeface="Times New Roman"/>
              </a:rPr>
              <a:t>Dziękuję za uwagę!</a:t>
            </a:r>
            <a:r>
              <a:rPr b="1" lang="ru-RU" sz="4000" spc="-1" strike="noStrike">
                <a:solidFill>
                  <a:srgbClr val="1c1c6e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1688760"/>
            <a:ext cx="828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b054d"/>
                </a:solidFill>
                <a:latin typeface="Arial"/>
              </a:rPr>
              <a:t>Współpraca transgraniczna ustala współpracę obszarów przygranicznych sąsiednich państw.</a:t>
            </a:r>
            <a:r>
              <a:rPr b="0" lang="ru-RU" sz="18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2133720"/>
            <a:ext cx="2953080" cy="0"/>
          </a:xfrm>
          <a:prstGeom prst="line">
            <a:avLst/>
          </a:prstGeom>
          <a:ln w="28440">
            <a:solidFill>
              <a:srgbClr val="ff03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96000" y="2899440"/>
            <a:ext cx="48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460f00"/>
                </a:solidFill>
                <a:latin typeface="Arial Black"/>
              </a:rPr>
              <a:t>Głównymi celami współpracy są:</a:t>
            </a:r>
            <a:r>
              <a:rPr b="0" lang="en-US" sz="2400" spc="-1" strike="noStrike">
                <a:solidFill>
                  <a:srgbClr val="460f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3737520"/>
            <a:ext cx="820872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b054d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przełamywanie uprzedzeń oraz stereotypów istniejących po obu stronach granic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usuwanie barier politycznych i administracyjnych między sąsiadami</a:t>
            </a:r>
            <a:r>
              <a:rPr b="1" lang="uk-UA" sz="1600" spc="-1" strike="noStrike">
                <a:solidFill>
                  <a:srgbClr val="1b054d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b054d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stworzenie gospodarczej, społecznej oraz kulturalnej infrastruktury, warunków powoływania wspólnych instytucji, podmiotów gospodarczych, ośrodków i t.p.</a:t>
            </a:r>
            <a:r>
              <a:rPr b="1" lang="en-US" sz="16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800" y="3068280"/>
            <a:ext cx="612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równywalne dane statystyki transgranicznej są niezbędn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068640"/>
            <a:ext cx="6121440" cy="360360"/>
          </a:xfrm>
          <a:prstGeom prst="rect">
            <a:avLst/>
          </a:prstGeom>
          <a:gradFill rotWithShape="0">
            <a:gsLst>
              <a:gs pos="0">
                <a:srgbClr val="b89cf8">
                  <a:alpha val="37254"/>
                </a:srgbClr>
              </a:gs>
              <a:gs pos="100000">
                <a:srgbClr val="544772">
                  <a:alpha val="33333"/>
                </a:srgbClr>
              </a:gs>
            </a:gsLst>
            <a:lin ang="5400000"/>
          </a:gradFill>
          <a:ln cap="rnd" w="28440">
            <a:solidFill>
              <a:srgbClr val="2e098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1557360"/>
            <a:ext cx="84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e0325"/>
                </a:solidFill>
                <a:latin typeface="Arial"/>
              </a:rPr>
              <a:t>Obecnie głównym  zapleczem  współpracy transgranicznej jest informacja statystyczna, znaczącą część której zajmuje statystyka transgraniczna.</a:t>
            </a:r>
            <a:r>
              <a:rPr b="1" lang="en-US" sz="1600" spc="-1" strike="noStrike">
                <a:solidFill>
                  <a:srgbClr val="0e032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234936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Ź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ódłem statystyki transgranicznej jest statystyka regionalna obszarów przygranicznych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628640"/>
            <a:ext cx="287280" cy="2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42100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133720"/>
            <a:ext cx="108108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2133720"/>
            <a:ext cx="2448000" cy="0"/>
          </a:xfrm>
          <a:prstGeom prst="line">
            <a:avLst/>
          </a:prstGeom>
          <a:ln w="28440">
            <a:solidFill>
              <a:srgbClr val="ff03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3141720"/>
            <a:ext cx="28728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3789360"/>
            <a:ext cx="80280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2c09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dla istniejących po obu stronach granicy instytucji rządowych i samorządowych do podejmowania właściwych decyzj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2c09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dla oceny i planowania rozwoju regionu we wszystkich sfera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2c09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c09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jako podstawa opracowania wspólnych projektów międzynarodowych, strategii rozwoju społecznego i ekonomicznego oraz przestrzennego wyposażenia obszarów przygranicznyc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2c09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2c09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dla rozwoju </a:t>
            </a:r>
            <a:r>
              <a:rPr b="1" lang="uk-UA" sz="1600" spc="-1" strike="noStrike">
                <a:solidFill>
                  <a:srgbClr val="2c09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2c0900"/>
                </a:solidFill>
                <a:latin typeface="Arial"/>
              </a:rPr>
              <a:t>badań regionalnych ośrodków naukow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864080"/>
            <a:ext cx="7704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054d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1b054d"/>
                </a:solidFill>
                <a:latin typeface="Arial"/>
              </a:rPr>
              <a:t>Statystyka transgraniczna musi odpowiadać na potrzeby organów zarządzania związków transgranicznych, organów władzy oraz samorządowych struktur obszarów pogranicznych, dla potrzeb biznesu, a również dla społeczeństwa obszarów pogranicznych.</a:t>
            </a:r>
            <a:r>
              <a:rPr b="1" lang="ru-RU" sz="18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95640" y="47484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0" spc="-1" strike="noStrike">
                <a:solidFill>
                  <a:srgbClr val="ffd1c5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37232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Jakie mamy związki transgraniczne </a:t>
            </a:r>
            <a:br>
              <a:rPr sz="2000"/>
            </a:b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na ukraińsko-polsko-białoruskim pograniczu?</a:t>
            </a:r>
            <a:r>
              <a:rPr b="1" lang="ru-RU" sz="2000" spc="-1" strike="noStrike">
                <a:solidFill>
                  <a:srgbClr val="460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00000" y="3159360"/>
            <a:ext cx="792000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 Węgier – 5 komitatów;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 Polski – województwo podkarpackie;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e Słowacji – dwa kraje – koszycki i preszowski</a:t>
            </a:r>
            <a:r>
              <a:rPr b="1" lang="uk-UA" sz="1600" spc="-1" strike="noStrike">
                <a:solidFill>
                  <a:srgbClr val="00362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od Ukrainy – obwód lwowski, zakarpacki, iwano-frankowski oraz    czerniowieck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1480" y="2781360"/>
            <a:ext cx="43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628"/>
                </a:solidFill>
                <a:latin typeface="Arial Black"/>
              </a:rPr>
              <a:t>Euroregion 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«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Karpaty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»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 (1993)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748040"/>
            <a:ext cx="828036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Wynik działalności euroregionu </a:t>
            </a:r>
            <a:r>
              <a:rPr b="1" lang="uk-UA" sz="1600" spc="-1" strike="noStrike">
                <a:solidFill>
                  <a:srgbClr val="1b054d"/>
                </a:solidFill>
                <a:latin typeface="Arial"/>
              </a:rPr>
              <a:t>«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Karpaty</a:t>
            </a:r>
            <a:r>
              <a:rPr b="1" lang="uk-UA" sz="1600" spc="-1" strike="noStrike">
                <a:solidFill>
                  <a:srgbClr val="1b054d"/>
                </a:solidFill>
                <a:latin typeface="Arial"/>
              </a:rPr>
              <a:t>»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 wskazują, że tworzenie podobnych związków międzyregionalnych odbywa się z wielkimi trudnościami jak organizacyjnego tak i również politycznego charakteru. Jak dotąd faktycznie był opracowany tylko mechanizm połączenia. Działalność euroregionu jest mało efektywna.</a:t>
            </a: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146760"/>
            <a:ext cx="79200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 Polski – województwo lubelskie;</a:t>
            </a:r>
            <a:r>
              <a:rPr b="1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 Ukrainy – obwód wołyński oraz dwa powiaty obwodu lwowskiego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z Bia</a:t>
            </a:r>
            <a:r>
              <a:rPr b="1" lang="uk-UA" sz="1600" spc="-1" strike="noStrike">
                <a:solidFill>
                  <a:srgbClr val="003628"/>
                </a:solidFill>
                <a:latin typeface="Arial"/>
              </a:rPr>
              <a:t>ł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orusi – obwód brzes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89640" y="2637000"/>
            <a:ext cx="37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628"/>
                </a:solidFill>
                <a:latin typeface="Arial Black"/>
              </a:rPr>
              <a:t>Euroregion 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«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Bug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»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 (199</a:t>
            </a:r>
            <a:r>
              <a:rPr b="0" lang="en-US" sz="2400" spc="-1" strike="noStrike">
                <a:solidFill>
                  <a:srgbClr val="003628"/>
                </a:solidFill>
                <a:latin typeface="Arial Black"/>
              </a:rPr>
              <a:t>5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)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4797360"/>
            <a:ext cx="828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Zrealizowano szereg projektów i programów współpracy przemysłowej, rozbudowy infrastruktury pogranicznej, ochrony środowiska, rozwoju samorządów lokalnych</a:t>
            </a: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.</a:t>
            </a: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95640" y="4762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0" spc="-1" strike="noStrike">
                <a:solidFill>
                  <a:srgbClr val="ffd1c5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38168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Jakie mamy utworzenia transgraniczne </a:t>
            </a:r>
            <a:br>
              <a:rPr sz="2000"/>
            </a:b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na ukraińsko-polsko-białoruskim pograniczu?</a:t>
            </a:r>
            <a:r>
              <a:rPr b="1" lang="ru-RU" sz="2000" spc="-1" strike="noStrike">
                <a:solidFill>
                  <a:srgbClr val="460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95640" y="476280"/>
            <a:ext cx="1440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0" spc="-1" strike="noStrike">
                <a:solidFill>
                  <a:srgbClr val="ffd1c5"/>
                </a:solidFill>
                <a:latin typeface="Times New Roman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13737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Jakie mamy utworzenia transgraniczne </a:t>
            </a:r>
            <a:br>
              <a:rPr sz="2000"/>
            </a:br>
            <a:r>
              <a:rPr b="1" lang="pl-PL" sz="2000" spc="-1" strike="noStrike">
                <a:solidFill>
                  <a:srgbClr val="460f00"/>
                </a:solidFill>
                <a:latin typeface="Arial"/>
              </a:rPr>
              <a:t>na ukraińsko-polsko-białoruskim pograniczu?</a:t>
            </a:r>
            <a:r>
              <a:rPr b="1" lang="ru-RU" sz="2000" spc="-1" strike="noStrike">
                <a:solidFill>
                  <a:srgbClr val="460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223880"/>
            <a:ext cx="792000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Etapy programu „San” będą realizowane na podstawie priorytetów, zadań i środków strategii rozwoju obwodu lwowskiego oraz województwa podkarpackiego</a:t>
            </a:r>
            <a:r>
              <a:rPr b="0" lang="en-US" sz="1600" spc="-1" strike="noStrike">
                <a:solidFill>
                  <a:srgbClr val="003628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Cel euroregionu „San”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wzmocnienie potencjału ekonomicznego</a:t>
            </a:r>
            <a:r>
              <a:rPr b="1" lang="uk-UA" sz="1600" spc="-1" strike="noStrike">
                <a:solidFill>
                  <a:srgbClr val="003628"/>
                </a:solidFill>
                <a:latin typeface="Arial"/>
              </a:rPr>
              <a:t>;</a:t>
            </a:r>
            <a:r>
              <a:rPr b="0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obniżenie stopy bezrobocia oraz ubóstwa w regionach</a:t>
            </a:r>
            <a:r>
              <a:rPr b="0" lang="en-US" sz="1600" spc="-1" strike="noStrike">
                <a:solidFill>
                  <a:srgbClr val="003628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spcBef>
                <a:spcPts val="499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628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rozwój stosunków dobrosąsiedzkich</a:t>
            </a:r>
            <a:r>
              <a:rPr b="0" lang="en-US" sz="1600" spc="-1" strike="noStrike">
                <a:solidFill>
                  <a:srgbClr val="003628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38360" y="263700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3628"/>
                </a:solidFill>
                <a:latin typeface="Arial Black"/>
              </a:rPr>
              <a:t>Euroregion 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«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San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»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3628"/>
                </a:solidFill>
                <a:latin typeface="Arial Black"/>
              </a:rPr>
              <a:t>(</a:t>
            </a:r>
            <a:r>
              <a:rPr b="0" lang="pl-PL" sz="2400" spc="-1" strike="noStrike">
                <a:solidFill>
                  <a:srgbClr val="003628"/>
                </a:solidFill>
                <a:latin typeface="Arial Black"/>
              </a:rPr>
              <a:t>projekt</a:t>
            </a:r>
            <a:r>
              <a:rPr b="0" lang="en-US" sz="2400" spc="-1" strike="noStrike">
                <a:solidFill>
                  <a:srgbClr val="003628"/>
                </a:solidFill>
                <a:latin typeface="Arial Black"/>
              </a:rPr>
              <a:t>)</a:t>
            </a:r>
            <a:r>
              <a:rPr b="0" lang="ru-RU" sz="2400" spc="-1" strike="noStrike">
                <a:solidFill>
                  <a:srgbClr val="003628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068640"/>
            <a:ext cx="828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   </a:t>
            </a:r>
            <a:r>
              <a:rPr b="1" lang="pl-PL" sz="1600" spc="-1" strike="noStrike">
                <a:solidFill>
                  <a:srgbClr val="1b054d"/>
                </a:solidFill>
                <a:latin typeface="Arial"/>
              </a:rPr>
              <a:t>Analizując mało efektywną współpracę w ramach Euroregionu „Karpaty” władze województwa podkarpackiego i obwodu lwowskiego porozumiały  się w sprawie realizacji programu współpracy przygranicznej „San”.</a:t>
            </a:r>
            <a:r>
              <a:rPr b="1" lang="ru-RU" sz="1600" spc="-1" strike="noStrike">
                <a:solidFill>
                  <a:srgbClr val="1b054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503360"/>
            <a:ext cx="7993080" cy="434376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c1c1c1">
                  <a:alpha val="4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Współpraca polskich, ukraińskich i białoruskich statystyków rozpoczęła się równocześnie z powstaniem </a:t>
            </a: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e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uroregionu, polegała na opracowaniu publikacji statystycznych w ramach Euroregionu.</a:t>
            </a:r>
            <a:r>
              <a:rPr b="1" lang="ru-RU" sz="1900" spc="-1" strike="noStrike">
                <a:solidFill>
                  <a:srgbClr val="1c1c6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W ostatnich latach powstały również publikacje które odnoszą się do pogranicza</a:t>
            </a: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ukraińsko-polskiego, a także opracowania dotyczące rozwoju ekonomicznego i społecznego  obszarów przygranicznych.</a:t>
            </a:r>
            <a:r>
              <a:rPr b="0" lang="ru-RU" sz="1900" spc="-1" strike="noStrike">
                <a:solidFill>
                  <a:srgbClr val="1c1c6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	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Warto zauważyć, że taka współpraca odbywa się na podstawie</a:t>
            </a: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inicjatywy</a:t>
            </a: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dyrektorów urzędów statystycznych</a:t>
            </a:r>
            <a:r>
              <a:rPr b="1" lang="en-US" sz="1900" spc="-1" strike="noStrike">
                <a:solidFill>
                  <a:srgbClr val="1c1c6e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1c1c6e"/>
                </a:solidFill>
                <a:latin typeface="Arial"/>
              </a:rPr>
              <a:t>obszarów przygranicznych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216000"/>
            <a:ext cx="802800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Obszary transgraniczne a spójność metodologiczna </a:t>
            </a:r>
            <a:br>
              <a:rPr sz="1500"/>
            </a:b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ukraińskiej,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500" spc="-1" strike="noStrike">
                <a:solidFill>
                  <a:srgbClr val="ffffff"/>
                </a:solidFill>
                <a:latin typeface="Arial"/>
              </a:rPr>
              <a:t>białoruskiej i polskiej statystyki regionalnej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1357560"/>
            <a:ext cx="8424720" cy="1310760"/>
          </a:xfrm>
          <a:prstGeom prst="rect">
            <a:avLst/>
          </a:prstGeom>
          <a:gradFill rotWithShape="0">
            <a:gsLst>
              <a:gs pos="0">
                <a:srgbClr val="ffe0d7">
                  <a:alpha val="49019"/>
                </a:srgbClr>
              </a:gs>
              <a:gs pos="100000">
                <a:srgbClr val="fef8f6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0f00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460f00"/>
                </a:solidFill>
                <a:latin typeface="Arial"/>
              </a:rPr>
              <a:t>Z początkiem takiej współpracy, która rozpoczęła się w 1995 r. opublikowano około 20 publikacji statystycznych.</a:t>
            </a:r>
            <a:r>
              <a:rPr b="1" lang="ru-RU" sz="1600" spc="-1" strike="noStrike">
                <a:solidFill>
                  <a:srgbClr val="460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60f00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460f00"/>
                </a:solidFill>
                <a:latin typeface="Arial"/>
              </a:rPr>
              <a:t>Podsumowując działalność publikacyjną urzędów statystyki możemy wyciągnąć wniosk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904120"/>
            <a:ext cx="8410680" cy="1554120"/>
          </a:xfrm>
          <a:prstGeom prst="rect">
            <a:avLst/>
          </a:prstGeom>
          <a:gradFill rotWithShape="0">
            <a:gsLst>
              <a:gs pos="0">
                <a:srgbClr val="85ffdf">
                  <a:alpha val="33333"/>
                </a:srgbClr>
              </a:gs>
              <a:gs pos="100000">
                <a:srgbClr val="eefefa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914400" indent="-457200">
              <a:lnSpc>
                <a:spcPct val="100000"/>
              </a:lnSpc>
              <a:buClr>
                <a:srgbClr val="003628"/>
              </a:buClr>
              <a:buFont typeface="Arial"/>
              <a:buAutoNum type="arabicPeriod"/>
              <a:tabLst>
                <a:tab algn="l" pos="6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Najczęściej przedmiotem publikacji statystycznych jest problematyka demograficzna oraz dane dotyczące terytorium, zatrudnienia, infrastruktury i turysty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628"/>
              </a:buClr>
              <a:buFont typeface="Arial"/>
              <a:buAutoNum type="arabicPeriod"/>
              <a:tabLst>
                <a:tab algn="l" pos="6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628"/>
              </a:buClr>
              <a:buFont typeface="Arial"/>
              <a:buAutoNum type="arabicPeriod"/>
              <a:tabLst>
                <a:tab algn="l" pos="693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3628"/>
                </a:solidFill>
                <a:latin typeface="Arial"/>
              </a:rPr>
              <a:t>Prawie wszystkie publikacje statystyczne mają charakter informacyjny. Tylko dwie pozycje wydawnicze, które ukazały się w ostatnim czas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4739400"/>
            <a:ext cx="79930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5000"/>
              </a:lnSpc>
              <a:spcBef>
                <a:spcPts val="700"/>
              </a:spcBef>
              <a:buSzPct val="10283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90547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„</a:t>
            </a:r>
            <a:r>
              <a:rPr b="1" i="1" lang="pl-PL" sz="1600" spc="-1" strike="noStrike">
                <a:solidFill>
                  <a:srgbClr val="190547"/>
                </a:solidFill>
                <a:latin typeface="Arial"/>
              </a:rPr>
              <a:t>Pogranicze Polsko-Ukraińskie. Środowisko.</a:t>
            </a:r>
            <a:r>
              <a:rPr b="1" i="1" lang="en-US" sz="1600" spc="-1" strike="noStrike">
                <a:solidFill>
                  <a:srgbClr val="190547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190547"/>
                </a:solidFill>
                <a:latin typeface="Arial"/>
              </a:rPr>
              <a:t>Społeczeństwo. Gospodarka”.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 Wyższa Szkoła Zarządzania i Administracji </a:t>
            </a:r>
            <a:br>
              <a:rPr sz="1600"/>
            </a:b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w Zamościu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5000"/>
              </a:lnSpc>
              <a:spcBef>
                <a:spcPts val="700"/>
              </a:spcBef>
              <a:buSzPct val="10283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190547"/>
                </a:solidFill>
                <a:latin typeface="Arial"/>
              </a:rPr>
              <a:t>„</a:t>
            </a:r>
            <a:r>
              <a:rPr b="1" i="1" lang="pl-PL" sz="1600" spc="-1" strike="noStrike">
                <a:solidFill>
                  <a:srgbClr val="190547"/>
                </a:solidFill>
                <a:latin typeface="Arial"/>
              </a:rPr>
              <a:t>Pogranicze Polsko-Ukraińskie w liczbach w 2006 r.”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 Lublin 2007,</a:t>
            </a:r>
            <a:r>
              <a:rPr b="1" lang="en-US" sz="1600" spc="-1" strike="noStrike">
                <a:solidFill>
                  <a:srgbClr val="190547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190547"/>
                </a:solidFill>
                <a:latin typeface="Arial"/>
              </a:rPr>
              <a:t>miały charakter analitycz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chowskiw</cp:lastModifiedBy>
  <dcterms:modified xsi:type="dcterms:W3CDTF">2008-09-19T11:23:38Z</dcterms:modified>
  <cp:revision>26</cp:revision>
  <dc:subject/>
  <dc:title>PowerPoint Presentation</dc:title>
</cp:coreProperties>
</file>