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35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35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35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35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35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35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35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2286720"/>
            <a:ext cx="777240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35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35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35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35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35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35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35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35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35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35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2286720"/>
            <a:ext cx="777240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35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35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35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305000" indent="-395280"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693800" indent="-38736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4" marL="2093760" indent="-39816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5" marL="2093760" indent="-398160">
              <a:spcBef>
                <a:spcPts val="550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6" marL="2093760" indent="-398160">
              <a:spcBef>
                <a:spcPts val="550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8"/>
          <p:cNvSpPr/>
          <p:nvPr/>
        </p:nvSpPr>
        <p:spPr>
          <a:xfrm>
            <a:off x="468360" y="260280"/>
            <a:ext cx="8675640" cy="287280"/>
          </a:xfrm>
          <a:prstGeom prst="rect">
            <a:avLst/>
          </a:prstGeom>
          <a:solidFill>
            <a:srgbClr val="98d0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Slide Number Placeholder 22"/>
          <p:cNvSpPr/>
          <p:nvPr/>
        </p:nvSpPr>
        <p:spPr>
          <a:xfrm>
            <a:off x="0" y="260280"/>
            <a:ext cx="395280" cy="28728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35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2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Rectangle 8"/>
          <p:cNvSpPr/>
          <p:nvPr/>
        </p:nvSpPr>
        <p:spPr>
          <a:xfrm>
            <a:off x="468360" y="4724280"/>
            <a:ext cx="8675640" cy="287280"/>
          </a:xfrm>
          <a:prstGeom prst="rect">
            <a:avLst/>
          </a:prstGeom>
          <a:solidFill>
            <a:srgbClr val="98d0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Slide Number Placeholder 22"/>
          <p:cNvSpPr/>
          <p:nvPr/>
        </p:nvSpPr>
        <p:spPr>
          <a:xfrm>
            <a:off x="0" y="4724280"/>
            <a:ext cx="395280" cy="28728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ciret.org/" TargetMode="External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50920" y="1989000"/>
            <a:ext cx="864216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700" spc="-1" strike="noStrike">
                <a:solidFill>
                  <a:srgbClr val="000000"/>
                </a:solidFill>
                <a:latin typeface="Tahoma"/>
              </a:rPr>
              <a:t>Wpływ wprowadzenia przepisów </a:t>
            </a:r>
            <a:br>
              <a:rPr sz="2700"/>
            </a:br>
            <a:r>
              <a:rPr b="1" lang="pl-PL" sz="2700" spc="-1" strike="noStrike">
                <a:solidFill>
                  <a:srgbClr val="000000"/>
                </a:solidFill>
                <a:latin typeface="Tahoma"/>
              </a:rPr>
              <a:t>Układu z Schengen </a:t>
            </a:r>
            <a:br>
              <a:rPr sz="2700"/>
            </a:br>
            <a:r>
              <a:rPr b="1" lang="pl-PL" sz="2700" spc="-1" strike="noStrike">
                <a:solidFill>
                  <a:srgbClr val="000000"/>
                </a:solidFill>
                <a:latin typeface="Tahoma"/>
              </a:rPr>
              <a:t>na nastroje gospodarcze mieszkańców </a:t>
            </a:r>
            <a:br>
              <a:rPr sz="2700"/>
            </a:br>
            <a:r>
              <a:rPr b="1" lang="pl-PL" sz="2700" spc="-1" strike="noStrike">
                <a:solidFill>
                  <a:srgbClr val="000000"/>
                </a:solidFill>
                <a:latin typeface="Tahoma"/>
              </a:rPr>
              <a:t>i przedsiębiorców województwa lubelskiego</a:t>
            </a:r>
            <a:br>
              <a:rPr sz="2800"/>
            </a:br>
            <a:endParaRPr b="1" lang="en-US" sz="2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213840" y="5157720"/>
            <a:ext cx="87138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ieczysław Kowerski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3908520" y="333360"/>
            <a:ext cx="1325520" cy="136692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108000" y="1700280"/>
            <a:ext cx="89280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yższa Szkoła Zarządzania i Administracji w Zamościu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cover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560" y="665280"/>
            <a:ext cx="824544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Struktura ankietowanych gospodarstw domowych względem liczby osób w gospodarstwie domowym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566640" y="1752480"/>
          <a:ext cx="8001000" cy="3067200"/>
        </p:xfrm>
        <a:graphic>
          <a:graphicData uri="http://schemas.openxmlformats.org/drawingml/2006/table">
            <a:tbl>
              <a:tblPr/>
              <a:tblGrid>
                <a:gridCol w="3586320"/>
                <a:gridCol w="4414680"/>
              </a:tblGrid>
              <a:tr h="4381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Liczba osó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Udział (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 osob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dec" pos="9748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,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 osob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dec" pos="9748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1,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 osob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dec" pos="9748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1,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 osob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dec" pos="9748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6,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5 i więcej osó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dec" pos="9748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5,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1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Su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dec" pos="9748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00,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cover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4000" y="1196640"/>
            <a:ext cx="800100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etoda sald: Kolejne etapy obliczeń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331640" y="2060640"/>
            <a:ext cx="723564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Tahoma"/>
              </a:rPr>
              <a:t>Obliczanie sald odpowiedzi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l-PL" sz="2200" spc="-1" strike="noStrike">
                <a:solidFill>
                  <a:srgbClr val="000000"/>
                </a:solidFill>
                <a:latin typeface="Tahoma"/>
              </a:rPr>
              <a:t>Desezonalizacja sal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Tahoma"/>
              </a:rPr>
              <a:t>Ważenie sald  odpowiedzi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Wagi prób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Wagi rozmiar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Tahoma"/>
              </a:rPr>
              <a:t>Obliczanie barometrów branżowych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Tahoma"/>
              </a:rPr>
              <a:t>Obliczenie barometru syntetycznego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698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cover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0728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Ogólne barometry diagnostyczne nastrojów gospodarczych 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 województwie  lubelskim w latach 2001-2008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203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2143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68360" y="1844640"/>
          <a:ext cx="8080200" cy="4403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8360" y="1844640"/>
                    <a:ext cx="8080200" cy="44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over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101080" cy="15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arometr diagnostyczny i  prognostyczny nastrojów gospodarczych przedsiębiorców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z województwa lubelskiego w latach 2001-2008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194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1976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636480" y="2017800"/>
          <a:ext cx="7931160" cy="4413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36480" y="2017800"/>
                    <a:ext cx="7931160" cy="44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over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74200" y="404640"/>
            <a:ext cx="800100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arometr diagnostyczny i  prognostyczny gospodarstw domowych w województwie lubelskim w latach 2001-2008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85800" y="1987560"/>
          <a:ext cx="7851600" cy="4392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1987560"/>
                    <a:ext cx="7851600" cy="439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over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404280"/>
            <a:ext cx="80010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cena rynku pracy a liczba zarejestrowanych bezrobotnych, r = -0.7994 (p = 0.000008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655560" y="1987560"/>
          <a:ext cx="7931160" cy="4294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55560" y="1987560"/>
                    <a:ext cx="7931160" cy="429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over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539640" y="1125000"/>
            <a:ext cx="83534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indent="0">
              <a:lnSpc>
                <a:spcPct val="10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owadzone od ponad 7 lat badania pozwalają sformułować kilka bardziej ogólnych wniosków dotyczących kształtowania się nastrojów gospodarczych w województwie lubelskim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1019520" indent="-419040">
              <a:lnSpc>
                <a:spcPct val="105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Tendencja do poprawy nastrojów od początku 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nowego wieku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1019520" indent="-419040">
              <a:lnSpc>
                <a:spcPct val="105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Lepsze nastroje przedsiębiorców niż konsumentów 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1019520" indent="-419040">
              <a:lnSpc>
                <a:spcPct val="105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Wyższe wartości prognoz niż następujących kwartał później realizacji – swoista skłonność respondentów do optymizmu 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1019520" indent="-419040">
              <a:lnSpc>
                <a:spcPct val="105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Istotna statystycznie korelacja pomiędzy  nastrojami gospodarczymi a wynikami gospodarki województwa, co sprawia, że barometry nastrojów gospodarczych mogą być dobrym narzędziem prognozowania sytuacji gospodarczej 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w regionie. 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cover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31852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ahoma"/>
              </a:rPr>
              <a:t>Portal:</a:t>
            </a:r>
            <a:r>
              <a:rPr b="1" lang="pl-P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pl-PL" sz="2400" spc="-1" strike="noStrike">
                <a:solidFill>
                  <a:srgbClr val="000000"/>
                </a:solidFill>
                <a:latin typeface="Tahoma"/>
              </a:rPr>
              <a:t>http://www.e-barometr.p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826920" y="2133720"/>
            <a:ext cx="4753080" cy="24858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3708360" y="4149720"/>
            <a:ext cx="4753080" cy="200988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74560" y="304920"/>
            <a:ext cx="8390160" cy="16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300" spc="-1" strike="noStrike">
                <a:solidFill>
                  <a:srgbClr val="000000"/>
                </a:solidFill>
                <a:latin typeface="Tahoma"/>
              </a:rPr>
              <a:t>Czy wprowadzone w ramach przepisów układu </a:t>
            </a:r>
            <a:br>
              <a:rPr sz="2300"/>
            </a:br>
            <a:r>
              <a:rPr b="1" lang="pl-PL" sz="2300" spc="-1" strike="noStrike">
                <a:solidFill>
                  <a:srgbClr val="000000"/>
                </a:solidFill>
                <a:latin typeface="Tahoma"/>
              </a:rPr>
              <a:t>z Schengen wizy dla obywateli Ukrainy wpłynęły </a:t>
            </a:r>
            <a:br>
              <a:rPr sz="2300"/>
            </a:br>
            <a:r>
              <a:rPr b="1" lang="pl-PL" sz="2300" spc="-1" strike="noStrike">
                <a:solidFill>
                  <a:srgbClr val="000000"/>
                </a:solidFill>
                <a:latin typeface="Tahoma"/>
              </a:rPr>
              <a:t>na sytuację Pana(i) firmy:</a:t>
            </a:r>
            <a:endParaRPr b="1" lang="en-US" sz="23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684360" y="2289240"/>
          <a:ext cx="8001000" cy="3587760"/>
        </p:xfrm>
        <a:graphic>
          <a:graphicData uri="http://schemas.openxmlformats.org/drawingml/2006/table">
            <a:tbl>
              <a:tblPr/>
              <a:tblGrid>
                <a:gridCol w="3166920"/>
                <a:gridCol w="2340000"/>
                <a:gridCol w="2494080"/>
              </a:tblGrid>
              <a:tr h="888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dpowied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 kwartał 2008 (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I kwartał 2008 (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0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Bardzo niekorzystnie: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	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5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9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iekorzystnie: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	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	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0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7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9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ie miały wpływu: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	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69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58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9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Korzystnie: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	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	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5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8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0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gół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0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0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cover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000" y="304920"/>
            <a:ext cx="8496360" cy="16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300" spc="-1" strike="noStrike">
                <a:solidFill>
                  <a:srgbClr val="000000"/>
                </a:solidFill>
                <a:latin typeface="Tahoma"/>
              </a:rPr>
              <a:t>Czy Pana(i) zdaniem wprowadzone w ramach przepisów układu z Schengen wizy dla obywateli Ukrainy wpłynęły na gospodarkę województwa lubelskiego:</a:t>
            </a:r>
            <a:endParaRPr b="1" lang="en-US" sz="23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674640" y="2290680"/>
          <a:ext cx="8001000" cy="3659400"/>
        </p:xfrm>
        <a:graphic>
          <a:graphicData uri="http://schemas.openxmlformats.org/drawingml/2006/table">
            <a:tbl>
              <a:tblPr/>
              <a:tblGrid>
                <a:gridCol w="3167280"/>
                <a:gridCol w="2339640"/>
                <a:gridCol w="2494080"/>
              </a:tblGrid>
              <a:tr h="889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dpowied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 kwartał 2008 (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I kwartał 2008 (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8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Bardzo niekorzystnie: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	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8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iekorzystnie: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	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	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1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8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8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ie miały wpływu: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	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8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Korzystnie: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	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	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gół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0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0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cover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395280" y="764640"/>
            <a:ext cx="856944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100" spc="-1" strike="noStrike">
                <a:solidFill>
                  <a:srgbClr val="000000"/>
                </a:solidFill>
                <a:latin typeface="Tahoma"/>
              </a:rPr>
              <a:t>Badania nastrojów gospodarczych</a:t>
            </a:r>
            <a:r>
              <a:rPr b="0" lang="pl-PL" sz="2100" spc="-1" strike="noStrike">
                <a:solidFill>
                  <a:srgbClr val="000000"/>
                </a:solidFill>
                <a:latin typeface="Tahoma"/>
              </a:rPr>
              <a:t> (business tendency surveys) nazywane również badaniami opinii gospodarczej (biznesowej) lub badaniami klimatu gospodarczego (biznesowego) polegają  na wnioskowaniu o aktywności gospodarczej na podstawie wyników ankietyzacji kierowników przedsiębiorstw oraz konsumentów na temat bieżącej sytuacji ich firm (gospodarstw domowych) oraz ich planów  </a:t>
            </a:r>
            <a:br>
              <a:rPr sz="2100"/>
            </a:br>
            <a:r>
              <a:rPr b="0" lang="pl-PL" sz="2100" spc="-1" strike="noStrike">
                <a:solidFill>
                  <a:srgbClr val="000000"/>
                </a:solidFill>
                <a:latin typeface="Tahoma"/>
              </a:rPr>
              <a:t>i oczekiwań na najbliższą przyszłość.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100" spc="-1" strike="noStrike">
                <a:solidFill>
                  <a:srgbClr val="000000"/>
                </a:solidFill>
                <a:latin typeface="Tahoma"/>
              </a:rPr>
              <a:t>Do rozpowszechnienia ocen koniunktury gospodarczej w wyniku bezpośrednich badań ankietowych przyczyniły się w Europie zachodniej instytuty badawcze, wśród których najważniejszą rolę odegrały: 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"/>
          <p:cNvSpPr/>
          <p:nvPr/>
        </p:nvSpPr>
        <p:spPr>
          <a:xfrm>
            <a:off x="755640" y="4508640"/>
            <a:ext cx="72010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3880" indent="-353880"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IFO - Institut fűr Wirtschuftsforschung w Monachium,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53880" indent="-353880"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Institut National de la Statistique et des Etudes Economiques (INSEE) w Paryżu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53880" indent="-353880"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Instituto Nationale per lo Studio della Congiuntara (ISCO) w Rzymi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cover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68000" y="304920"/>
            <a:ext cx="8496360" cy="16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300" spc="-1" strike="noStrike">
                <a:solidFill>
                  <a:srgbClr val="000000"/>
                </a:solidFill>
                <a:latin typeface="Tahoma"/>
              </a:rPr>
              <a:t>Czy Pana(i) zdaniem wprowadzone w ramach przepisów układu z Schengen wizy dla obywateli Ukrainy wpłynęły na gospodarkę województwa lubelskiego:</a:t>
            </a:r>
            <a:endParaRPr b="1" lang="en-US" sz="23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674640" y="2290680"/>
          <a:ext cx="8001000" cy="3659400"/>
        </p:xfrm>
        <a:graphic>
          <a:graphicData uri="http://schemas.openxmlformats.org/drawingml/2006/table">
            <a:tbl>
              <a:tblPr/>
              <a:tblGrid>
                <a:gridCol w="3167280"/>
                <a:gridCol w="2339640"/>
                <a:gridCol w="2494080"/>
              </a:tblGrid>
              <a:tr h="889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dpowied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 kwartał 2008 (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I kwartał 2008 (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8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Bardzo niekorzystnie: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	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1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8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iekorzystnie: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	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	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1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8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ie miały wpływu: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	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8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Korzystnie: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	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	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gół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0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0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cover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94920" y="333360"/>
            <a:ext cx="8497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100" spc="-1" strike="noStrike">
                <a:solidFill>
                  <a:srgbClr val="000000"/>
                </a:solidFill>
                <a:latin typeface="Tahoma"/>
              </a:rPr>
              <a:t>Modele uporządkowanych zmiennych objaśnianych opisu-jących oceny zmian sytuacji gospodarczej w województwie </a:t>
            </a:r>
            <a:br>
              <a:rPr sz="2100"/>
            </a:br>
            <a:r>
              <a:rPr b="1" lang="pl-PL" sz="2100" spc="-1" strike="noStrike">
                <a:solidFill>
                  <a:srgbClr val="000000"/>
                </a:solidFill>
                <a:latin typeface="Tahoma"/>
              </a:rPr>
              <a:t>w bieżącym kwartale w porównaniu z poprzednim kwartałem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66280" y="1844640"/>
            <a:ext cx="8326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370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100" spc="-1" strike="noStrike">
                <a:solidFill>
                  <a:srgbClr val="000000"/>
                </a:solidFill>
                <a:latin typeface="Tahoma"/>
              </a:rPr>
              <a:t>Respondenci mają trzy możliwości odpowiedzi: 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437040" indent="-437040"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100" spc="-1" strike="noStrike">
                <a:solidFill>
                  <a:srgbClr val="000000"/>
                </a:solidFill>
                <a:latin typeface="Tahoma"/>
              </a:rPr>
              <a:t>sytuacja pogorszyła się, 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437040" indent="-437040"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100" spc="-1" strike="noStrike">
                <a:solidFill>
                  <a:srgbClr val="000000"/>
                </a:solidFill>
                <a:latin typeface="Tahoma"/>
              </a:rPr>
              <a:t>sytuacja nie uległa zmianie, 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437040" indent="-437040"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100" spc="-1" strike="noStrike">
                <a:solidFill>
                  <a:srgbClr val="000000"/>
                </a:solidFill>
                <a:latin typeface="Tahoma"/>
              </a:rPr>
              <a:t>sytuacja poprawiła się.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43704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437040" indent="0">
              <a:lnSpc>
                <a:spcPct val="11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100" spc="-1" strike="noStrike">
                <a:solidFill>
                  <a:srgbClr val="000000"/>
                </a:solidFill>
                <a:latin typeface="Tahoma"/>
              </a:rPr>
              <a:t>Zmienna objaśniana przyjmuje trzy porangowane od najmniejszej </a:t>
            </a:r>
            <a:br>
              <a:rPr sz="2100"/>
            </a:br>
            <a:r>
              <a:rPr b="0" lang="pl-PL" sz="2100" spc="-1" strike="noStrike">
                <a:solidFill>
                  <a:srgbClr val="000000"/>
                </a:solidFill>
                <a:latin typeface="Tahoma"/>
              </a:rPr>
              <a:t>do największej wartości, dla których nie są znane odległości pomiędzy sąsiednimi rangami. W takiej sytuacji najwłaściwszym sposobem wyjaśniania przyczyn zmienności zmiennej objaśnianej (przyczyn różnych odpowiedzi respondentów) jest zastosowanie </a:t>
            </a:r>
            <a:r>
              <a:rPr b="1" lang="pl-PL" sz="2100" spc="-1" strike="noStrike">
                <a:solidFill>
                  <a:srgbClr val="000000"/>
                </a:solidFill>
                <a:latin typeface="Tahoma"/>
              </a:rPr>
              <a:t>modeli uporządkowanej zmiennej objaśnianej</a:t>
            </a:r>
            <a:r>
              <a:rPr b="0" lang="pl-PL" sz="21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pl-PL" sz="2100" spc="-1" strike="noStrike">
                <a:solidFill>
                  <a:srgbClr val="000000"/>
                </a:solidFill>
                <a:latin typeface="Tahoma"/>
              </a:rPr>
              <a:t>ordered dependent variable models</a:t>
            </a:r>
            <a:r>
              <a:rPr b="0" lang="pl-PL" sz="2100" spc="-1" strike="noStrike">
                <a:solidFill>
                  <a:srgbClr val="000000"/>
                </a:solidFill>
                <a:latin typeface="Tahoma"/>
              </a:rPr>
              <a:t>). 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cover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566280" y="620640"/>
            <a:ext cx="800100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11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Tahoma"/>
              </a:rPr>
              <a:t>Przyjmuje się natomiast iż każdy respondent buduje własny model – ukrytej zmiennej objaśnianej (</a:t>
            </a:r>
            <a:r>
              <a:rPr b="0" i="1" lang="pl-PL" sz="2200" spc="-1" strike="noStrike">
                <a:solidFill>
                  <a:srgbClr val="000000"/>
                </a:solidFill>
                <a:latin typeface="Tahoma"/>
              </a:rPr>
              <a:t>latent variable</a:t>
            </a:r>
            <a:r>
              <a:rPr b="0" lang="pl-PL" sz="22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i="1" lang="pl-PL" sz="22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pl-PL" sz="2200" spc="-1" strike="noStrike">
                <a:solidFill>
                  <a:srgbClr val="000000"/>
                </a:solidFill>
                <a:latin typeface="Tahoma"/>
              </a:rPr>
              <a:t>*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2987640" y="1773360"/>
                <a:ext cx="2952720" cy="96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  <m:sup/>
                    </m:sSubSup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39" name=""/>
          <p:cNvSpPr/>
          <p:nvPr/>
        </p:nvSpPr>
        <p:spPr>
          <a:xfrm>
            <a:off x="598680" y="2852640"/>
            <a:ext cx="81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dzie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1065240" y="3429000"/>
                <a:ext cx="41436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  <m:sup/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1042920" y="4005360"/>
                <a:ext cx="4921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1135080" y="5229360"/>
                <a:ext cx="3412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43" name=""/>
          <p:cNvSpPr/>
          <p:nvPr/>
        </p:nvSpPr>
        <p:spPr>
          <a:xfrm>
            <a:off x="1835280" y="3500280"/>
            <a:ext cx="67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artość ukrytej zmiennej objaśnianej dla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tego respondenta,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"/>
          <p:cNvSpPr/>
          <p:nvPr/>
        </p:nvSpPr>
        <p:spPr>
          <a:xfrm>
            <a:off x="2050920" y="4149720"/>
            <a:ext cx="6050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ktor wartości zmiennych objaśniających dla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tego respondenta, w tym jego ocena wpływu na gospodarkę województwa wprowadzenia wiz dla obywateli Ukrain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077920" y="5302080"/>
            <a:ext cx="192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kładnik losowy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cover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0010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Tahoma"/>
              </a:rPr>
              <a:t>Wartość uporządkowanej zmiennej objaśnianej  </a:t>
            </a:r>
            <a:r>
              <a:rPr b="0" i="1" lang="pl-PL" sz="22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pl-PL" sz="22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pl-PL" sz="2200" spc="-1" strike="noStrike">
                <a:solidFill>
                  <a:srgbClr val="000000"/>
                </a:solidFill>
                <a:latin typeface="Tahoma"/>
              </a:rPr>
              <a:t> zależy więc od wartości zmiennej ukrytej </a:t>
            </a:r>
            <a:r>
              <a:rPr b="0" i="1" lang="pl-PL" sz="22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pl-PL" sz="2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pl-PL" sz="2200" spc="-1" strike="noStrike">
                <a:solidFill>
                  <a:srgbClr val="000000"/>
                </a:solidFill>
                <a:latin typeface="Tahoma"/>
              </a:rPr>
              <a:t>*</a:t>
            </a:r>
            <a:r>
              <a:rPr b="0" lang="pl-PL" sz="2200" spc="-1" strike="noStrike">
                <a:solidFill>
                  <a:srgbClr val="000000"/>
                </a:solidFill>
                <a:latin typeface="Tahoma"/>
              </a:rPr>
              <a:t>  zgodnie z regułą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299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2411280" y="2924280"/>
                <a:ext cx="3745080" cy="18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 dla  </m:t>
                              </m:r>
                              <m:sSubSup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  <m:sup/>
                              </m:sSubSup>
                              <m:r>
                                <m:t xml:space="preserve">≤</m:t>
                              </m:r>
                              <m:sSub>
                                <m:e>
                                  <m:r>
                                    <m:t xml:space="preserve">γ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2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  dla  </m:t>
                              </m:r>
                              <m:sSub>
                                <m:e>
                                  <m:r>
                                    <m:t xml:space="preserve">γ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&lt;</m:t>
                              </m:r>
                              <m:sSubSup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  <m:sup/>
                              </m:sSubSup>
                              <m:r>
                                <m:t xml:space="preserve">≤</m:t>
                              </m:r>
                              <m:sSub>
                                <m:e>
                                  <m:r>
                                    <m:t xml:space="preserve">γ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3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 dla  </m:t>
                              </m:r>
                              <m:sSub>
                                <m:e>
                                  <m:r>
                                    <m:t xml:space="preserve">γ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&lt;</m:t>
                              </m:r>
                              <m:sSubSup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  <m:sup/>
                              </m:sSubSup>
                              <m:r>
                                <m:t xml:space="preserve">≤</m:t>
                              </m:r>
                              <m:sSub>
                                <m:e>
                                  <m:r>
                                    <m:t xml:space="preserve">γ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>
    <p:cover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ahoma"/>
              </a:rPr>
              <a:t>Logitowy model czasowo - przekrojowy uporządkowanej zmiennej objaśnianej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66640" y="1465200"/>
            <a:ext cx="8398080" cy="131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Tahoma"/>
              </a:rPr>
              <a:t>W prezentowanych rozważaniach przyjmujemy, że funkcja według której respondent podejmuje decyzje jest  liniowym modelem logitowym czasowo-przekrojowym  postaci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1619280" y="2421000"/>
                <a:ext cx="5545080" cy="110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rPr>
                        <m:lit/>
                        <m:nor/>
                      </m:rPr>
                      <m:t xml:space="preserve">it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t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t</m:t>
                    </m:r>
                    <m:r>
                      <m:t xml:space="preserve">+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k</m:t>
                        </m:r>
                      </m:sup>
                      <m:e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tj</m:t>
                            </m:r>
                          </m:sub>
                        </m:sSub>
                      </m:e>
                    </m:nary>
                    <m:r>
                      <m:t xml:space="preserve">+</m:t>
                    </m:r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54" name=""/>
          <p:cNvSpPr/>
          <p:nvPr/>
        </p:nvSpPr>
        <p:spPr>
          <a:xfrm>
            <a:off x="598680" y="3284640"/>
            <a:ext cx="81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dzie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723960" y="3724200"/>
                <a:ext cx="39204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57" name=""/>
          <p:cNvSpPr/>
          <p:nvPr/>
        </p:nvSpPr>
        <p:spPr>
          <a:xfrm>
            <a:off x="1187280" y="3651120"/>
            <a:ext cx="7561440" cy="21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zmienna objaśniana przyjmująca wartość </a:t>
            </a: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 jeśli </a:t>
            </a:r>
            <a:r>
              <a:rPr b="0" i="1" lang="en-US" sz="17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-ty respondent odpowiedział iż w kwartale </a:t>
            </a:r>
            <a:r>
              <a:rPr b="0" i="1" lang="en-US" sz="17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 w porównaniu z kwartałem </a:t>
            </a:r>
            <a:r>
              <a:rPr b="0" i="1" lang="en-US" sz="17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  – 1 sytuacja gospodarcza  województwa pogorszyła się, wartość </a:t>
            </a: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2 </a:t>
            </a: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jeśli </a:t>
            </a:r>
            <a:r>
              <a:rPr b="0" i="1" lang="en-US" sz="1700" spc="-1" strike="noStrike">
                <a:solidFill>
                  <a:srgbClr val="000000"/>
                </a:solidFill>
                <a:latin typeface="Tahoma"/>
              </a:rPr>
              <a:t>i‑</a:t>
            </a: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ty respondent odpowiedział 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iż w kwartale </a:t>
            </a:r>
            <a:r>
              <a:rPr b="0" i="1" lang="en-US" sz="17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  w porównaniu z kwartałem </a:t>
            </a:r>
            <a:r>
              <a:rPr b="0" i="1" lang="en-US" sz="17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 – 1 sytuacja gospodarcza województwa nie uległa zmianie oraz wartość </a:t>
            </a: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 jeśli </a:t>
            </a:r>
            <a:r>
              <a:rPr b="0" i="1" lang="en-US" sz="1700" spc="-1" strike="noStrike">
                <a:solidFill>
                  <a:srgbClr val="000000"/>
                </a:solidFill>
                <a:latin typeface="Tahoma"/>
              </a:rPr>
              <a:t>i-</a:t>
            </a: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ty respondent odpowiedział iż w kwartale </a:t>
            </a:r>
            <a:r>
              <a:rPr b="0" i="1" lang="en-US" sz="17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  w porównaniu z kwartałem </a:t>
            </a:r>
            <a:r>
              <a:rPr b="0" i="1" lang="en-US" sz="17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 – 1 sytuacja gospodarcza  województwa poprawiła się,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826920" y="5589720"/>
                <a:ext cx="21456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0" name=""/>
          <p:cNvSpPr/>
          <p:nvPr/>
        </p:nvSpPr>
        <p:spPr>
          <a:xfrm>
            <a:off x="1134000" y="5589720"/>
            <a:ext cx="186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numer kwartału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684360" y="6078600"/>
                <a:ext cx="48888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t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63" name=""/>
          <p:cNvSpPr/>
          <p:nvPr/>
        </p:nvSpPr>
        <p:spPr>
          <a:xfrm>
            <a:off x="1187280" y="6021360"/>
            <a:ext cx="729000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700" spc="-1" strike="noStrike">
                <a:solidFill>
                  <a:srgbClr val="000000"/>
                </a:solidFill>
                <a:latin typeface="Tahoma"/>
              </a:rPr>
              <a:t>j</a:t>
            </a:r>
            <a:r>
              <a:rPr b="0" lang="pl-PL" sz="1700" spc="-1" strike="noStrike">
                <a:solidFill>
                  <a:srgbClr val="000000"/>
                </a:solidFill>
                <a:latin typeface="Tahoma"/>
              </a:rPr>
              <a:t>-ta zmienna objaśniająca, opisująca indywidualne cechy (odpowiedzi)  </a:t>
            </a:r>
            <a:br>
              <a:rPr sz="1700"/>
            </a:br>
            <a:r>
              <a:rPr b="0" i="1" lang="pl-PL" sz="17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pl-PL" sz="1700" spc="-1" strike="noStrike">
                <a:solidFill>
                  <a:srgbClr val="000000"/>
                </a:solidFill>
                <a:latin typeface="Tahoma"/>
              </a:rPr>
              <a:t>-tego respondenta w kwartale (zmienna idiosynkratyczna),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cover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awdopodobieństwa wystąpienia każdej z rang zmiennej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3052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611280" y="2060640"/>
                <a:ext cx="7848360" cy="14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rPr>
                              <m:lit/>
                              <m:nor/>
                            </m:rPr>
                            <m:t xml:space="preserve">Pr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  <m:r>
                                <m:t xml:space="preserve">|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  <m:r>
                                <m:t xml:space="preserve">,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param</m:t>
                              </m:r>
                              <m:r>
                                <m:t xml:space="preserve">,</m:t>
                              </m:r>
                              <m:r>
                                <m:t xml:space="preserve">γ</m:t>
                              </m:r>
                            </m:e>
                          </m:d>
                          <m:r>
                            <m:t xml:space="preserve">=</m:t>
                          </m:r>
                          <m:r>
                            <m:t xml:space="preserve">F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sSub>
                                <m:e>
                                  <m:r>
                                    <m:t xml:space="preserve">γ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log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it</m:t>
                              </m:r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</m:e>
                          </m:d>
                        </m:e>
                      </m:mr>
                      <m:mr>
                        <m:e>
                          <m:r>
                            <m:rPr>
                              <m:lit/>
                              <m:nor/>
                            </m:rPr>
                            <m:t xml:space="preserve">Pr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r>
                                <m:t xml:space="preserve">2</m:t>
                              </m:r>
                              <m:r>
                                <m:t xml:space="preserve">|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  <m:r>
                                <m:t xml:space="preserve">,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param</m:t>
                              </m:r>
                              <m:r>
                                <m:t xml:space="preserve">,</m:t>
                              </m:r>
                              <m:r>
                                <m:t xml:space="preserve">γ</m:t>
                              </m:r>
                            </m:e>
                          </m:d>
                          <m:r>
                            <m:t xml:space="preserve">=</m:t>
                          </m:r>
                          <m:r>
                            <m:t xml:space="preserve">F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sSub>
                                <m:e>
                                  <m:r>
                                    <m:t xml:space="preserve">γ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log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it</m:t>
                              </m:r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</m:e>
                          </m:d>
                          <m:r>
                            <m:t xml:space="preserve">−</m:t>
                          </m:r>
                          <m:r>
                            <m:t xml:space="preserve">F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sSub>
                                <m:e>
                                  <m:r>
                                    <m:t xml:space="preserve">γ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log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it</m:t>
                              </m:r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</m:e>
                          </m:d>
                        </m:e>
                      </m:mr>
                      <m:mr>
                        <m:e>
                          <m:r>
                            <m:rPr>
                              <m:lit/>
                              <m:nor/>
                            </m:rPr>
                            <m:t xml:space="preserve">Pr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r>
                                <m:t xml:space="preserve">3</m:t>
                              </m:r>
                              <m:r>
                                <m:t xml:space="preserve">|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  <m:r>
                                <m:t xml:space="preserve">,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param</m:t>
                              </m:r>
                              <m:r>
                                <m:t xml:space="preserve">,</m:t>
                              </m:r>
                              <m:r>
                                <m:t xml:space="preserve">γ</m:t>
                              </m:r>
                            </m:e>
                          </m:d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  <m:r>
                            <m:t xml:space="preserve">−</m:t>
                          </m:r>
                          <m:r>
                            <m:t xml:space="preserve">F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sSub>
                                <m:e>
                                  <m:r>
                                    <m:t xml:space="preserve">γ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log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it</m:t>
                              </m:r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</m:e>
                          </m:d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167" name=""/>
          <p:cNvSpPr/>
          <p:nvPr/>
        </p:nvSpPr>
        <p:spPr>
          <a:xfrm>
            <a:off x="491760" y="4076640"/>
            <a:ext cx="515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zy czym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to dystrybuanta zmiennej losowej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5435640" y="4149720"/>
                <a:ext cx="249120" cy="2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0" name=""/>
          <p:cNvSpPr/>
          <p:nvPr/>
        </p:nvSpPr>
        <p:spPr>
          <a:xfrm>
            <a:off x="611280" y="4745160"/>
            <a:ext cx="7632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ielkości             są punktami granicznymi i są szacowane łącznie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z parametrami modelu za pomocą metody największej wiarygodności poprzez maksymalizację logarytmu wiarygodności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1763640" y="4795920"/>
                <a:ext cx="647640" cy="36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γ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γ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p:transition>
    <p:cover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468360" y="1738440"/>
            <a:ext cx="8096040" cy="35622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3457440" y="3235320"/>
            <a:ext cx="1800" cy="2425680"/>
          </a:xfrm>
          <a:prstGeom prst="line">
            <a:avLst/>
          </a:prstGeom>
          <a:ln w="1260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5964120" y="3284640"/>
            <a:ext cx="0" cy="2952720"/>
          </a:xfrm>
          <a:prstGeom prst="line">
            <a:avLst/>
          </a:prstGeom>
          <a:ln w="1260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3551400" y="1111320"/>
                <a:ext cx="2315880" cy="51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  <m:r>
                          <m:t xml:space="preserve">p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p</m:t>
                        </m:r>
                        <m:r>
                          <m:t xml:space="preserve">1</m:t>
                        </m:r>
                        <m:r>
                          <m:t xml:space="preserve">=</m:t>
                        </m:r>
                        <m:r>
                          <m:t xml:space="preserve">p</m:t>
                        </m:r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  <m:r>
                          <m:t xml:space="preserve">d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7" name=""/>
          <p:cNvSpPr/>
          <p:nvPr/>
        </p:nvSpPr>
        <p:spPr>
          <a:xfrm flipV="1">
            <a:off x="4716360" y="1699920"/>
            <a:ext cx="0" cy="431640"/>
          </a:xfrm>
          <a:prstGeom prst="line">
            <a:avLst/>
          </a:prstGeom>
          <a:ln w="12600">
            <a:solidFill>
              <a:srgbClr val="808080"/>
            </a:solidFill>
            <a:prstDash val="dash"/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"/>
          <p:cNvSpPr/>
          <p:nvPr/>
        </p:nvSpPr>
        <p:spPr>
          <a:xfrm rot="16200000">
            <a:off x="4096440" y="4759920"/>
            <a:ext cx="79200" cy="1179720"/>
          </a:xfrm>
          <a:custGeom>
            <a:avLst/>
            <a:gdLst>
              <a:gd name="textAreaLeft" fmla="*/ 50760 w 79200"/>
              <a:gd name="textAreaRight" fmla="*/ 79560 w 79200"/>
              <a:gd name="textAreaTop" fmla="*/ 30600 h 1179720"/>
              <a:gd name="textAreaBottom" fmla="*/ 1149120 h 1179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 rot="16200000">
            <a:off x="5321160" y="4767120"/>
            <a:ext cx="80640" cy="1166760"/>
          </a:xfrm>
          <a:custGeom>
            <a:avLst/>
            <a:gdLst>
              <a:gd name="textAreaLeft" fmla="*/ 51480 w 80640"/>
              <a:gd name="textAreaRight" fmla="*/ 81000 w 80640"/>
              <a:gd name="textAreaTop" fmla="*/ 30240 h 1166760"/>
              <a:gd name="textAreaBottom" fmla="*/ 1136520 h 1166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1765440" y="5518080"/>
                <a:ext cx="699840" cy="25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2441520" y="5372280"/>
                <a:ext cx="762120" cy="51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p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d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6237360" y="5518080"/>
                <a:ext cx="731880" cy="25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6927840" y="5372280"/>
                <a:ext cx="884160" cy="51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p</m:t>
                        </m:r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d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468360" y="5877000"/>
                <a:ext cx="27939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p</m:t>
                        </m:r>
                        <m:r>
                          <m:t xml:space="preserve">1</m:t>
                        </m:r>
                        <m:r>
                          <m:t xml:space="preserve">=</m:t>
                        </m:r>
                        <m:r>
                          <m:t xml:space="preserve">p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d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4140360" y="3719520"/>
                <a:ext cx="121896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p</m:t>
                        </m:r>
                        <m:r>
                          <m:t xml:space="preserve">1</m:t>
                        </m:r>
                        <m:r>
                          <m:t xml:space="preserve">=</m:t>
                        </m:r>
                        <m:r>
                          <m:t xml:space="preserve">p</m:t>
                        </m:r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  <m:r>
                          <m:t xml:space="preserve">d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8" name=""/>
          <p:cNvSpPr/>
          <p:nvPr/>
        </p:nvSpPr>
        <p:spPr>
          <a:xfrm>
            <a:off x="4735440" y="4048200"/>
            <a:ext cx="0" cy="493560"/>
          </a:xfrm>
          <a:prstGeom prst="line">
            <a:avLst/>
          </a:prstGeom>
          <a:ln w="1260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6215040" y="5877000"/>
                <a:ext cx="210204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p</m:t>
                        </m:r>
                        <m:r>
                          <m:t xml:space="preserve">2</m:t>
                        </m:r>
                        <m:r>
                          <m:t xml:space="preserve">=</m:t>
                        </m:r>
                        <m:r>
                          <m:t xml:space="preserve">p</m:t>
                        </m:r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d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0" name=""/>
          <p:cNvSpPr/>
          <p:nvPr/>
        </p:nvSpPr>
        <p:spPr>
          <a:xfrm flipV="1">
            <a:off x="5972040" y="6237000"/>
            <a:ext cx="255600" cy="6120"/>
          </a:xfrm>
          <a:prstGeom prst="line">
            <a:avLst/>
          </a:prstGeom>
          <a:ln w="1260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"/>
          <p:cNvSpPr/>
          <p:nvPr/>
        </p:nvSpPr>
        <p:spPr>
          <a:xfrm>
            <a:off x="3241800" y="6164280"/>
            <a:ext cx="250560" cy="0"/>
          </a:xfrm>
          <a:prstGeom prst="line">
            <a:avLst/>
          </a:prstGeom>
          <a:ln w="1260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3851280" y="6183360"/>
                <a:ext cx="1790640" cy="4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sup>
                            </m:sSup>
                          </m:e>
                        </m:d>
                      </m:num>
                      <m:den>
                        <m:r>
                          <m:t xml:space="preserve">d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  <m:r>
                          <m:t xml:space="preserve">d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3" name=""/>
          <p:cNvSpPr/>
          <p:nvPr/>
        </p:nvSpPr>
        <p:spPr>
          <a:xfrm>
            <a:off x="4140360" y="5445000"/>
            <a:ext cx="0" cy="314280"/>
          </a:xfrm>
          <a:prstGeom prst="line">
            <a:avLst/>
          </a:prstGeom>
          <a:ln w="1260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"/>
          <p:cNvSpPr/>
          <p:nvPr/>
        </p:nvSpPr>
        <p:spPr>
          <a:xfrm>
            <a:off x="5364000" y="5445000"/>
            <a:ext cx="0" cy="358920"/>
          </a:xfrm>
          <a:prstGeom prst="line">
            <a:avLst/>
          </a:prstGeom>
          <a:ln w="1260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140360" y="5802480"/>
            <a:ext cx="1206360" cy="1440"/>
          </a:xfrm>
          <a:prstGeom prst="line">
            <a:avLst/>
          </a:prstGeom>
          <a:ln w="1260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"/>
          <p:cNvSpPr/>
          <p:nvPr/>
        </p:nvSpPr>
        <p:spPr>
          <a:xfrm>
            <a:off x="4768920" y="5811840"/>
            <a:ext cx="0" cy="358920"/>
          </a:xfrm>
          <a:prstGeom prst="line">
            <a:avLst/>
          </a:prstGeom>
          <a:ln w="1260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3490920" y="3284640"/>
            <a:ext cx="1440" cy="2879640"/>
          </a:xfrm>
          <a:prstGeom prst="line">
            <a:avLst/>
          </a:prstGeom>
          <a:ln w="1260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"/>
          <p:cNvSpPr/>
          <p:nvPr/>
        </p:nvSpPr>
        <p:spPr>
          <a:xfrm>
            <a:off x="5996160" y="3246480"/>
            <a:ext cx="0" cy="2414520"/>
          </a:xfrm>
          <a:prstGeom prst="line">
            <a:avLst/>
          </a:prstGeom>
          <a:ln w="1260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"/>
          <p:cNvSpPr/>
          <p:nvPr/>
        </p:nvSpPr>
        <p:spPr>
          <a:xfrm>
            <a:off x="6002280" y="5661000"/>
            <a:ext cx="225360" cy="0"/>
          </a:xfrm>
          <a:prstGeom prst="line">
            <a:avLst/>
          </a:prstGeom>
          <a:ln w="1260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3243240" y="5659560"/>
            <a:ext cx="216000" cy="1440"/>
          </a:xfrm>
          <a:prstGeom prst="line">
            <a:avLst/>
          </a:prstGeom>
          <a:ln w="1260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68000" y="304560"/>
            <a:ext cx="8351640" cy="60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ahoma"/>
              </a:rPr>
              <a:t>Rozkłady prawdopodobieństw odpowiedzi respondenta w zależności od zmian wybranej cechy (zmiennej), np. dochodu na osobę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ahoma"/>
              </a:rPr>
              <a:t>Model oceny zmian sytuacji gospodarczej w I kw. 2008 roku </a:t>
            </a:r>
            <a:br>
              <a:rPr sz="1900"/>
            </a:br>
            <a:r>
              <a:rPr b="1" lang="en-US" sz="1900" spc="-1" strike="noStrike">
                <a:solidFill>
                  <a:srgbClr val="000000"/>
                </a:solidFill>
                <a:latin typeface="Tahoma"/>
              </a:rPr>
              <a:t>w porównaniu z kwartałem poprzednim przez przedsiębiorców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566640" y="1484280"/>
          <a:ext cx="8001000" cy="4705560"/>
        </p:xfrm>
        <a:graphic>
          <a:graphicData uri="http://schemas.openxmlformats.org/drawingml/2006/table">
            <a:tbl>
              <a:tblPr/>
              <a:tblGrid>
                <a:gridCol w="4076640"/>
                <a:gridCol w="1152720"/>
                <a:gridCol w="936720"/>
                <a:gridCol w="1033200"/>
                <a:gridCol w="801720"/>
              </a:tblGrid>
              <a:tr h="396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Zmienn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oeffici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td. Err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z-Statisti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rob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</a:t>
                      </a:r>
                      <a:r>
                        <a:rPr b="0" lang="en-US" sz="1200" spc="-1" strike="noStrike" baseline="-30000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–  Zmiany wielkości produkcji (obrotów) firm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.08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.205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5.265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.0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</a:t>
                      </a:r>
                      <a:r>
                        <a:rPr b="0" lang="en-US" sz="1200" spc="-1" strike="noStrike" baseline="-30000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9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– Zmiany zatrudnienia w firmi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.00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.29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.426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.00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14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</a:t>
                      </a:r>
                      <a:r>
                        <a:rPr b="0" lang="en-US" sz="1200" spc="-1" strike="noStrike" baseline="-30000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3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– Ocena zmian poziomu bezrobocia w województwi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.59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.208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.87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.00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ahoma"/>
                          <a:ea typeface="Times New Roman"/>
                        </a:rPr>
                        <a:t>P</a:t>
                      </a:r>
                      <a:r>
                        <a:rPr b="1" lang="en-US" sz="1200" spc="-1" strike="noStrike" baseline="-30000">
                          <a:solidFill>
                            <a:srgbClr val="ff0000"/>
                          </a:solidFill>
                          <a:latin typeface="Tahoma"/>
                          <a:ea typeface="Times New Roman"/>
                        </a:rPr>
                        <a:t>15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ahoma"/>
                          <a:ea typeface="Times New Roman"/>
                        </a:rPr>
                        <a:t> – Wpływ wprowadzenia wiz na sytuację firmy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ahoma"/>
                          <a:ea typeface="Times New Roman"/>
                        </a:rPr>
                        <a:t>0.485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ahoma"/>
                          <a:ea typeface="Times New Roman"/>
                        </a:rPr>
                        <a:t>0.193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ahoma"/>
                          <a:ea typeface="Times New Roman"/>
                        </a:rPr>
                        <a:t>2.51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ahoma"/>
                          <a:ea typeface="Times New Roman"/>
                        </a:rPr>
                        <a:t>0.01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 gridSpan="5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Limit Poi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LIMIT_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5.15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.82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6.25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.0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LIMIT_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8.24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.926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8.89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.0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 gridSpan="5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cena jakości oszacowanego model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kaike info criter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chwarz criter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.804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Log likelihoo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-271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Hannan-Quinn criter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.76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str. log likelihoo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-318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vg. log likelihoo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-0.848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LR statistic (4 df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94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LR index (Pseudo-R</a:t>
                      </a:r>
                      <a:r>
                        <a:rPr b="0" lang="pl-PL" sz="1200" spc="-1" strike="noStrike" baseline="30000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.148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robability(LR stat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.0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ount R</a:t>
                      </a:r>
                      <a:r>
                        <a:rPr b="0" lang="pl-PL" sz="1200" spc="-1" strike="noStrike" baseline="30000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(%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55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cover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Wnioski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566640" y="1267920"/>
            <a:ext cx="825336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 algn="just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 modelach ocen sytuacji gospodarczej przez przedsiębiorców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 obu kwartałach i przez mieszkańców w I kwartale znaki oszacowanych parametrów przy zmiennych opisujących decyzj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 wprowadzeniu wiz są zgodnie z oczekiwaniami dodatnie co oznacza, że im gorzej respondent oceniał decyzję o wprowadzeniu wiz tym gorzej oceniał także zmiany sytuacji gospodarczej województwa w danym kwartale.  Jednak tylko w modelu ocen zmian sytuacji gospodarczej województwa przez przedsiębiorców w I kwartale 2008 roku parametr był istotny statystycznie na poziomie istotności 0.05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szacowane modele skłaniają więc do wniosku, że chociaż mieszkańcy i przedsiębiorcy widzą niekorzystny wpływ decyzji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 wprowadzeniu wiz dla obywateli Ukrainy na gospodarkę województwa lubelskiego  to jednak, zwłaszcza w II kwartale nie te decyzje miały największe znaczenie dla dokonanych przez nich ocen zmian sytuacji gospodarczej regionu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cover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35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ahoma"/>
              </a:rPr>
              <a:t>Dziękuję za uwagę</a:t>
            </a:r>
            <a:endParaRPr b="1" lang="en-US" sz="2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cover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324000" y="1052640"/>
            <a:ext cx="842472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Comité International pour l’Etude des mathodes Conjoncturelles (CIMCO)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IMCO przemianowano na Centre for International Research on Economic Tendency Surveys (CIRET):  </a:t>
            </a:r>
            <a:r>
              <a:rPr b="0" lang="en-US" sz="2000" spc="-1" strike="noStrike" u="sng">
                <a:solidFill>
                  <a:srgbClr val="336699"/>
                </a:solidFill>
                <a:uFillTx/>
                <a:latin typeface="Tahoma"/>
                <a:hlinkClick r:id="rId2"/>
              </a:rPr>
              <a:t>www.ciret.or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 którego sekretariat prowadzi obecnie Swiss Institute for Business Cycle Research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 Zurichu</a:t>
            </a: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 a którego od 2006 roku członkiem jest WSZi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Ważne miejsce w upowszechnianiu  badań nastrojów gospodarczych zajmuje także Dyrekcja Generalna Gospodarki i Finansów Komisji Europejskiej propagująca wdrażanie zharmonizowanego systemu badań (Directorate General for Economic and Financial Affairs):  http://europa.et.int/comm/dgs/economy_finance/index_en.htm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Obecnie badania nastrojów gospodarczych prowadzone są w ponad pięćdziesięciu krajach w tym we wszystkich krajach członkowskich OECD oraz Unii Europejskiej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cover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00000" y="907920"/>
            <a:ext cx="756936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adania nastrojów gospodarczych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w województwie lubelskim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6920" y="2420640"/>
            <a:ext cx="73803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adania prowadzone są od II kwartału 2001 roku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 każdym kwartale ankietowanych jest 320 przedsiębiorstw i 350 gospodarstw domowych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otychczas przeprowadzono 29 badań i zebrano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onad 9 tys. ankiet z przedsiębiorstw i ponad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10 tys. ankiet z gospodarstw domowych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cover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rkusz ankiety – rodzaje pytań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37720" cy="477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55400" indent="-4554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ytania diagnostyczn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880560" indent="-423000"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k oceniają Państwo obecną sytuację finansową swojego gospodarstwa domowego w porównaniu z sytuacją sprzed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 miesięcy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265760" indent="-383400"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prawiła się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265760" indent="-383400"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ie zmieniła się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265760" indent="-383400"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gorszyła się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26576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5400" indent="-4554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ytania prognostyczn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880560" indent="-423000"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k przewidują Państwo sytuację finansową swojego gospodarstwa domowego w ciągu najbliższych 3 miesięcy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265760" indent="-383400"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prawi się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265760" indent="-383400"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ie zmieni się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265760" indent="-383400"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gorszy się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39360" y="388440"/>
            <a:ext cx="773604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rkusz ankiety przedsiębiorstwa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20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(pytania diagnostyczne, branża przemysł)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9280" y="1196640"/>
            <a:ext cx="832644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375840" indent="-3758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Czy sytuacja finansowa przedsiębiorstwa w bieżącym kwartale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w porównaniu z poprzednim kwartałem uległa …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75840" indent="-3758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Czy wielkość produkcji sprzedanej w bieżącym kwartale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w porównaniu z poprzednim  kwartałem uległa …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75840" indent="-3758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Czy poziom zamówień w bieżącym kwartale w porównaniu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z poprzednim kwartałem uległ …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75840" indent="-3758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Czy poziom zapasów wyrobów gotowych w bieżącym kwartale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w porównaniu z poprzednim kwartałem był …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75840" indent="-3758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Czy wielkość zatrudnienia w bieżącym kwartale w porównaniu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z poprzednim  kwartałem uległa …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75840" indent="-3758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Jak oceniają Państwo obecną sytuację gospodarczą w województwie lubelskim w porównaniu z poprzednim kwartałem …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75840" indent="-3758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Jak oceniają Państwo poziom bezrobocia w województwie lubelskim w porównaniu z poprzednim kwartałem …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75840" indent="-3758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99"/>
                </a:solidFill>
                <a:latin typeface="Tahoma"/>
              </a:rPr>
              <a:t>Czy wprowadzone w ramach przepisów Schengen wizy dla obywateli Ukrainy wpłynęły na sytuację Pana(i) firmy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75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66cc"/>
                </a:solidFill>
                <a:latin typeface="Tahoma"/>
              </a:rPr>
              <a:t>	</a:t>
            </a:r>
            <a:r>
              <a:rPr b="0" lang="pl-PL" sz="2000" spc="-1" strike="noStrike">
                <a:solidFill>
                  <a:srgbClr val="0066cc"/>
                </a:solidFill>
                <a:latin typeface="Tahoma"/>
              </a:rPr>
              <a:t>	</a:t>
            </a:r>
            <a:r>
              <a:rPr b="0" lang="pl-PL" sz="2000" spc="-1" strike="noStrike">
                <a:solidFill>
                  <a:srgbClr val="0066cc"/>
                </a:solidFill>
                <a:latin typeface="Tahoma"/>
              </a:rPr>
              <a:t>- bardzo niekorzystnie </a:t>
            </a:r>
            <a:r>
              <a:rPr b="0" lang="pl-PL" sz="2000" spc="-1" strike="noStrike">
                <a:solidFill>
                  <a:srgbClr val="0066cc"/>
                </a:solidFill>
                <a:latin typeface="Tahoma"/>
              </a:rPr>
              <a:t>	</a:t>
            </a:r>
            <a:r>
              <a:rPr b="0" lang="pl-PL" sz="2000" spc="-1" strike="noStrike">
                <a:solidFill>
                  <a:srgbClr val="0066cc"/>
                </a:solidFill>
                <a:latin typeface="Tahoma"/>
              </a:rPr>
              <a:t>	</a:t>
            </a:r>
            <a:r>
              <a:rPr b="0" lang="pl-PL" sz="2000" spc="-1" strike="noStrike">
                <a:solidFill>
                  <a:srgbClr val="0066cc"/>
                </a:solidFill>
                <a:latin typeface="Tahoma"/>
              </a:rPr>
              <a:t>- niekorzystnie </a:t>
            </a:r>
            <a:br>
              <a:rPr sz="2000"/>
            </a:br>
            <a:r>
              <a:rPr b="0" lang="pl-PL" sz="2000" spc="-1" strike="noStrike">
                <a:solidFill>
                  <a:srgbClr val="0066cc"/>
                </a:solidFill>
                <a:latin typeface="Tahoma"/>
              </a:rPr>
              <a:t>	</a:t>
            </a:r>
            <a:r>
              <a:rPr b="0" lang="pl-PL" sz="2000" spc="-1" strike="noStrike">
                <a:solidFill>
                  <a:srgbClr val="0066cc"/>
                </a:solidFill>
                <a:latin typeface="Tahoma"/>
              </a:rPr>
              <a:t>- nie miały wpływu </a:t>
            </a:r>
            <a:r>
              <a:rPr b="0" lang="pl-PL" sz="2000" spc="-1" strike="noStrike">
                <a:solidFill>
                  <a:srgbClr val="0066cc"/>
                </a:solidFill>
                <a:latin typeface="Tahoma"/>
              </a:rPr>
              <a:t>	</a:t>
            </a:r>
            <a:r>
              <a:rPr b="0" lang="pl-PL" sz="2000" spc="-1" strike="noStrike">
                <a:solidFill>
                  <a:srgbClr val="0066cc"/>
                </a:solidFill>
                <a:latin typeface="Tahoma"/>
              </a:rPr>
              <a:t>	</a:t>
            </a:r>
            <a:r>
              <a:rPr b="0" lang="pl-PL" sz="2000" spc="-1" strike="noStrike">
                <a:solidFill>
                  <a:srgbClr val="0066cc"/>
                </a:solidFill>
                <a:latin typeface="Tahoma"/>
              </a:rPr>
              <a:t>- korzystni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593280"/>
            <a:ext cx="800100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iczebności próbek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971640" y="1246320"/>
          <a:ext cx="7272360" cy="2160360"/>
        </p:xfrm>
        <a:graphic>
          <a:graphicData uri="http://schemas.openxmlformats.org/drawingml/2006/table">
            <a:tbl>
              <a:tblPr/>
              <a:tblGrid>
                <a:gridCol w="3960720"/>
                <a:gridCol w="3311640"/>
              </a:tblGrid>
              <a:tr h="498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Branż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Liczba przedsiębiorst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73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Przemys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91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Budownictw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73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Hand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Usługi komercyj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5" name=""/>
          <p:cNvSpPr/>
          <p:nvPr/>
        </p:nvSpPr>
        <p:spPr>
          <a:xfrm>
            <a:off x="539640" y="3429000"/>
            <a:ext cx="8209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ruktura badanych przedsiębiorstw według branż</a:t>
            </a:r>
            <a:r>
              <a:rPr b="1" lang="en-US" sz="23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971640" y="4005360"/>
          <a:ext cx="7345440" cy="2498760"/>
        </p:xfrm>
        <a:graphic>
          <a:graphicData uri="http://schemas.openxmlformats.org/drawingml/2006/table">
            <a:tbl>
              <a:tblPr/>
              <a:tblGrid>
                <a:gridCol w="3960720"/>
                <a:gridCol w="3384720"/>
              </a:tblGrid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Sekcja Polskiej 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Klasyfikacji Działalnośc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Struktura (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Ogół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0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Przemys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1,8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Budownictw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9,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Hand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4,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51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Usługi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4,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cover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593280"/>
            <a:ext cx="8001000" cy="96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ruktura badanych przedsiębiorstw według wielkości zatrudnienia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566640" y="2112840"/>
          <a:ext cx="8001000" cy="3332160"/>
        </p:xfrm>
        <a:graphic>
          <a:graphicData uri="http://schemas.openxmlformats.org/drawingml/2006/table">
            <a:tbl>
              <a:tblPr/>
              <a:tblGrid>
                <a:gridCol w="3262320"/>
                <a:gridCol w="2505240"/>
                <a:gridCol w="2233440"/>
              </a:tblGrid>
              <a:tr h="555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Przedsiębiorstw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Liczba pracujący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Struktura (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Ogół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0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5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ik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–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57,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4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ł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0–4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8,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Średn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50–24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0,6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Duż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50 i więcej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,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cover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560" y="304920"/>
            <a:ext cx="856944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Struktura gospodarstw domowych według dochodu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782640" y="1166760"/>
          <a:ext cx="7821720" cy="2556000"/>
        </p:xfrm>
        <a:graphic>
          <a:graphicData uri="http://schemas.openxmlformats.org/drawingml/2006/table">
            <a:tbl>
              <a:tblPr/>
              <a:tblGrid>
                <a:gridCol w="3728880"/>
                <a:gridCol w="409284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Dochó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Udział (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poniżej 100 z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tabLst>
                          <a:tab algn="l" pos="0"/>
                          <a:tab algn="dec" pos="9748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,8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00-299 z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tabLst>
                          <a:tab algn="l" pos="0"/>
                          <a:tab algn="dec" pos="9748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5,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00-599 z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tabLst>
                          <a:tab algn="l" pos="0"/>
                          <a:tab algn="dec" pos="9748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6,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00-999 z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tabLst>
                          <a:tab algn="l" pos="0"/>
                          <a:tab algn="dec" pos="9748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1,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powyżej 1000 z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tabLst>
                          <a:tab algn="l" pos="0"/>
                          <a:tab algn="dec" pos="9748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2,5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Su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tabLst>
                          <a:tab algn="l" pos="0"/>
                          <a:tab algn="dec" pos="9748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00,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1" name=""/>
          <p:cNvSpPr/>
          <p:nvPr/>
        </p:nvSpPr>
        <p:spPr>
          <a:xfrm>
            <a:off x="539640" y="3860640"/>
            <a:ext cx="8001000" cy="89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Struktura gospodarstw domowych względem miejsca zamieszkani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684360" y="4797360"/>
          <a:ext cx="7991280" cy="1825560"/>
        </p:xfrm>
        <a:graphic>
          <a:graphicData uri="http://schemas.openxmlformats.org/drawingml/2006/table">
            <a:tbl>
              <a:tblPr/>
              <a:tblGrid>
                <a:gridCol w="3740040"/>
                <a:gridCol w="4251240"/>
              </a:tblGrid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Gmi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Udział (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iejsk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0,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wiejsk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53,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iasto na prawach powiat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6,8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Su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00,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cover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06:21:20Z</dcterms:created>
  <dc:creator>Dawid Długosz</dc:creator>
  <dc:description/>
  <dc:language>en-US</dc:language>
  <cp:lastModifiedBy>mkowerski</cp:lastModifiedBy>
  <dcterms:modified xsi:type="dcterms:W3CDTF">2008-09-21T08:41:16Z</dcterms:modified>
  <cp:revision>113</cp:revision>
  <dc:subject/>
  <dc:title>Slajd 1</dc:title>
</cp:coreProperties>
</file>