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6.wmf" ContentType="image/x-wmf"/>
  <Override PartName="/ppt/media/image11.png" ContentType="image/png"/>
  <Override PartName="/ppt/media/image29.wmf" ContentType="image/x-wmf"/>
  <Override PartName="/ppt/media/image2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7.wmf" ContentType="image/x-wmf"/>
  <Override PartName="/ppt/media/image20.jpeg" ContentType="image/jpeg"/>
  <Override PartName="/ppt/media/image13.png" ContentType="image/png"/>
  <Override PartName="/ppt/media/image8.wmf" ContentType="image/x-wmf"/>
  <Override PartName="/ppt/media/image5.png" ContentType="image/png"/>
  <Override PartName="/ppt/media/image30.png" ContentType="image/png"/>
  <Override PartName="/ppt/media/image28.wmf" ContentType="image/x-wmf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2165-B3DE-4F8B-864D-37625BF2CC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4BBB-8300-473F-89FA-753EADB4B8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DBCE-2672-4A95-93BF-9780168728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B6A5-0216-4B01-B483-5CF3DF33A1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FB53-279F-4DB1-B8DB-F9E23D72682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23F8-2B6E-4BEA-8726-D568150C10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8449-09BB-41B0-83BD-263B13CC1D2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BDF2-908F-46D2-8515-0D82CD038C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703D-F807-442E-A4CB-C6ED724EE1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8BC-7753-4A9D-B4B2-94A57E64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9C3-692A-4E7F-A8EE-0D44A9BF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E6E-AAD3-4E5F-9B09-3433EA3B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134-E7DF-4C0B-BBAD-7D3A9F2B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4F8-E482-4915-B1CE-74D4362C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72E-347D-482B-A0E7-62C0E160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786-8DF1-4224-A90B-294DF730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2D1-B700-41DB-8254-EB7796E5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0D9-CC64-4E31-9AF0-780BB33D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0A8-4705-499D-B36F-D6AF3436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BCC-5609-431B-BCEB-C1D553EE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A8D-46DF-40ED-BE30-7F00129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DEDC-0F2D-47A0-8730-1EEDF169C40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Badanie interakcji transgranicznych jako wyzwanie dla statystyki publicznej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sz Komornic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7767720" y="0"/>
            <a:ext cx="137628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gipzpan"/>
          <p:cNvPicPr/>
          <p:nvPr/>
        </p:nvPicPr>
        <p:blipFill>
          <a:blip r:embed="rId2"/>
          <a:stretch/>
        </p:blipFill>
        <p:spPr>
          <a:xfrm>
            <a:off x="206280" y="59943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855800" y="5985000"/>
            <a:ext cx="264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ska Akademia Na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ytut Geograf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Przestrzennego Zagospodarow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. Twarda 51/55, 00-818 Warsza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5896080"/>
            <a:ext cx="216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ydział Biologii i Zie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t01"/>
          <p:cNvPicPr/>
          <p:nvPr/>
        </p:nvPicPr>
        <p:blipFill>
          <a:blip r:embed="rId3"/>
          <a:stretch/>
        </p:blipFill>
        <p:spPr>
          <a:xfrm>
            <a:off x="7956720" y="5734080"/>
            <a:ext cx="1079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stępność danych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717480" y="1600200"/>
          <a:ext cx="77072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600200"/>
                    <a:ext cx="7707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ane o powiązaniach wtórnych (przepływach transportowych i telekomunikacyjny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uch graniczny osób i pojazd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 2008 nie dostępne wewnątrz strefy Sch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uch graniczny towa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 2004 nie dostępny wewnatrz Unii Europej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wiązania transportu publicz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ane o ruchu drogow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ane o ruchu w sieciach telekomunikacyj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akość danych o interakcj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 zagraniczny – wys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westycje zagraniczne - umiarkow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ystyka przyjazdowa – ni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ystyka wyjazdowa - b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cje – bardzo ni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ch graniczny – była wysoka, obecnie tylko na granicy wschodni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ch drogowy – umiarkow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ność lokalna ludności (w tym przygraniczna) – b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ch w sieciach telekomunikacyjnych - b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iązania polityczne - umiarkow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Przekłamania danych z poziomu europejski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ikające z braków danych (statystyk), które są dostępne w innych kraj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ikające z błędów technicz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ikające z konieczności stosowania modeli skalibrowanych do warunków zachodnioeuropejsk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ikające z położenia geograficznego oraz z wielkości jednostek 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zykłady przekłamań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025880" cy="5516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38545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zykłady przekłamań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613320" cy="5430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8369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zykłady przekłamań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4572000" y="1428840"/>
            <a:ext cx="4390920" cy="5429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0528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zykłady badań interakc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ndel zagranicz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ysty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ch granicz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ksport 2000-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export_2000a"/>
          <p:cNvPicPr/>
          <p:nvPr/>
        </p:nvPicPr>
        <p:blipFill>
          <a:blip r:embed="rId1"/>
          <a:stretch/>
        </p:blipFill>
        <p:spPr>
          <a:xfrm>
            <a:off x="179280" y="1484280"/>
            <a:ext cx="4314960" cy="4934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export_2005a"/>
          <p:cNvPicPr/>
          <p:nvPr/>
        </p:nvPicPr>
        <p:blipFill>
          <a:blip r:embed="rId2"/>
          <a:stretch/>
        </p:blipFill>
        <p:spPr>
          <a:xfrm>
            <a:off x="4500720" y="1484280"/>
            <a:ext cx="4314600" cy="4924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800" y="1067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961920"/>
            <a:ext cx="449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961920"/>
            <a:ext cx="449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1000" y="1603440"/>
          <a:ext cx="8982000" cy="517320"/>
        </p:xfrm>
        <a:graphic>
          <a:graphicData uri="http://schemas.openxmlformats.org/drawingml/2006/table">
            <a:tbl>
              <a:tblPr/>
              <a:tblGrid>
                <a:gridCol w="4491000"/>
                <a:gridCol w="4491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5"/>
          <p:cNvSpPr/>
          <p:nvPr/>
        </p:nvSpPr>
        <p:spPr>
          <a:xfrm>
            <a:off x="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Eksport do krajów sąsiednich 2000-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legenda"/>
          <p:cNvPicPr/>
          <p:nvPr/>
        </p:nvPicPr>
        <p:blipFill>
          <a:blip r:embed="rId1"/>
          <a:stretch/>
        </p:blipFill>
        <p:spPr>
          <a:xfrm>
            <a:off x="0" y="3068640"/>
            <a:ext cx="1438200" cy="134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Niemcy_2000"/>
          <p:cNvPicPr/>
          <p:nvPr/>
        </p:nvPicPr>
        <p:blipFill>
          <a:blip r:embed="rId2"/>
          <a:stretch/>
        </p:blipFill>
        <p:spPr>
          <a:xfrm>
            <a:off x="1619280" y="1989000"/>
            <a:ext cx="2266920" cy="216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zechy_2000"/>
          <p:cNvPicPr/>
          <p:nvPr/>
        </p:nvPicPr>
        <p:blipFill>
          <a:blip r:embed="rId3"/>
          <a:stretch/>
        </p:blipFill>
        <p:spPr>
          <a:xfrm>
            <a:off x="4140360" y="1989000"/>
            <a:ext cx="2257200" cy="2162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kraina_2000"/>
          <p:cNvPicPr/>
          <p:nvPr/>
        </p:nvPicPr>
        <p:blipFill>
          <a:blip r:embed="rId4"/>
          <a:stretch/>
        </p:blipFill>
        <p:spPr>
          <a:xfrm>
            <a:off x="6659640" y="1989000"/>
            <a:ext cx="2257200" cy="216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Niemcy_2005"/>
          <p:cNvPicPr/>
          <p:nvPr/>
        </p:nvPicPr>
        <p:blipFill>
          <a:blip r:embed="rId5"/>
          <a:stretch/>
        </p:blipFill>
        <p:spPr>
          <a:xfrm>
            <a:off x="1619280" y="4292640"/>
            <a:ext cx="2266920" cy="21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zechy_2005"/>
          <p:cNvPicPr/>
          <p:nvPr/>
        </p:nvPicPr>
        <p:blipFill>
          <a:blip r:embed="rId6"/>
          <a:stretch/>
        </p:blipFill>
        <p:spPr>
          <a:xfrm>
            <a:off x="4140360" y="4292640"/>
            <a:ext cx="2257200" cy="216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Ukraina_2005"/>
          <p:cNvPicPr/>
          <p:nvPr/>
        </p:nvPicPr>
        <p:blipFill>
          <a:blip r:embed="rId7"/>
          <a:stretch/>
        </p:blipFill>
        <p:spPr>
          <a:xfrm>
            <a:off x="6659640" y="4292640"/>
            <a:ext cx="2247840" cy="2162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0" y="2347920"/>
            <a:ext cx="299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2347920"/>
            <a:ext cx="301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2347920"/>
            <a:ext cx="299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0" y="2347920"/>
            <a:ext cx="299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0" y="2347920"/>
            <a:ext cx="301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0" y="2347920"/>
            <a:ext cx="299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0" y="2347920"/>
            <a:ext cx="299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19280" y="1484280"/>
          <a:ext cx="9001080" cy="1738440"/>
        </p:xfrm>
        <a:graphic>
          <a:graphicData uri="http://schemas.openxmlformats.org/drawingml/2006/table">
            <a:tbl>
              <a:tblPr/>
              <a:tblGrid>
                <a:gridCol w="3013200"/>
                <a:gridCol w="2993760"/>
                <a:gridCol w="2994120"/>
              </a:tblGrid>
              <a:tr h="69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30"/>
          <p:cNvSpPr/>
          <p:nvPr/>
        </p:nvSpPr>
        <p:spPr>
          <a:xfrm>
            <a:off x="0" y="40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kcje międzynarodowe, ich znaczenie oraz rod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tępność danych odnośnie interak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zekłamania opracowań europejsk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zykłady badań interak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yzwania, oczekiwania i rekomendac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rystyka przyjazdowa w Polsc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olska_2004" descr=""/>
          <p:cNvPicPr/>
          <p:nvPr/>
        </p:nvPicPr>
        <p:blipFill>
          <a:blip r:embed="rId1"/>
          <a:stretch/>
        </p:blipFill>
        <p:spPr>
          <a:xfrm>
            <a:off x="0" y="1268280"/>
            <a:ext cx="6084720" cy="5600880"/>
          </a:xfrm>
          <a:prstGeom prst="rect">
            <a:avLst/>
          </a:prstGeom>
          <a:ln w="0">
            <a:noFill/>
          </a:ln>
        </p:spPr>
      </p:pic>
      <p:pic>
        <p:nvPicPr>
          <p:cNvPr id="124" name="Polska_2004_leg" descr=""/>
          <p:cNvPicPr/>
          <p:nvPr/>
        </p:nvPicPr>
        <p:blipFill>
          <a:blip r:embed="rId2"/>
          <a:stretch/>
        </p:blipFill>
        <p:spPr>
          <a:xfrm>
            <a:off x="6372360" y="4419720"/>
            <a:ext cx="1885680" cy="243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389480" y="1557360"/>
          <a:ext cx="36504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rystyka przyjazdowa w Polsce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3611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Ruch towarowy na tle całej granicy wschodnie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1"/>
          <p:cNvGraphicFramePr/>
          <p:nvPr/>
        </p:nvGraphicFramePr>
        <p:xfrm>
          <a:off x="428760" y="1785960"/>
          <a:ext cx="8256600" cy="45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85960"/>
                    <a:ext cx="825660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ch towarowy przemiany po 2004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6                     przyrost 2004-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0" y="1969920"/>
          <a:ext cx="425916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9920"/>
                    <a:ext cx="425916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4267080" y="1981080"/>
          <a:ext cx="4419720" cy="3913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44197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Ruch towarowy wg przejść grani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Wykres 4" descr=""/>
          <p:cNvPicPr/>
          <p:nvPr/>
        </p:nvPicPr>
        <p:blipFill>
          <a:blip r:embed="rId1"/>
          <a:stretch/>
        </p:blipFill>
        <p:spPr>
          <a:xfrm>
            <a:off x="0" y="2214720"/>
            <a:ext cx="5500800" cy="3500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http://news.money.pl/i/h/123/f18811.jpg"/>
          <p:cNvPicPr/>
          <p:nvPr/>
        </p:nvPicPr>
        <p:blipFill>
          <a:blip r:embed="rId2"/>
          <a:stretch/>
        </p:blipFill>
        <p:spPr>
          <a:xfrm>
            <a:off x="5643720" y="2357280"/>
            <a:ext cx="3238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wa główne wyzwania dla statystyki publiczn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orientacja statystyki na wymiar transgraniczny (powoli się dokonu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orientacja statystyki w kierunku dokumentacji interakcji i przepływów analizowanych na poziomie regionalnym lub niższym (tu pozostaje wiele do zrobien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czekiwania i rekomendac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ewnienie (ustawowe?) dostępu do informacji istniejących ale chronionych tajemnicą handlową lub ustawą o ochronie danych osob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iany w systemie agregacji danych o interakcjach poprawiające ich dostępność na niższych poziomach regional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kacja niektórych danych dostępnych, ale istniejących niejako na obrzeżach statystyki publi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względnienie niektórych danych o interakcjach w najbliższym Spisie Powszechnym (migracje, dojazdy do pracy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zykładowe rekomendacje szczegół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ezentacja danych o handlu zagranicznym w ujęciu regionaln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bieranie danych o inwestycjach zagranicznych metodą zakład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ezagregacja informacji o zagranicznej turystyce przyjazdowej wg kraj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Gromadzenie danych o tranzy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Gromadzenie danych o ruchu telekomunikacyjn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ziękuję bardzo za uwag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la przepływó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godnie z teorią Castellsa współczesne społeczeństwo jest zorganizowane wokół przepływów: kapitału, informacji, technologii, wyobrażeń, dźwięków i symbo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pływy te stały się procesem, kształtującym gospodarkę, politykę a przede wszystkim przestrzeń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uktura przestrzenna jest określana nie tyle przez miejsca ale głównie przez sieć wzajemnych powiązań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warunkach globalizacji i integracji europejskiej kluczową rolę odgrywają przepływy pomiędzy regionami oraz metropoliami, ale rozpatrywane w kontekście międzynarodowy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dzaje powiązań i ich potencjalne mierni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1600200"/>
          <a:ext cx="8229600" cy="4729320"/>
        </p:xfrm>
        <a:graphic>
          <a:graphicData uri="http://schemas.openxmlformats.org/drawingml/2006/table">
            <a:tbl>
              <a:tblPr/>
              <a:tblGrid>
                <a:gridCol w="2114280"/>
                <a:gridCol w="1886040"/>
                <a:gridCol w="4229280"/>
              </a:tblGrid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wiązania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zepły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tencjalne zagadnienie ilustrują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nterak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konomicz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towar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andel zagranicz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kapitał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nwestycje zagranicz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Społecz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só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igracje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turysty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sób i informac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kontakty indywidual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litycz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współpraca jednostek samorządow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zostałe (wtór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jazd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transport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nformac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wiązania z użyciem środków łączn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totna rola dla gospodarki i społeczeńst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yfikacja głównych kierunków międzynarodowych powiązań społeczno-gospodarczych ma konkretną wartość aplikacyj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h znajomość może być bardzo pomocna przy prowadzeniu polityk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owej (inwestycje na konkretnych kierunkach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spodarczej (promocja eksportu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światowej (właściwy dobór nauczanych języków obcych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cyjnej (marketing terytorialn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zakresie wykorzystania europejskich środków pomocowyc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1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e powiązań bilateraln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4714920" y="0"/>
          <a:ext cx="4151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0"/>
                    <a:ext cx="4151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3"/>
          <p:cNvGraphicFramePr/>
          <p:nvPr/>
        </p:nvGraphicFramePr>
        <p:xfrm>
          <a:off x="179280" y="1413000"/>
          <a:ext cx="4416480" cy="525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13000"/>
                    <a:ext cx="44164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e powiązań regiony – kr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2"/>
          <p:cNvGraphicFramePr/>
          <p:nvPr/>
        </p:nvGraphicFramePr>
        <p:xfrm>
          <a:off x="971640" y="1557360"/>
          <a:ext cx="284796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2847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"/>
          <p:cNvGraphicFramePr/>
          <p:nvPr/>
        </p:nvGraphicFramePr>
        <p:xfrm>
          <a:off x="4716360" y="2205000"/>
          <a:ext cx="3225960" cy="3505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205000"/>
                    <a:ext cx="32259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aki w badaniach i materiałach źródłowy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olsce szeroko rozumiane badania interakcji społeczno-gospodarczych dotyczyły dotąd najczęściej powiązań pomiędzy regionami wewnątrz danego kraju lub pomiędzy krajam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takim też układzie najczęściej zbierane są informacje w ramach statystyki publicz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ujęciu najbardziej podstawowym analizy przepływów (interakcji) dzielą przestrzeń geograficzną jedynie na dwa elementy: badany kraj (np. Polskę) i resztę świ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ównież wymiana pomiędzy obydwoma elementami odbywa się za pomocą jednego tylko umownego kanału (bez podziału na szlaki przewozu). Taki model obowiązuje w większości analiz ekonomicznych z zakresu handlu zagraniczne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ym sposobem jego dezagregacji przestrzennej jest podział „reszty świata” na kraje (lub grupy krajów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ymczasem autentycznie pełna i nowoczesna analiza zagadnienia powiązań powinna uwzględniać także podział badanego państwa na jednostki administracyjne oraz zróżnicowanie kierunków interakcji międzynarodowych (szlaków przewozu osób i towaró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stępność danyc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jdokładniejszy poziom dezagregacji pozostaje w warunkach polskich osiągalny w przypadku bardzo nielicznych charakterystyk (np. handel zagraniczny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reguły nie są one jednak publikowane i ogólnodostęp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ne kategorie interakcji całkowicie umykają statystyce publicznej (migracje krótkookresowe, interakcje notowane na sieci telekomunikacyjnej), względnie są zbierane, ale nie dokonuje się ich odpowiedniej dezagregacji (turystyka przyjazdowa, tranzy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20:52:16Z</dcterms:created>
  <dc:creator>Tomek Komornicki</dc:creator>
  <dc:description/>
  <dc:language>en-US</dc:language>
  <cp:lastModifiedBy>.</cp:lastModifiedBy>
  <dcterms:modified xsi:type="dcterms:W3CDTF">2008-09-26T15:15:17Z</dcterms:modified>
  <cp:revision>16</cp:revision>
  <dc:subject/>
  <dc:title>..jako wyzwanie dla statystyki publicznej</dc:title>
</cp:coreProperties>
</file>