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C9C59-AC86-4D7D-9AD6-D6A0ABCC9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757BC-E89F-4F54-BFD9-194178C61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3DEB1-EB80-418D-A381-23B919E06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4DB35-9BA3-4C0D-AD98-B3E4F8054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F846EE-53CC-4C28-8A0E-B49F277AB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91F7E-9344-4444-8C0C-AAD2F49FC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D33F6-1020-4793-97D9-839D47EB9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07699-005F-4D24-8581-9939EE44B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DAF0B-35A2-45E9-99D4-33CEB7E23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28936-4C7A-4504-855B-D7C5D40FC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44799-EA03-4B23-AFB1-AD9831CEA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ACDF4-5A87-42EF-A8A8-E59A03508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C99C1-9213-4F7F-8397-272DE164E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D70F9-3F01-41FF-9053-84EA98A1E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133F1-203E-4300-B42F-6D939EA03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0FC70-8C1F-42D0-98D8-9CE6EC870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319130-F983-4C48-958F-693904CDD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5D3F4-E41C-4CF4-8AFA-79A3CC385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C4D99-2008-46BC-9220-112293692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9CB5A-3C59-4185-AD36-09B4B28D1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BD75B-B834-4079-91C0-4FF481EAE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2857F-F5B5-4D77-ABBB-970EBB9AC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A44B7-DC90-4FE7-9F18-B2DA7663A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BBF05-BAE6-420B-947E-442893714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4C84-50FD-4B9B-9156-43ECC2E12FA0}"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B4F6-75D5-448D-B336-ADE30C6D99A0}"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23BE-B426-49A5-806C-280DB753BD03}"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9" name="PlaceHolder 1"/>
          <p:cNvSpPr>
            <a:spLocks noGrp="1"/>
          </p:cNvSpPr>
          <p:nvPr>
            <p:ph type="title"/>
          </p:nvPr>
        </p:nvSpPr>
        <p:spPr>
          <a:xfrm>
            <a:off x="1294920" y="-360"/>
            <a:ext cx="7162920" cy="5638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Bogdan Kawałko </a:t>
            </a:r>
            <a:br>
              <a:rPr sz="4400"/>
            </a:br>
            <a:r>
              <a:rPr b="0" lang="pl-PL" sz="4400" spc="-1" strike="noStrike">
                <a:solidFill>
                  <a:srgbClr val="ffcc66"/>
                </a:solidFill>
                <a:latin typeface="Arial"/>
              </a:rPr>
              <a:t>Jacek Szlachta</a:t>
            </a:r>
            <a:br>
              <a:rPr sz="4400"/>
            </a:br>
            <a:r>
              <a:rPr b="0" lang="pl-PL" sz="4400" spc="-1" strike="noStrike">
                <a:solidFill>
                  <a:srgbClr val="ffcc66"/>
                </a:solidFill>
                <a:latin typeface="Arial"/>
              </a:rPr>
              <a:t>Problemy rozwoju obszarów transgranicznych Polski, Białorusi i Ukrainy w kontekście Europejskiej Polityki Sąsiedztwa na lata 2007-2013</a:t>
            </a:r>
            <a:endParaRPr b="0" lang="en-US" sz="4400" spc="-1" strike="noStrike">
              <a:solidFill>
                <a:srgbClr val="ffcc66"/>
              </a:solidFill>
              <a:latin typeface="Arial"/>
            </a:endParaRPr>
          </a:p>
        </p:txBody>
      </p:sp>
      <p:sp>
        <p:nvSpPr>
          <p:cNvPr id="90" name="PlaceHolder 2"/>
          <p:cNvSpPr>
            <a:spLocks noGrp="1"/>
          </p:cNvSpPr>
          <p:nvPr>
            <p:ph type="subTitle"/>
          </p:nvPr>
        </p:nvSpPr>
        <p:spPr>
          <a:xfrm>
            <a:off x="914400" y="5714640"/>
            <a:ext cx="6400800" cy="11430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GUS, Lublin, wrzesień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8477-289F-4388-89CA-BBD72D2E3B0F}"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Najważniejsze wnioski (4)</a:t>
            </a:r>
            <a:endParaRPr b="0" lang="en-US" sz="4400" spc="-1" strike="noStrike">
              <a:solidFill>
                <a:srgbClr val="ffcc66"/>
              </a:solidFill>
              <a:latin typeface="Arial"/>
            </a:endParaRPr>
          </a:p>
        </p:txBody>
      </p:sp>
      <p:sp>
        <p:nvSpPr>
          <p:cNvPr id="117"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4. W relacjach UE z Białorusią w sytuacji izolacji tego kraju jest to jeden z niewielu instrumentów wspierania transformacji Białorusi w kierunku gospodarki rynkowej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3B15-9E00-4C03-91FB-85A31C0B8426}"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Najważniejsze wnioski (5)</a:t>
            </a:r>
            <a:endParaRPr b="0" lang="en-US" sz="4400" spc="-1" strike="noStrike">
              <a:solidFill>
                <a:srgbClr val="ffcc66"/>
              </a:solidFill>
              <a:latin typeface="Arial"/>
            </a:endParaRPr>
          </a:p>
        </p:txBody>
      </p:sp>
      <p:sp>
        <p:nvSpPr>
          <p:cNvPr id="120" name="PlaceHolder 2"/>
          <p:cNvSpPr>
            <a:spLocks noGrp="1"/>
          </p:cNvSpPr>
          <p:nvPr>
            <p:ph/>
          </p:nvPr>
        </p:nvSpPr>
        <p:spPr>
          <a:xfrm>
            <a:off x="837720" y="1523520"/>
            <a:ext cx="7620120" cy="533412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5. W relacjach UE z Ukrainą podstawowe znaczenie ma wspieranie procesu dojścia do członkostwa. Dlatego program ten musi odnieść sukces aby w przyszłości nadać Ukrainie status państwa kandydackiego. Oczywisty konflikt pomiędzy wymiarem przygranicznym a ogólnosystemowym tego programu. Konflikt między dużymi przedsięwzięciami strukturalnymi a masowymi projektami mającymi efekt demonstracyjny i edukacyjn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B871-F621-4BB2-B9BF-62580996BF17}"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Najważniejsze wnioski (6)</a:t>
            </a:r>
            <a:endParaRPr b="0" lang="en-US" sz="4400" spc="-1" strike="noStrike">
              <a:solidFill>
                <a:srgbClr val="ffcc66"/>
              </a:solidFill>
              <a:latin typeface="Arial"/>
            </a:endParaRPr>
          </a:p>
        </p:txBody>
      </p:sp>
      <p:sp>
        <p:nvSpPr>
          <p:cNvPr id="123" name="PlaceHolder 2"/>
          <p:cNvSpPr>
            <a:spLocks noGrp="1"/>
          </p:cNvSpPr>
          <p:nvPr>
            <p:ph/>
          </p:nvPr>
        </p:nvSpPr>
        <p:spPr>
          <a:xfrm>
            <a:off x="685800" y="1447920"/>
            <a:ext cx="7772400" cy="541008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6. Jeśli program ten nie odniesie sukcesu będzie to istotnym argumentem na rzecz spowolnienia procesów integracyjnych w wymiarze wschodnim. Dlatego (A) wysokiej jakości wspólne dokumenty programowe. (B) procedury quasi funduszy strukturalnych, (C) uwzględnianie zasad zamówień publicznych, (D) szacunek dla kwestii środowiskowych, (E) rozwiązania antykorupcyjne (Bułgaria), (F) przebudowa systemu statystyki regionalnej – zakres, metodologia i NUTS-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13FD-FB70-4CB8-9C08-9F415FE37422}"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Współpraca transgraniczna w UE po reformie Delorsa</a:t>
            </a:r>
            <a:endParaRPr b="0" lang="en-US" sz="4400" spc="-1" strike="noStrike">
              <a:solidFill>
                <a:srgbClr val="ffcc66"/>
              </a:solidFill>
              <a:latin typeface="Arial"/>
            </a:endParaRPr>
          </a:p>
        </p:txBody>
      </p:sp>
      <p:sp>
        <p:nvSpPr>
          <p:cNvPr id="93"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1. Biblioteka dobrych praktyk zgromadzonych od roku 1989 w ramach kolejnych edycji Inicjatywy Wspólnoty INTERREG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2. Bardzo szerokie zaangażowanie układu regionalnego i lokalneg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4. Trzy rodzaje: (A) przygraniczna, (B) transnarodowa (państw Bałtyckich, Europy Środkowej), (C) międzyregionaln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EE7A-02DA-4846-B07C-532AF9AF0D47}"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Sytuacja współpracy transgranicznej od roku 2007</a:t>
            </a:r>
            <a:endParaRPr b="0" lang="en-US" sz="4400" spc="-1" strike="noStrike">
              <a:solidFill>
                <a:srgbClr val="ffcc66"/>
              </a:solidFill>
              <a:latin typeface="Arial"/>
            </a:endParaRPr>
          </a:p>
        </p:txBody>
      </p:sp>
      <p:sp>
        <p:nvSpPr>
          <p:cNvPr id="96" name="PlaceHolder 2"/>
          <p:cNvSpPr>
            <a:spLocks noGrp="1"/>
          </p:cNvSpPr>
          <p:nvPr>
            <p:ph/>
          </p:nvPr>
        </p:nvSpPr>
        <p:spPr>
          <a:xfrm>
            <a:off x="762120" y="1980720"/>
            <a:ext cx="7696080" cy="487692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1. Nadanie tej współpracy rangi Celu</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2. Mimo priorytetu ograniczone środki – około 2,5% środków polityki spójności</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3. Bardzo szerokie menu obszaru finansowania</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4. Koncentracja na likwidacji negatywnego wpływu granic wewnętrznych</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5. Nowa jakość Europejskie Ugrupowania Współpracy Transgranicznej</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8311-6784-4FF9-98D2-BB6D4CEA6AB4}"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Współpraca z państwami spoza UE od roku 2007 (1)</a:t>
            </a:r>
            <a:endParaRPr b="0" lang="en-US" sz="4400" spc="-1" strike="noStrike">
              <a:solidFill>
                <a:srgbClr val="ffcc66"/>
              </a:solidFill>
              <a:latin typeface="Arial"/>
            </a:endParaRPr>
          </a:p>
        </p:txBody>
      </p:sp>
      <p:sp>
        <p:nvSpPr>
          <p:cNvPr id="99"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1. Najszersza współpraca z państwami kandydackimi, drugi krąg to Instrument Sąsiedztwa i Partnerstwa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2. Bardzo szeroki zakres finansowania, co wynika z odmiennej specyfiki państw postkomunistycznych i krajów basenu Morza Śródziemnego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3. Wprowadzanie kuchennymi drzwiami standardów europejskiej polityki spójności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E7A4-F9C0-4FCA-8AC1-6CCF2F056A19}"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Współpraca z państwami spoza UE od roku 2007 (2)</a:t>
            </a:r>
            <a:endParaRPr b="0" lang="en-US" sz="4400" spc="-1" strike="noStrike">
              <a:solidFill>
                <a:srgbClr val="ffcc66"/>
              </a:solidFill>
              <a:latin typeface="Arial"/>
            </a:endParaRPr>
          </a:p>
        </p:txBody>
      </p:sp>
      <p:sp>
        <p:nvSpPr>
          <p:cNvPr id="102"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Instrument Sąsiedztwa i Partnerstwa zakła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Wspólne dokumenty programow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Europejskie procedury wyboru projektów</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Szczególna rola współpracy transgranicznej</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Istotna rola sąsiadującego państwa członkowskieg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Zasady zamówień publicznych, kryteriów środowiskowy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E357-E81B-4730-B601-14BDC8A6715F}"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1"/>
          <p:cNvSpPr>
            <a:spLocks noGrp="1"/>
          </p:cNvSpPr>
          <p:nvPr>
            <p:ph type="title"/>
          </p:nvPr>
        </p:nvSpPr>
        <p:spPr>
          <a:xfrm>
            <a:off x="685800" y="0"/>
            <a:ext cx="777240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Pytania strategiczne dotyczące rozwoju współpracy transgranicznej po roku 2013</a:t>
            </a:r>
            <a:endParaRPr b="0" lang="en-US" sz="4400" spc="-1" strike="noStrike">
              <a:solidFill>
                <a:srgbClr val="ffcc66"/>
              </a:solidFill>
              <a:latin typeface="Arial"/>
            </a:endParaRPr>
          </a:p>
        </p:txBody>
      </p:sp>
      <p:sp>
        <p:nvSpPr>
          <p:cNvPr id="105" name="PlaceHolder 2"/>
          <p:cNvSpPr>
            <a:spLocks noGrp="1"/>
          </p:cNvSpPr>
          <p:nvPr>
            <p:ph/>
          </p:nvPr>
        </p:nvSpPr>
        <p:spPr>
          <a:xfrm>
            <a:off x="762120" y="1980720"/>
            <a:ext cx="7696080" cy="487692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1. Czy w dalszym ciągu dwa modele współpracy granice wewnętrzne i zewnętrzne</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2. Jaka skala i struktura finansowania</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3. Jaka menu czy finansujemy wszystko czy strategiczne priorytety</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4. Jaka rola układu regionalnego i lokalnego </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5. ISiP a programy przedakcesyj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9A7E-1B27-4626-9984-82CC3BF9E859}"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Najważniejsze wnioski (1)</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1.Ponieważ współpraca transgraniczna jest jednoznacznie uznawana jako sfera interwencji o najwyższej wartości mnożnikowej stanowi oczywisty priorytet polityki spójności. Dlatego w kolejnych okresach programowania polityk i budżetu Wspólnoty należy spodziewać się znaczącego wzrostu nakładó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4C07-C68C-490E-BA35-57ACB182612C}"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Najważniejsze wnioski (2)</a:t>
            </a:r>
            <a:endParaRPr b="0" lang="en-US" sz="4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2. Unia Europejska będzie alokowała w kolejnych okresach programowania rosnące systematycznie alokacje na współpracę z krajami sąsiedzkimi. Kluczowe pytania: (A) o zakres finansowanych działań, (B) o znaczenie wymiaru śródziemnomorskiego i wschodniego, (C) o percepcję dążeń do dalszego rozszerzania U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32AA-8A11-4E7D-B49E-7A106DC1F738}"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66"/>
                </a:solidFill>
                <a:latin typeface="Arial"/>
              </a:rPr>
              <a:t>Najważniejsze wnioski (3)</a:t>
            </a:r>
            <a:endParaRPr b="0" lang="en-US" sz="4400" spc="-1" strike="noStrike">
              <a:solidFill>
                <a:srgbClr val="ffcc66"/>
              </a:solidFill>
              <a:latin typeface="Arial"/>
            </a:endParaRPr>
          </a:p>
        </p:txBody>
      </p:sp>
      <p:sp>
        <p:nvSpPr>
          <p:cNvPr id="114" name="PlaceHolder 2"/>
          <p:cNvSpPr>
            <a:spLocks noGrp="1"/>
          </p:cNvSpPr>
          <p:nvPr>
            <p:ph/>
          </p:nvPr>
        </p:nvSpPr>
        <p:spPr>
          <a:xfrm>
            <a:off x="685800" y="1980720"/>
            <a:ext cx="7772400" cy="4876920"/>
          </a:xfrm>
          <a:prstGeom prst="rect">
            <a:avLst/>
          </a:prstGeom>
          <a:noFill/>
          <a:ln w="0">
            <a:noFill/>
          </a:ln>
        </p:spPr>
        <p:txBody>
          <a:bodyPr anchor="t">
            <a:normAutofit fontScale="99000"/>
          </a:bodyPr>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3. Dla Polski wielkie znaczenie mają relacje z Ukrainą i Białorusią. Wielka odpowiedzialność wynikająca z zaparkowania środków dla wschodnich sąsiadów w Polsce. Problemem asymetrie dotyczące poziomu rozwoju, standardów administracji publicznej, poziomu urynkowienia gospodarki, braków powiązań infrastrukturalnych, przystąpienia Polski do  strefy Schengen, deficytów informacyjnyc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cek</dc:creator>
  <dc:description/>
  <dc:language>en-US</dc:language>
  <cp:lastModifiedBy>Jacek</cp:lastModifiedBy>
  <dcterms:modified xsi:type="dcterms:W3CDTF">2008-09-21T08:34:33Z</dcterms:modified>
  <cp:revision>5</cp:revision>
  <dc:subject/>
  <dc:title>PowerPoint Presentation</dc:title>
</cp:coreProperties>
</file>