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02C-9B63-44BD-A7F6-00D7851F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A46-8CC9-4349-91C7-1826CF9A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329-3E14-4823-BEAC-FACE9E24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7D1-1244-446A-9B14-0FAC3045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139D-7CAD-4271-9F44-D6102B1D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2B2A-B03E-4DCC-8DCA-80DBD962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2A5E-CB9D-4870-89C2-791E4AED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67E0-0FA6-408A-B5B2-8667942F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F3F6-795B-4BFE-AE0B-1167D914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46AC-5EBE-4524-9E28-375A82F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6E14-7FA4-4BF9-B039-20670A51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662-F616-4303-B9C1-344756BD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B455-B5C6-4FDB-9D71-5C86355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D046-B385-406A-8093-30038DD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80F1-B9BB-4D4A-ABDF-B69C5262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5C31-751E-4C9F-A043-B7E0158D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FCE3-D06F-482E-9D2F-CA9B20E1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3CF-A28A-4D9E-9746-BDD9123B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CE7-79E6-4A90-8BDD-CC491ABA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EA8-ABEC-4562-A2A0-F5BE154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91C-8156-4525-B7EE-B211ED50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D56-594F-47E9-B626-0FCB0CF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9C7-C669-42C3-9E5A-70357F78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528-C2FD-4BE2-B384-0E9DF31C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254-2A47-43FA-9CF9-330CA5BEFC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BF90-78E5-44A4-B418-5DD89F4C68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4247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GIS </a:t>
            </a:r>
            <a:br>
              <a:rPr sz="4400"/>
            </a:b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JAKO NARZĘDZIE STATYSTYKI REGIONALNEJ</a:t>
            </a:r>
            <a:endParaRPr b="0" lang="en-US" sz="4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892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RZYSZTOF KAŁAMUC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kład Kartografi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wersyte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ii Curie-Skłodowskiej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 Lublin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39E2-305A-42E3-95B1-80AABA7B4BA0}" type="slidenum">
              <a:t>1</a:t>
            </a:fld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452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ośród wielu instytucji i urzędów, w których są stosowane systemy GIS, nie może zabraknąć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RZĘDÓW STATYSTYCZNYC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710-B45C-462C-BA6F-EAF62B33B09F}" type="slidenum">
              <a:t>10</a:t>
            </a:fld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łówny Urząd statystyczny w Powszechnym Spisie Rolnym w 2010 r. oraz w Narodowym Spisie Powszechnym w 2011 r.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lanuje zastosowanie na szeroką skalę nowoczesnych rozwiązań opartych na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920" y="436536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pach cyfrowych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rzędziach GIS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zach danych przestrzennych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0A5-2676-4F9E-8125-02EE3158BB74}" type="slidenum">
              <a:t>11</a:t>
            </a:fld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 TYM CELU NIEZBĘDNA JEST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Verdana"/>
              </a:rPr>
              <a:t>modernizacja systemu TERYT (ma powstać TERYT2)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Verdana"/>
              </a:rPr>
              <a:t>ujednolicenie danych przestrzennych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Verdana"/>
              </a:rPr>
              <a:t>zaopatrzenie urzędów statystycznych w aktualne mapy cyfrowe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Verdana"/>
              </a:rPr>
              <a:t>nadanie georeferencji gromadzonym danym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Verdana"/>
              </a:rPr>
              <a:t>uściślenie współpracy pomiędzy służbami geodezyjnymi i kartograficznymi a służbą statystyczną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8C1-5219-4700-8512-E7D8ADA8E30E}" type="slidenum">
              <a:t>12</a:t>
            </a:fld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-36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-366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ektóre z Systemów GIS już działają, inne są na etapie wdrażania a jeszcze inne na etapie koncepcyjnym. Na przykład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zowiecki System Informacji Przestrzennej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ystem Informacji Przestrzennej Województwa Łódzkiego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ystem Informacji Przestrzennej Lubelszczyzny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BD7-0A41-487B-AC10-386383F3BFC4}" type="slidenum">
              <a:t>13</a:t>
            </a:fld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ami podstawowymi Systemu Informacji Przestrzennej Województwa Lubelskiego są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7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arządzanie danymi przestrzennymi tj. archiwizacja, aktualizacja i udostępnianie na poziomie gminy, powiatu, województwa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wadzenie złożonych analiz przestrzennych charakteryzujący bieżący stan zasobów przyrodniczych oraz warunków społeczno-gospodarczych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224-B738-48B7-9A9D-2B486ADA35BB}" type="slidenum">
              <a:t>14</a:t>
            </a:fld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ami podstawowymi Systemu Informacji Przestrzennej Województwa Lubelskiego są, c.d.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gnozowanie i modelowanie zmian stanu różnych aspektów przestrzeni zarówno w ujęciu przyrodniczym jak i społeczno-gospodarczym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sparcie procesu podejmowania decyzji na różnych szczeblach zarządzania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większenie dostępu do wiedzy i informacji przestrzennej jako warunku wzmocnienia procesów rozwoju gospodarczego i inwestycji w regionie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8F4-8CB7-4D87-8C82-90DED1C08CD4}" type="slidenum">
              <a:t>15</a:t>
            </a:fld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Grypy beneficjentów SIP Lubelszczyzny: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4000" y="1125360"/>
          <a:ext cx="8640720" cy="5616720"/>
        </p:xfrm>
        <a:graphic>
          <a:graphicData uri="http://schemas.openxmlformats.org/drawingml/2006/table">
            <a:tbl>
              <a:tblPr/>
              <a:tblGrid>
                <a:gridCol w="1265040"/>
                <a:gridCol w="2751120"/>
                <a:gridCol w="4624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-P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ZWA GRU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YTUC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dnostki samorządu terytorialnego – grupa główn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rząd Marszałkowski Województwa Lubelskiego oraz wybrane jego jednostki budżetowe,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ostwa powiatowe oraz wybrane ich jednostki budżetow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rzędy gmin oraz wybrane ich jednostki budżetow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245-A230-4B48-B16F-ED74F2676D07}" type="slidenum">
              <a:t>16</a:t>
            </a:fld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ffffff"/>
                </a:solidFill>
                <a:latin typeface="Arial"/>
              </a:rPr>
              <a:t>Grypy beneficjentów SIP Lubelszczyzny, c.d.: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1125360"/>
          <a:ext cx="8640720" cy="5556600"/>
        </p:xfrm>
        <a:graphic>
          <a:graphicData uri="http://schemas.openxmlformats.org/drawingml/2006/table">
            <a:tbl>
              <a:tblPr/>
              <a:tblGrid>
                <a:gridCol w="1265040"/>
                <a:gridCol w="2751120"/>
                <a:gridCol w="46245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-P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ZWA GRUP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YTUCJ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dnostki administracji rządowej zespolonej i niezespolon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belski Urząd Wojewódzki – wybrane wydział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ybrane jednostki administracji zespolon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ybrane jednostki administracji niezespolon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ministracja central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E24-212B-4EA0-A368-5FD928C43DEC}" type="slidenum">
              <a:t>17</a:t>
            </a:fld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ffffff"/>
                </a:solidFill>
                <a:latin typeface="Arial"/>
              </a:rPr>
              <a:t>Grypy beneficjentów SIP Lubelszczyzny, c.d.: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24000" y="907920"/>
          <a:ext cx="8640720" cy="5759640"/>
        </p:xfrm>
        <a:graphic>
          <a:graphicData uri="http://schemas.openxmlformats.org/drawingml/2006/table">
            <a:tbl>
              <a:tblPr/>
              <a:tblGrid>
                <a:gridCol w="934920"/>
                <a:gridCol w="2160720"/>
                <a:gridCol w="554508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-P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ZWA GRUP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YTUCJ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czelnie wyższe i jednostki badawczo-rozwojow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wersytet Marii Curie Skłodowski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atolicki Uniwersytet Lubels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wersytet Medycz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wersytet Przyrodnicz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technika Lubelsk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yższa Szkoła Oficerska Sił Powietrznych w Dęblin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UNG Puławy, in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14D-AF7B-4757-BAC8-716E9AF9068C}" type="slidenum">
              <a:t>18</a:t>
            </a:fld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ffffff"/>
                </a:solidFill>
                <a:latin typeface="Arial"/>
              </a:rPr>
              <a:t>Grypy beneficjentów SIP Lubelszczyzny, c.d.: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85840" y="765000"/>
          <a:ext cx="8858160" cy="5958000"/>
        </p:xfrm>
        <a:graphic>
          <a:graphicData uri="http://schemas.openxmlformats.org/drawingml/2006/table">
            <a:tbl>
              <a:tblPr/>
              <a:tblGrid>
                <a:gridCol w="1152360"/>
                <a:gridCol w="2881440"/>
                <a:gridCol w="482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-P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ZWA GRUP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YTUC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cje pozarządowe, agencje, przedsiębior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0000" indent="-1796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cje ekologicz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70000" indent="-1796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kalne organizacje turystycz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70000" indent="-1796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gencje Rozwoju Regionalneg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70000" indent="-1796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gencja Rozwoju Przedsiębiorczoś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70000" indent="-1796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uroregiony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70000" indent="-1796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owarzyszenia in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70000" indent="-1796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zedsiębior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gół obywate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łeczeństw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07A-5B85-482F-8616-94EC58FF460C}" type="slidenum">
              <a:t>19</a:t>
            </a:fld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3534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LAN WYSTĄPI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11280" y="1844640"/>
            <a:ext cx="7920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Aft>
                <a:spcPts val="2001"/>
              </a:spcAft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y Informacji Geograficznej (GI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Aft>
                <a:spcPts val="2001"/>
              </a:spcAft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ykorzystanie GIS w statystyce publicznej (szczebel central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Aft>
                <a:spcPts val="2001"/>
              </a:spcAft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gionalne Systemy Informacji Geograficzne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Aft>
                <a:spcPts val="2001"/>
              </a:spcAft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 Informacji Przestrzennej Lubelszczyzny jako narzędzie dla statystyki regionalne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3105-50A2-4309-AB90-F1F557107477}" type="slidenum">
              <a:t>2</a:t>
            </a:fld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Urząd Statystyczny w Lublinie został zaliczony do drugiej grupy beneficjentów.</a:t>
            </a:r>
            <a:br>
              <a:rPr sz="3600"/>
            </a:b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Jego rola w Systemie ma polegać na zasilaniu Systemu danymi referencyjnymi z zakresu statutowej działalności służby statystycznej (np. Baza Danych Regionalnych, System TERYT, itp.)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oraz na korzystaniu z danych referencyjnych będących w zasobie SIPL.</a:t>
            </a:r>
            <a:br>
              <a:rPr sz="3600"/>
            </a:b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WUS ma mieć autoryzowany dostęp do systemu.</a:t>
            </a: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265-5F07-4DE2-A16A-E911098607DA}" type="slidenum">
              <a:t>20</a:t>
            </a:fld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celu pełnego korzystania z GIS na poziomie regionu w urzędach statystycznych należy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5075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modyfikować system zbierania danych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instalować sprzęt i oprogramowanie GIS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owocześnić łącza elektroniczne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mienić struktury organizacyjne, powołać pracownie GIS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kolić i dokształcać kadrę zarządzającą oraz pracowników obsług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8C0-64E5-4535-8636-01510E4278F3}" type="slidenum">
              <a:t>21</a:t>
            </a:fld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jawia się tu olbrzymia szansa, można powiedzieć nawet rewolucja w zakresie zbierania informacji statystycznej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6BB3-59B7-4407-956D-37B8B37CFA6D}" type="slidenum">
              <a:t>22</a:t>
            </a:fld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jczęściej dane statystyczne odnoszą się do terytorium: państwa, województwa, powiatu, gminy, rejonu statystycznego oraz obwodu spisowego.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2C00-8F27-47A9-971B-CF52FDE2364E}" type="slidenum">
              <a:t>23</a:t>
            </a:fld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lejna korzyść z używania GIS w statystyce regionalnej tkwi w prezentacji (wizualizacji) przestrzennych danych statystycznych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C550-617A-4004-9749-1A6B262A43C5}" type="slidenum">
              <a:t>24</a:t>
            </a:fld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4978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dszedł czas aby „GEOSTATYSTYKA” zawitała na stałe do statystyki regionalnej.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CD05-9D06-4A10-A7E9-EAA00D2177D6}" type="slidenum">
              <a:t>25</a:t>
            </a:fld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amiast podsumowa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-179280">
              <a:lnSpc>
                <a:spcPct val="80000"/>
              </a:lnSpc>
              <a:spcAft>
                <a:spcPts val="2001"/>
              </a:spcAft>
              <a:buClr>
                <a:srgbClr val="ffffcc"/>
              </a:buClr>
              <a:buSzPct val="60000"/>
              <a:buFont typeface="Arial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S jest tworzony przez człowieka, przez niego jest obsługiwany i dla niego pracuje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Aft>
                <a:spcPts val="2001"/>
              </a:spcAft>
              <a:buClr>
                <a:srgbClr val="ffffcc"/>
              </a:buClr>
              <a:buSzPct val="60000"/>
              <a:buFont typeface="Arial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latego nie bójmy się Systemów Informacji Geograficznej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Aft>
                <a:spcPts val="2001"/>
              </a:spcAft>
              <a:buClr>
                <a:srgbClr val="ffffcc"/>
              </a:buClr>
              <a:buSzPct val="60000"/>
              <a:buFont typeface="Arial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zwólmy sobie z ich pomocą budować społeczeństwo informacyjn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CCE-3208-4C9F-8C2C-20CFCCE8DD33}" type="slidenum">
              <a:t>26</a:t>
            </a:fld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Dziękuję za uwagę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B611-D6BC-4554-836C-9BA0E5ED4989}" type="slidenum">
              <a:t>27</a:t>
            </a:fld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D DANYCH ELEMENTARNYC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FORMACJI GEOGRAFICZNEJ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8748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6320" indent="0">
              <a:spcAft>
                <a:spcPts val="3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- każda informacja wzbogacona o georeferencję czyli informację o lokalizacji obiektów, wydarzeń w przestrzeni trójwymiarowej (x, y, z),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6320" indent="0">
              <a:spcAft>
                <a:spcPts val="3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- powinna być podana we współrzędnych geograficznych </a:t>
            </a:r>
            <a:r>
              <a:rPr b="0" lang="pl-PL" sz="26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 i </a:t>
            </a:r>
            <a:r>
              <a:rPr b="0" lang="pl-PL" sz="2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 lub topograficznych x i 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220500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CJA GEOGRAFICZNA (PRZESTRZENNA)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4DA-6ABF-4E56-B63D-249F342BB60A}" type="slidenum">
              <a:t>3</a:t>
            </a:fld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lko dane zawierające informacje o położeniu w przestrzeni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ogą tworzyć bazy danych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 których oparte są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y Informacji Geograficznej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4ED9-3CB4-4AAD-858C-11E12FB9EBB4}" type="slidenum">
              <a:t>4</a:t>
            </a:fld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2205000"/>
            <a:ext cx="712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 to są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STEMY INFORMACJI GEOGRAFICZNEJ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EA1C-91CC-4B32-88A1-C3329D8D132B}" type="slidenum">
              <a:t>5</a:t>
            </a:fld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ą to systemy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63280" y="1267920"/>
            <a:ext cx="6419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pozyskiwania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gromadzenia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weryfikowania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analizowania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transferowan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udostępniani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danych przestrzennych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(Gaździcki, 200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59B-65C4-4104-992B-D4BAC77CE7F4}" type="slidenum">
              <a:t>6</a:t>
            </a:fld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 szerokim rozumieniu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ejmują on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8560" y="1599840"/>
            <a:ext cx="7427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metody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środki techniczne, w tym sprzęt i oprogramowanie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bazę danych przestrzennych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organizację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soby finansowe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ludzi zainteresowanych jego funkcjonowaniem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(Gaździcki, 200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35F-8165-4647-9FF5-CBBFF6BA3CAB}" type="slidenum">
              <a:t>7</a:t>
            </a:fld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kuteczność i efektywność funkcjonowania GIS zależy od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4247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kości danych przestrzennych (np.: szczegółowości, wiarygodności i aktualności)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zętu i oprogramowania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stępności do baz danych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ów łączności i przesyłania danych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petencji i zaangażowania zespołów ludzki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A99-0399-48D8-BD09-99C5D6A78DCF}" type="slidenum">
              <a:t>8</a:t>
            </a:fld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to korzysta z GIS?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715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stytucje państwowe; rządowe i samorządowe,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ojsko,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łużby ochrony i medyczne,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łużby zarządzania kryzysowego,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ż pożarna,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yższe uczelnie i instytuty naukowe,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stytucje finansowe,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iznes,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az osoby prywatne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928-2252-439F-A820-E9E0B0BA983E}" type="slidenum">
              <a:t>9</a:t>
            </a:fld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0:20:35Z</dcterms:created>
  <dc:creator>wiola</dc:creator>
  <dc:description/>
  <dc:language>en-US</dc:language>
  <cp:lastModifiedBy>Kalamucki</cp:lastModifiedBy>
  <dcterms:modified xsi:type="dcterms:W3CDTF">2008-09-22T11:10:00Z</dcterms:modified>
  <cp:revision>32</cp:revision>
  <dc:subject/>
  <dc:title>Parki kulturowe w województwie lubelskim</dc:title>
</cp:coreProperties>
</file>