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952-8F0D-40B6-AF92-D07EEDE5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29A-B9DF-4ED9-A319-21A5F308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A8D-C372-41BC-A972-34121691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0FF-C1E7-47B1-AC04-89EA7745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528A-C586-40DA-B96C-C001CF91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69C-A678-4EAB-BE1F-6A44D9B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1980-4AF1-407F-B014-786C349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1BAE-DB08-4B96-8D5A-49E210A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E7F-5563-4646-A2BC-C89A7C4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5A35-C724-4186-B651-469FCEB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7A84-05B5-4AEC-BC22-3CAE6D2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BBE-C37F-4778-B1EB-2F7FDEF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59EF-4C80-427D-966A-4B3048C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324E-ADDF-45B6-A0C5-1D6264D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A175-D0A8-4895-B4EE-B52807A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75C9-666C-42DB-90ED-67B6921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30E1-9868-429A-B585-36C8B32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4C9-747E-4B7B-A577-C886DE6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EBF-525D-4E04-9C0D-55FA0B0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5C7-0C49-4A88-80B0-EF2C2F6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E28-DE32-424E-939A-F2F9E37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114-7504-4C70-9919-356A254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372-45B7-419A-B14D-D4745D0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997-AF88-4FE5-849B-1C91906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9F3-5F9B-48C3-ABC8-35AACD340E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10D7-22FB-4C5F-9227-247E5CD39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5ffff"/>
                </a:solidFill>
                <a:latin typeface="Book Antiqua"/>
                <a:ea typeface="Times New Roman"/>
              </a:rPr>
              <a:t>Alokacja migrantów międzynarodowych </a:t>
            </a:r>
            <a:br>
              <a:rPr sz="3200"/>
            </a:br>
            <a:r>
              <a:rPr b="1" lang="pl-PL" sz="3200" spc="-1" strike="noStrike">
                <a:solidFill>
                  <a:srgbClr val="e5ffff"/>
                </a:solidFill>
                <a:latin typeface="Book Antiqua"/>
                <a:ea typeface="Times New Roman"/>
              </a:rPr>
              <a:t>do regionów państw imigracji </a:t>
            </a:r>
            <a:br>
              <a:rPr sz="3200"/>
            </a:br>
            <a:r>
              <a:rPr b="1" lang="pl-PL" sz="3200" spc="-1" strike="noStrike">
                <a:solidFill>
                  <a:srgbClr val="e5ffff"/>
                </a:solidFill>
                <a:latin typeface="Book Antiqua"/>
                <a:ea typeface="Times New Roman"/>
              </a:rPr>
              <a:t>– próba oszacowania brakujących danych</a:t>
            </a:r>
            <a:r>
              <a:rPr b="1" lang="en-GB" sz="3200" spc="-1" strike="noStrike">
                <a:solidFill>
                  <a:srgbClr val="e5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1920" y="426672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Wojciech Janick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Uniwersytet Marii Curie-Skłodowskiej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Lubli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6172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Lublin, 22-24.09.</a:t>
            </a: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IdR a IdR w poprzednich latach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metoda udziałów historycznych: prosta proporcjonalność obecnych przepływów do przepływów w latach poprzedni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ä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gerstrand (1957) – większość to migranci pasywni – wybierają przetarte przez krewnych i znajomych szlaki migracj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Wolpert (1965) –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„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..alternatywy, które minimalizuj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</a:rPr>
              <a:t>ą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niepewno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</a:rPr>
              <a:t>ść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, s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</a:rPr>
              <a:t>ą</a:t>
            </a:r>
            <a:r>
              <a:rPr b="0" i="1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preferowane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” (s.136)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Gaag, Wissen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0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) – inercja układu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konieczność posiadania danych o migracjach w poprzedzającym okresi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35D-3414-4395-8049-A45C690DF7DB}" type="slidenum">
              <a:t>1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Liczba cudzoziemców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kość imigracji a liczba cudzoziemców zamieszkujących dany reg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suma imigracji z różnych państw a łączna liczba cudzoziemc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imigracja z danego państwa a liczba cudzoziemców z tego państw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różne grupy migrantów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 różne zachowania migracyj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igracje powrotne własnych obywatel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azylanc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ozostali migranci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brak danych w UE pozwalających na weryfikację tych założeń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F35-B0E4-4CBB-A1AA-28C92B5394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Wielkość regionu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kość regionu (liczba mieszkańców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Ravenstein (1885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2971800"/>
                <a:ext cx="2125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914400" y="4419720"/>
            <a:ext cx="4876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T – siła grawitacj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k – stała grawitacj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0" lang="pl-PL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– liczby ludności miast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oraz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16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– odległość pomiędzy miastami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oraz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alfa – potencjał atrakcyjności (przyciągan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lambda – potencjał wypych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beta – opór transport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557-517A-4D2A-A0B9-B00A521ED773}" type="slidenum">
              <a:t>12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Liczba cudzoziemców, wielkość regionu: model przepływów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9625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znaczenia stanów / przepływów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L – całkowita liczba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L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udności państw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C – liczba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C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udzoziemców zamieszkująca w państwie imigracj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 – wielkość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migracji do tego państw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znaczenia obszarów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R – obszary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zeniow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S –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emiperyferie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P –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P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eryferie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057400"/>
            <a:ext cx="3353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L = 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+ 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+ 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C = C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+ C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S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+ C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I = I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+ I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+ I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655-53FE-4F82-A270-C948C90ACC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363160" cy="3708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Koncentracja imigracji w regionach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6200" y="65527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prac. własne w oparciu o Gaag, Wissen, 2001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338640" y="1752480"/>
                <a:ext cx="2239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⊲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⊲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92E-C6AE-4A67-B498-AFC0776D9639}" type="slidenum">
              <a:t>14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Weryfikacja hipotez </a:t>
            </a:r>
            <a:br>
              <a:rPr sz="3200"/>
            </a:b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– IdR a inne migracje oraz wielkość regionu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czas: 199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jednostki przestrzenne: regiony NUTS 2, Hiszpan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korelowane zmienne: salda migracji międzynarodowych i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salda migracji wewnętrznyc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pływy w migracjach wewnętrznyc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dpływy w migracjach wewnętrznyc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liczby ludności region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199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534520" y="3886200"/>
            <a:ext cx="609480" cy="2133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3090960"/>
            <a:ext cx="3200400" cy="3157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0" y="3090960"/>
            <a:ext cx="3200400" cy="31240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772040" y="4800240"/>
            <a:ext cx="76212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019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C – korelac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T-St – wyniki testu t-Studenta (+ oznacza korelac</a:t>
            </a: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ję</a:t>
            </a: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 istot</a:t>
            </a: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ną</a:t>
            </a: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 statystyczni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bliczenia włas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C49-7A03-4AB1-B665-CF0E719C6D8B}" type="slidenum">
              <a:t>15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Zmienność korelacji 1988-1995 </a:t>
            </a:r>
            <a:br>
              <a:rPr sz="3200"/>
            </a:br>
            <a:r>
              <a:rPr b="0" lang="pl-PL" sz="2400" spc="-1" strike="noStrike">
                <a:solidFill>
                  <a:srgbClr val="e5ffff"/>
                </a:solidFill>
                <a:latin typeface="Book Antiqua"/>
              </a:rPr>
              <a:t>(Hiszpania a UE14)</a:t>
            </a:r>
            <a:endParaRPr b="0" lang="en-US" sz="24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169560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04920" y="1971720"/>
            <a:ext cx="8610480" cy="404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6248520"/>
            <a:ext cx="2362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bliczenia włas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5D0-864E-4CB1-8A8C-3CB6DE88244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Weryfikacja hipotez – IdR a liczba cudzoziemców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rok bazowy: 1987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artości szacowane w latach: 1988-1995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przedmiot szacunku: liczebność Belgów w regionach NUTS 2 Hiszpani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ałożenie: proporcjonalność napływu do regionu w roku </a:t>
            </a:r>
            <a:r>
              <a:rPr b="0" i="1" lang="pl-PL" sz="2400" spc="-1" strike="noStrike">
                <a:solidFill>
                  <a:srgbClr val="ffffff"/>
                </a:solidFill>
                <a:latin typeface="Book Antiqua"/>
              </a:rPr>
              <a:t>y 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o stanu w roku </a:t>
            </a:r>
            <a:r>
              <a:rPr b="0" i="1" lang="pl-PL" sz="2400" spc="-1" strike="noStrike">
                <a:solidFill>
                  <a:srgbClr val="ffffff"/>
                </a:solidFill>
                <a:latin typeface="Book Antiqua"/>
              </a:rPr>
              <a:t>y-1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, na tle całego państwa imigracj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pierwszy rok: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rugi i kolejn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23880" y="4267080"/>
                <a:ext cx="17272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5720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GB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acowana liczba imigrantów do regionu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ałkowita wielkość imigracji do państwa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-1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iczba mieszkańców regionu, pochodzących z danego państwa,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-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-1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iczba mieszkańców państwa imigracji, pochodzących z danego państwa,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-1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334120" y="4267080"/>
                <a:ext cx="2590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4E4-8509-46C2-8F3C-3BA7D2E71EA1}" type="slidenum">
              <a:t>17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Relacja pomiędzy liczebnościami </a:t>
            </a:r>
            <a:br>
              <a:rPr sz="3200"/>
            </a:b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a szacunkami </a:t>
            </a:r>
            <a:r>
              <a:rPr b="0" lang="pl-PL" sz="2400" spc="-1" strike="noStrike">
                <a:solidFill>
                  <a:srgbClr val="e5ffff"/>
                </a:solidFill>
                <a:latin typeface="Book Antiqua"/>
              </a:rPr>
              <a:t>(Belgowie w Hiszpanii)</a:t>
            </a:r>
            <a:endParaRPr b="0" lang="en-US" sz="24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20811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1581120"/>
            <a:ext cx="6933960" cy="4759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0" y="63244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sp. korelacji: 0,99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bliczenia włas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839-BEC6-46F7-9EFE-D6C3F7EB4F2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Ograniczenia w interpretacji </a:t>
            </a:r>
            <a:br>
              <a:rPr sz="3200"/>
            </a:b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uzyskanych wyników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korelowano stany ludności, a nie przepływ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nie uwzględniono przyrostu naturalneg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niepełna zbieżność danych i szacunków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 błąd szacunku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95480" y="3581280"/>
                <a:ext cx="297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200" y="4952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– błąd szacunk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szacowana liczba imigrantów do region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zeczywista liczba imigrantów do region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pl-PL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iczba mieszkańców danego pochodzenia w państwie imigracji w roku </a:t>
            </a: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iczba regionów w państwie imigrac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BFE-081F-460A-81F2-09A3979241F6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Struktura prezentacji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stan europejskiej statystyki regionalnej dotyczącej migracji międzynarodowy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najczęściej stosowane metody uzupełnienia brakujących dany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eryfikacja dokładności metod na wybranych przykład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podsumowani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F34-B223-4704-BDE1-3D669913B1D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Błąd szacunku </a:t>
            </a:r>
            <a:r>
              <a:rPr b="0" lang="pl-PL" sz="2400" spc="-1" strike="noStrike">
                <a:solidFill>
                  <a:srgbClr val="e5ffff"/>
                </a:solidFill>
                <a:latin typeface="Book Antiqua"/>
              </a:rPr>
              <a:t>(Belgowie w Hiszpanii)</a:t>
            </a:r>
            <a:endParaRPr b="0" lang="en-US" sz="24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1614600"/>
            <a:ext cx="7772400" cy="4698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bliczenia włas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7FF-20BE-4990-ADEA-D40F64F3AF4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r" pos="800424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5ffff"/>
                </a:solidFill>
                <a:latin typeface="Book Antiqua"/>
              </a:rPr>
              <a:t>Niemcy w Hiszpanii</a:t>
            </a:r>
            <a:r>
              <a:rPr b="0" lang="pl-PL" sz="2800" spc="-1" strike="noStrike">
                <a:solidFill>
                  <a:srgbClr val="e5ffff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e5ffff"/>
                </a:solidFill>
                <a:latin typeface="Book Antiqua"/>
              </a:rPr>
              <a:t> Francuzi w Holandii</a:t>
            </a:r>
            <a:endParaRPr b="0" lang="en-US" sz="2800" spc="-1" strike="noStrike">
              <a:solidFill>
                <a:srgbClr val="e5ffff"/>
              </a:solidFill>
              <a:latin typeface="Book Antiqu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027080"/>
            <a:ext cx="4800600" cy="2630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64832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24280" y="1019160"/>
            <a:ext cx="4496040" cy="2638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495680" cy="2613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3581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800424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wsp. korelacji: 0,996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wsp. korelacji: 0,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6294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Book Antiqua"/>
              </a:rPr>
              <a:t>Źródło: obliczenia włas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F4E-EB00-49C2-AF9D-E1AD4B18AE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Interpretacja i podsumowanie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liczebność populacji cudzoziemców może stanowić podstawę szacunku jej stanów w kolejnych lat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okładność szacunków 80-98%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nieregularność zmian błędu szacunku – nieliniowość zmian migracj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szacowanie wielkości migracji a szacowanie liczebności populacji; czynniki kształtujące wielkość populacji cudzoziemców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igracje (czynnik kluczowy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rzyrost naturaln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roces naturalizacj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EE7-98C2-4056-B235-465D8715450B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Jakość i wiarygodność danych o migracjach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łożoność procesów migracj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ość sposobów gromadzenia danych o migracjach (spisy, rejestry, rejestry administracyjne, badania ankietow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brak ujednoliconych podstawowych definicji, np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kraj pochodzenia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Wielka Brytania: państwo urodzeni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iemcy: państwo ostatniego pobytu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Belgia, Holandia: państwo, którego obywatelstwo migrant posiad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czas migracji (stałość a tymczasowość migracji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trudność dokonywania porównań międzynarodowy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22F-388E-4C20-9687-E4500E2F69F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0"/>
          <a:ext cx="7543800" cy="716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0"/>
                    <a:ext cx="75438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133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5ffff"/>
                </a:solidFill>
                <a:latin typeface="Book Antiqua"/>
              </a:rPr>
              <a:t>Kryteria rejestracji migrantów międzynar.</a:t>
            </a:r>
            <a:endParaRPr b="0" lang="en-US" sz="28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00600"/>
            <a:ext cx="304560" cy="304920"/>
          </a:xfrm>
          <a:prstGeom prst="ellipse">
            <a:avLst/>
          </a:prstGeom>
          <a:noFill/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81280"/>
            <a:ext cx="304920" cy="304920"/>
          </a:xfrm>
          <a:prstGeom prst="ellipse">
            <a:avLst/>
          </a:prstGeom>
          <a:noFill/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3581280"/>
            <a:ext cx="304560" cy="304920"/>
          </a:xfrm>
          <a:prstGeom prst="ellipse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6248520"/>
            <a:ext cx="304560" cy="304560"/>
          </a:xfrm>
          <a:prstGeom prst="ellipse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553080" y="3809880"/>
            <a:ext cx="457200" cy="99072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58000" y="3809880"/>
            <a:ext cx="1752480" cy="24386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114800"/>
            <a:ext cx="19047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Źródło: OECD 1999, Trends in international migration, Annual report, SOPEMI;</a:t>
            </a:r>
            <a:br>
              <a:rPr sz="1000"/>
            </a:b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lsborrow R.E., Hugo G., Oberai A.S., Zlotnik H  1997, International migration statistics. Guidelines for improving data collection systems, International Labour Office, Geneva; Langevin B., Begeot F. 1995, Comparabilite et synthese des donnees europeennes: l’experience d’Eurostat, Louvain-la-Neuve, Academia/L’Harmattan, s.43-64 (uproszczone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259-59B6-472D-845F-F4157076DDEE}" type="slidenum">
              <a:t>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Dane na poziomie regionalnym?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5053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33400" y="1990800"/>
            <a:ext cx="5581800" cy="357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52480" y="2666880"/>
            <a:ext cx="55627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E07-B121-4100-BB88-F7BEFA062B37}" type="slidenum">
              <a:t>5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Możliwości oszacowania brakujących danych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 równania bilansoweg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lokacja migrantów w funkcji wybranych zmiennych zas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tę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czy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wiązek pomiędzy imigracją do regionów a innymi migracjam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kość imigracji a liczba cudzoziemców zamieszkujących dany reg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kość imigracji a wielkość region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D20-A896-4332-893E-97811DA691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Równanie bilansowe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alety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wysoka wiarygodność danych o przyroście naturalny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stosunkowo wysoka wiarygodność w przypadku analizy sald migracj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ady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brak możliwości stwierdzenia wielkości poszczególnych przepływów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brak możliwości określenia kierunków przepływ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732-8E8F-475E-8481-5B9370B670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Zmienne zastępcze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oczekiwany związek imigracji do regionów i determinant migracji międzypaństwowych, np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oziom zarob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stopa bezrobo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gęstość zaludnien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atrakcyjność środowisk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D26-E745-4530-B21F-E082B1A5BD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Imigracja do regionów (IdR)</a:t>
            </a:r>
            <a:r>
              <a:rPr b="0" lang="pl-PL" sz="2400" spc="-1" strike="noStrike">
                <a:solidFill>
                  <a:srgbClr val="e5ffff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e5ffff"/>
                </a:solidFill>
                <a:latin typeface="Book Antiqua"/>
              </a:rPr>
              <a:t>a inne migracje</a:t>
            </a:r>
            <a:endParaRPr b="0" lang="en-US" sz="3200" spc="-1" strike="noStrike">
              <a:solidFill>
                <a:srgbClr val="e5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dR a wewnętrzny napływ ludności do region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coraz większa swoboda migracji międzynarodowych </a:t>
            </a:r>
            <a:r>
              <a:rPr b="0" lang="pl-P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upodabnianie się wzorców migracji międzynarodowych i migracji wewnętrznyc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łączna analiza migracji: </a:t>
            </a:r>
            <a:r>
              <a:rPr b="0" lang="de-DE" sz="2000" spc="-1" strike="noStrike">
                <a:solidFill>
                  <a:srgbClr val="ffffff"/>
                </a:solidFill>
                <a:latin typeface="Book Antiqua"/>
              </a:rPr>
              <a:t>Lee, 1966; Jagielski, 1974; Willekens, 1983; Pryor, 1985; Willekens, 1995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; ...</a:t>
            </a:r>
            <a:r>
              <a:rPr b="0" lang="de-DE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dR a wewnętrzny odpływ ludności z regionu (substytucyjność migracji; m. kompensacyjne; 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Korcelli 1994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dotychczasowi mieszkańcy wyjeżdżają z powodu naporu imigrantów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rzyjeżdżający wykorzystują lokale mieszkalne opuszczone przez migrantów wewnętrznych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potwierdzony związek: Australia (Zagórski, 1990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09120" indent="-2343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drzucony związek: Niemcy (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Gaag i Wissen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01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dR a saldo migracji wewnętrzny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dR a IdR w poprzednich lat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807-F96C-4D26-BE6C-8230A01C524C}" type="slidenum">
              <a:t>9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6:37:24Z</dcterms:created>
  <dc:creator>Wojciech Janicki</dc:creator>
  <dc:description/>
  <dc:language>en-US</dc:language>
  <cp:lastModifiedBy>.</cp:lastModifiedBy>
  <dcterms:modified xsi:type="dcterms:W3CDTF">2008-09-26T14:04:41Z</dcterms:modified>
  <cp:revision>172</cp:revision>
  <dc:subject/>
  <dc:title>Lubelskie Stowarzyszenie Oświatowo-Wychowawcze Społeczne Stowarzyszenie Edukacyjne</dc:title>
</cp:coreProperties>
</file>