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B4B-917E-4080-A06D-634A733D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446-6DCC-4E38-9D7B-932F0D5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928-B837-4E08-B67E-B20C9A26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6D7-EB93-4833-9FFF-1F01D5FE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5D5-BF0A-4B40-B790-C526B8EA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E32-E9A4-44DC-A4A5-010809BF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D55-B3BF-403D-9989-B628990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86E-625D-4934-B0CB-5759790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46A-2C05-438A-99CF-4F715DE6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B13-24F5-41AD-911A-D588E29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081-CE3A-4FAE-9775-5C57403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365-B0D9-4ACE-B466-ACD72FF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A5D0-972C-4573-898A-3315BA5F2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15.wmf"/><Relationship Id="rId12" Type="http://schemas.openxmlformats.org/officeDocument/2006/relationships/package" Target="../embeddings/oleObject2.xlsx"/><Relationship Id="rId13" Type="http://schemas.openxmlformats.org/officeDocument/2006/relationships/image" Target="../media/image16.wmf"/><Relationship Id="rId14" Type="http://schemas.openxmlformats.org/officeDocument/2006/relationships/package" Target="../embeddings/oleObject3.xlsx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66"/>
                </a:solidFill>
                <a:latin typeface="Bookman Old Style"/>
              </a:rPr>
              <a:t>WSPÓŁCZESN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66"/>
                </a:solidFill>
                <a:latin typeface="Bookman Old Style"/>
              </a:rPr>
              <a:t>PROCESY  DEMOGRAFICZN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66"/>
                </a:solidFill>
                <a:latin typeface="Bookman Old Style"/>
              </a:rPr>
              <a:t>NA POGRANICZ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66"/>
                </a:solidFill>
                <a:latin typeface="Bookman Old Style"/>
              </a:rPr>
              <a:t>POLSKO-UKRAIŃSKI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9880" y="4495680"/>
            <a:ext cx="502920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dr Małgorzata Fla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Zakład Geografii Ekonomiczn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Instytut Nauk o Ziemi UMCS w Lublini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9360" y="6248520"/>
            <a:ext cx="2771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Bookman Old Style"/>
              </a:rPr>
              <a:t>Lublin, 22-24 września 2008 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53352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. Przyrost naturalny c.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stały poziom współczynników </a:t>
            </a:r>
            <a:r>
              <a:rPr b="1" i="1" lang="en-US" sz="1800" spc="-1" strike="noStrike">
                <a:solidFill>
                  <a:srgbClr val="00cc66"/>
                </a:solidFill>
                <a:latin typeface="Bookman Old Style"/>
              </a:rPr>
              <a:t>zgon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ydłużanie przeciętnego trwania ży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zmniejszenie śmiertelności niemowlą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371600" y="2479680"/>
          <a:ext cx="6400800" cy="31464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71600" y="2479680"/>
                    <a:ext cx="6400800" cy="31464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28600" y="6019920"/>
            <a:ext cx="86104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Ryc. 2b. Współczynniki zgonów na obszarze pogranicza polsko-ukraińskiego w latach 2002 i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Źródło: 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stat.gov.pl, www.stat.lviv.ua, www.vous.in.lutsk.ua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457200"/>
            <a:ext cx="8534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. Przyrost naturalny c.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poprawa współczynników </a:t>
            </a:r>
            <a:r>
              <a:rPr b="1" i="1" lang="en-US" sz="1800" spc="-1" strike="noStrike">
                <a:solidFill>
                  <a:srgbClr val="00cc66"/>
                </a:solidFill>
                <a:latin typeface="Bookman Old Style"/>
              </a:rPr>
              <a:t>przyrostu natural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5791320"/>
            <a:ext cx="853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Ryc. 2c. Współczynniki przyrostu naturalnego na obszarze pogranicza polsko-ukraińskiego w latach 2002 i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Źródło: 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stat.gov.pl, www.stat.lviv.ua, www.vous.in.lutsk.ua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1905120"/>
          <a:ext cx="7010280" cy="344628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1905120"/>
                    <a:ext cx="7010280" cy="34462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33520"/>
            <a:ext cx="853416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. Przyrost naturalny c.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dominacja obsza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o ujemnym współczynnik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66"/>
                </a:solidFill>
                <a:latin typeface="Bookman Old Style"/>
              </a:rPr>
              <a:t>przyrostu natural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952880"/>
            <a:ext cx="27432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Ryc. 3. Współczynnik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przyrostu naturaln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na obszarze pogranic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polsko-ukraińskiego w 2007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Źródło: 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stat.gov.pl, www.stat.lviv.ua, www.vous.in.lutsk.ua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657600" y="914400"/>
          <a:ext cx="5180040" cy="548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914400"/>
                    <a:ext cx="51800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6858000" y="4800600"/>
            <a:ext cx="1800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4920" y="914400"/>
            <a:ext cx="830556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. Przyrost naturalny c.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różnice we wskaźnik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ruchu naturalnego w miast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i na obszarach wiejsk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0" y="4611600"/>
          <a:ext cx="4572000" cy="22464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4611600"/>
                    <a:ext cx="4572000" cy="22464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572000" y="2324160"/>
          <a:ext cx="4572000" cy="224784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0" y="2324160"/>
                    <a:ext cx="4572000" cy="22478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0"/>
          <a:ext cx="4572000" cy="22464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0"/>
                    <a:ext cx="4572000" cy="22464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058560" y="2971800"/>
            <a:ext cx="799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Zg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57600" y="304920"/>
            <a:ext cx="1215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Urod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92920" y="4648320"/>
            <a:ext cx="1180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Przyr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natural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952880"/>
            <a:ext cx="27432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Ryc. 4. Wskaźniki ruch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naturalnego w miast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i na obszarach wiejsk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pogranicza polsko-ukraiński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w 2006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Źródło: 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stat.gov.pl, www.stat.lviv.ua, www.vous.in.lutsk.ua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3771720" y="571320"/>
            <a:ext cx="838080" cy="152280"/>
          </a:xfrm>
          <a:custGeom>
            <a:avLst/>
            <a:gdLst>
              <a:gd name="textAreaLeft" fmla="*/ 130680 w 838080"/>
              <a:gd name="textAreaRight" fmla="*/ 733320 w 8380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848040" y="2781000"/>
            <a:ext cx="838440" cy="15228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7200360" y="3924360"/>
            <a:ext cx="838440" cy="15228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848040" y="5676840"/>
            <a:ext cx="838080" cy="152280"/>
          </a:xfrm>
          <a:custGeom>
            <a:avLst/>
            <a:gdLst>
              <a:gd name="textAreaLeft" fmla="*/ 130680 w 838080"/>
              <a:gd name="textAreaRight" fmla="*/ 733320 w 8380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500"/>
                            </p:stCondLst>
                            <p:childTnLst>
                              <p:par>
                                <p:cTn id="2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04920" y="1981080"/>
            <a:ext cx="44193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cc66"/>
                </a:solidFill>
                <a:latin typeface="Bookman Old Style"/>
              </a:rPr>
              <a:t>międzyregional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oj. lubelskie: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- 5,1 tys.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osó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wołyński: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- 153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oso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lwowski: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- 963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oso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981080"/>
            <a:ext cx="4495680" cy="13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cc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cc66"/>
                </a:solidFill>
                <a:latin typeface="Bookman Old Style"/>
              </a:rPr>
              <a:t>zagranicz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oj. lubelskie: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- 1,4 tys.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osó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wołyński: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- 361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osó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lwowski: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- 280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osó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04920"/>
            <a:ext cx="85341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Zmiany ludnościowe po 2002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I. Migracje lud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71600"/>
            <a:ext cx="85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ujemne saldo migracji zewnętrznych w 2006 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429000"/>
            <a:ext cx="8305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różne tendencje migracyjne ludności miast i w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2120" y="3886200"/>
            <a:ext cx="7467120" cy="2514600"/>
            <a:chOff x="762120" y="3886200"/>
            <a:chExt cx="7467120" cy="2514600"/>
          </a:xfrm>
        </p:grpSpPr>
        <p:grpSp>
          <p:nvGrpSpPr>
            <p:cNvPr id="235" name=""/>
            <p:cNvGrpSpPr/>
            <p:nvPr/>
          </p:nvGrpSpPr>
          <p:grpSpPr>
            <a:xfrm>
              <a:off x="767160" y="3889440"/>
              <a:ext cx="7455600" cy="2507400"/>
              <a:chOff x="767160" y="3889440"/>
              <a:chExt cx="7455600" cy="25074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67160" y="3889440"/>
                <a:ext cx="1941120" cy="1102680"/>
                <a:chOff x="767160" y="3889440"/>
                <a:chExt cx="1941120" cy="11026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17920" y="3889440"/>
                  <a:ext cx="1839240" cy="110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Rodzaj migracji/Obsz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67160" y="3889440"/>
                  <a:ext cx="1941120" cy="110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708640" y="3889440"/>
                <a:ext cx="1915920" cy="475560"/>
                <a:chOff x="2708640" y="3889440"/>
                <a:chExt cx="1915920" cy="4755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759760" y="3889440"/>
                  <a:ext cx="181332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Woj. lubelski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708640" y="3889440"/>
                  <a:ext cx="191592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624920" y="3889440"/>
                <a:ext cx="1805760" cy="475560"/>
                <a:chOff x="4624920" y="3889440"/>
                <a:chExt cx="1805760" cy="4755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675680" y="3889440"/>
                  <a:ext cx="170388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O. wołyńsk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624920" y="3889440"/>
                  <a:ext cx="18057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31400" y="3889440"/>
                <a:ext cx="1791360" cy="475560"/>
                <a:chOff x="6431400" y="3889440"/>
                <a:chExt cx="1791360" cy="475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482520" y="3889440"/>
                  <a:ext cx="16887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O. lwowsk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31400" y="3889440"/>
                  <a:ext cx="17913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708640" y="4365000"/>
                <a:ext cx="957600" cy="626760"/>
                <a:chOff x="2708640" y="4365000"/>
                <a:chExt cx="957600" cy="626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759760" y="4365000"/>
                  <a:ext cx="85500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Mias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708640" y="4365000"/>
                  <a:ext cx="95760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666960" y="4365000"/>
                <a:ext cx="957600" cy="626760"/>
                <a:chOff x="3666960" y="4365000"/>
                <a:chExt cx="957600" cy="626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717720" y="4365000"/>
                  <a:ext cx="8553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Wieś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666960" y="4365000"/>
                  <a:ext cx="95760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624920" y="4365000"/>
                <a:ext cx="910080" cy="626760"/>
                <a:chOff x="4624920" y="4365000"/>
                <a:chExt cx="910080" cy="626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675680" y="4365000"/>
                  <a:ext cx="80784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Miast</a:t>
                  </a: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624920" y="4365000"/>
                  <a:ext cx="91008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535720" y="4365000"/>
                <a:ext cx="894960" cy="626760"/>
                <a:chOff x="5535720" y="4365000"/>
                <a:chExt cx="894960" cy="6267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586480" y="4365000"/>
                  <a:ext cx="7930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Wieś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35720" y="4365000"/>
                  <a:ext cx="8949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431400" y="4365000"/>
                <a:ext cx="895320" cy="626760"/>
                <a:chOff x="6431400" y="4365000"/>
                <a:chExt cx="895320" cy="6267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82520" y="4365000"/>
                  <a:ext cx="7930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Mias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431400" y="4365000"/>
                  <a:ext cx="8953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327080" y="4365000"/>
                <a:ext cx="895320" cy="626760"/>
                <a:chOff x="7327080" y="4365000"/>
                <a:chExt cx="895320" cy="626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378200" y="4365000"/>
                  <a:ext cx="792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Wieś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327080" y="4365000"/>
                  <a:ext cx="8953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67160" y="4992120"/>
                <a:ext cx="1941120" cy="626760"/>
                <a:chOff x="767160" y="4992120"/>
                <a:chExt cx="1941120" cy="6267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817920" y="4992120"/>
                  <a:ext cx="183924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Migracje zagranicz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67160" y="4992120"/>
                  <a:ext cx="19411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708640" y="4992120"/>
                <a:ext cx="957600" cy="626760"/>
                <a:chOff x="2708640" y="4992120"/>
                <a:chExt cx="957600" cy="6267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759760" y="4992120"/>
                  <a:ext cx="85500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708640" y="4992120"/>
                  <a:ext cx="95760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666960" y="4992120"/>
                <a:ext cx="957600" cy="626760"/>
                <a:chOff x="3666960" y="4992120"/>
                <a:chExt cx="957600" cy="626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717720" y="4992120"/>
                  <a:ext cx="85536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666960" y="4992120"/>
                  <a:ext cx="95760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624920" y="4992120"/>
                <a:ext cx="910080" cy="626760"/>
                <a:chOff x="4624920" y="4992120"/>
                <a:chExt cx="910080" cy="626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675680" y="4992120"/>
                  <a:ext cx="80784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624920" y="4992120"/>
                  <a:ext cx="91008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535720" y="4992120"/>
                <a:ext cx="894960" cy="626760"/>
                <a:chOff x="5535720" y="4992120"/>
                <a:chExt cx="894960" cy="6267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586480" y="4992120"/>
                  <a:ext cx="7930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535720" y="4992120"/>
                  <a:ext cx="89496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31400" y="4992120"/>
                <a:ext cx="895320" cy="626760"/>
                <a:chOff x="6431400" y="4992120"/>
                <a:chExt cx="895320" cy="626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482520" y="4992120"/>
                  <a:ext cx="79308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31400" y="4992120"/>
                  <a:ext cx="8953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327080" y="4992120"/>
                <a:ext cx="895320" cy="626760"/>
                <a:chOff x="7327080" y="4992120"/>
                <a:chExt cx="895320" cy="6267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7378200" y="4992120"/>
                  <a:ext cx="792720" cy="62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27080" y="4992120"/>
                  <a:ext cx="895320" cy="62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67160" y="5619240"/>
                <a:ext cx="1941120" cy="777600"/>
                <a:chOff x="767160" y="5619240"/>
                <a:chExt cx="1941120" cy="7776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817920" y="5619240"/>
                  <a:ext cx="183924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Migracje międzyregional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67160" y="5619240"/>
                  <a:ext cx="1941120" cy="77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708640" y="5619240"/>
                <a:ext cx="957600" cy="777600"/>
                <a:chOff x="2708640" y="5619240"/>
                <a:chExt cx="957600" cy="7776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59760" y="5619240"/>
                  <a:ext cx="85500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708640" y="5619240"/>
                  <a:ext cx="957600" cy="77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666960" y="5619240"/>
                <a:ext cx="957600" cy="777600"/>
                <a:chOff x="3666960" y="5619240"/>
                <a:chExt cx="957600" cy="777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17720" y="5619240"/>
                  <a:ext cx="85536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66960" y="5619240"/>
                  <a:ext cx="957600" cy="77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24920" y="5619240"/>
                <a:ext cx="910080" cy="777600"/>
                <a:chOff x="4624920" y="5619240"/>
                <a:chExt cx="910080" cy="777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675680" y="5619240"/>
                  <a:ext cx="80784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24920" y="5619240"/>
                  <a:ext cx="910080" cy="77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35720" y="5619240"/>
                <a:ext cx="894960" cy="777600"/>
                <a:chOff x="5535720" y="5619240"/>
                <a:chExt cx="894960" cy="7776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586480" y="5619240"/>
                  <a:ext cx="79308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35720" y="5619240"/>
                  <a:ext cx="894960" cy="77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431400" y="5619240"/>
                <a:ext cx="895320" cy="777600"/>
                <a:chOff x="6431400" y="5619240"/>
                <a:chExt cx="895320" cy="7776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482520" y="5619240"/>
                  <a:ext cx="79308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431400" y="5619240"/>
                  <a:ext cx="895320" cy="77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27080" y="5619240"/>
                <a:ext cx="895320" cy="777600"/>
                <a:chOff x="7327080" y="5619240"/>
                <a:chExt cx="895320" cy="777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378200" y="5619240"/>
                  <a:ext cx="79272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Bookman Old Style"/>
                      <a:ea typeface="Times New Roman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27080" y="5619240"/>
                  <a:ext cx="895320" cy="77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762120" y="3886200"/>
              <a:ext cx="74671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3860640" y="762120"/>
          <a:ext cx="5104080" cy="5715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60640" y="762120"/>
                    <a:ext cx="5104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6705720" y="5105520"/>
            <a:ext cx="2076480" cy="1199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04920" y="380880"/>
            <a:ext cx="830556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I. Migracje ludności c.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dominacja obsza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o ujemn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66"/>
                </a:solidFill>
                <a:latin typeface="Bookman Old Style"/>
              </a:rPr>
              <a:t>saldzie migracji zewnętr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4952880"/>
            <a:ext cx="27432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Ryc. 5. Zróżnicowa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salda migracji zewnętrz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na obszarze pogranic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polsko-ukraińskiego w 2007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Źródło: 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stat.gov.pl, www.stat.lviv.ua, www.vous.in.lutsk.ua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4920" y="1219320"/>
            <a:ext cx="83055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pl-PL" sz="1800" spc="-1" strike="noStrike">
                <a:solidFill>
                  <a:srgbClr val="000099"/>
                </a:solidFill>
                <a:latin typeface="Bookman Old Style"/>
              </a:rPr>
              <a:t>różne motyw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czynniki ekonom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suburbani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pl-PL" sz="1800" spc="-1" strike="noStrike">
                <a:solidFill>
                  <a:srgbClr val="000099"/>
                </a:solidFill>
                <a:latin typeface="Bookman Old Style"/>
              </a:rPr>
              <a:t>i kierunki migracji </a:t>
            </a:r>
            <a:r>
              <a:rPr b="1" lang="pl-PL" sz="1800" spc="-1" strike="noStrike">
                <a:solidFill>
                  <a:srgbClr val="00cc66"/>
                </a:solidFill>
                <a:latin typeface="Bookman Old Style"/>
              </a:rPr>
              <a:t>wewnątrzregionalnych</a:t>
            </a:r>
            <a:r>
              <a:rPr b="1" lang="pl-PL" sz="1800" spc="-1" strike="noStrike">
                <a:solidFill>
                  <a:srgbClr val="000099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pl-PL" sz="1600" spc="-1" strike="noStrike">
                <a:solidFill>
                  <a:srgbClr val="ff3300"/>
                </a:solidFill>
                <a:latin typeface="Bookman Old Style"/>
              </a:rPr>
              <a:t>Woj. lubelskie: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miasta </a:t>
            </a:r>
            <a:r>
              <a:rPr b="1" lang="pl-P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wie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pl-PL" sz="1600" spc="-1" strike="noStrike">
                <a:solidFill>
                  <a:srgbClr val="ff3300"/>
                </a:solidFill>
                <a:latin typeface="Bookman Old Style"/>
              </a:rPr>
              <a:t>O. wołyński: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wieś </a:t>
            </a:r>
            <a:r>
              <a:rPr b="1" lang="pl-P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mia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pl-PL" sz="1600" spc="-1" strike="noStrike">
                <a:solidFill>
                  <a:srgbClr val="ff3300"/>
                </a:solidFill>
                <a:latin typeface="Bookman Old Style"/>
              </a:rPr>
              <a:t>O. lwowski: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wieś </a:t>
            </a:r>
            <a:r>
              <a:rPr b="1" lang="pl-P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pl-PL" sz="1600" spc="-1" strike="noStrike">
                <a:solidFill>
                  <a:srgbClr val="000099"/>
                </a:solidFill>
                <a:latin typeface="Bookman Old Style"/>
              </a:rPr>
              <a:t> mia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7920" y="523800"/>
            <a:ext cx="34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I. Migracje ludności c.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9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371600" y="304920"/>
            <a:ext cx="6248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Podsumowan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20" y="838080"/>
            <a:ext cx="9166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1. Podobne tendencje zmian demograficznych po polskiej i ukraińskiej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stronie pogranicza, ale różne ich natężenie i stopień zaawans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680" y="1676520"/>
            <a:ext cx="8983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2. Generalny regres zaludnienia, mający większą skalę po ukraiński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stronie pogranic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080" y="2514600"/>
            <a:ext cx="91069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3. Nakładające się na siebie: długotrwała depopulacja wsi (silniejs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po stronie ukraińskiej) oraz spadek zaludnienia w miastach (silniejsz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w Pols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080" y="3733920"/>
            <a:ext cx="9074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4. Pozytywny trend poprawy ujemnych współczynników przyro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naturalnego, wynikający ze wzrostu liczby urodzeń i stabilizacji licz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zgon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4876920"/>
            <a:ext cx="85341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5. Wyraźny odpływ ludności z terenów pogranicza, silniejszy po j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polskiej stro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5638680"/>
            <a:ext cx="85341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6. Widoczne na szczeblu lokalnym zależności pomiędzy zmiana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ludnościowymi a sytuacją społeczno-ekonomicz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371600" y="2438280"/>
            <a:ext cx="6248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Bookman Old Style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ZAKRES BADA</a:t>
            </a:r>
            <a:r>
              <a:rPr b="1" lang="en-US" sz="2200" spc="-1" strike="noStrike">
                <a:solidFill>
                  <a:srgbClr val="000099"/>
                </a:solidFill>
                <a:latin typeface="Bookman Old Style"/>
              </a:rPr>
              <a:t>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765000"/>
            <a:ext cx="36576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Bookman Old Style"/>
              </a:rPr>
              <a:t>przestrzen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Po stronie polskiej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województwo lubels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pow. 25,1 tys. km</a:t>
            </a:r>
            <a:r>
              <a:rPr b="1" lang="en-US" sz="1400" spc="-1" strike="noStrike" baseline="30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l. ludności 2166,2 tys. osó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Bookman Old Style"/>
              </a:rPr>
              <a:t>(na 31.XII.2007 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Po stronie ukraińskiej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obwód woły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pow. 20,1 tys. km</a:t>
            </a:r>
            <a:r>
              <a:rPr b="1" lang="en-US" sz="1400" spc="-1" strike="noStrike" baseline="30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l. ludności 1036,4 tys. osó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Bookman Old Style"/>
              </a:rPr>
              <a:t>(na 1.I.2008 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obwód lwowski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pow. 21,8 tys. km</a:t>
            </a:r>
            <a:r>
              <a:rPr b="1" lang="en-US" sz="1400" spc="-1" strike="noStrike" baseline="30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l. ludności 2559,8 tys. osób 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Bookman Old Style"/>
              </a:rPr>
              <a:t>     </a:t>
            </a:r>
            <a:r>
              <a:rPr b="1" lang="en-US" sz="1200" spc="-1" strike="noStrike">
                <a:solidFill>
                  <a:srgbClr val="000099"/>
                </a:solidFill>
                <a:latin typeface="Bookman Old Style"/>
              </a:rPr>
              <a:t>(na 1.I.2008 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5000"/>
            <a:ext cx="3657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Bookman Old Style"/>
              </a:rPr>
              <a:t>czasow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lata 2002-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4114800" y="609480"/>
            <a:ext cx="4738680" cy="558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03280" y="333360"/>
            <a:ext cx="62485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Wspólne cechy obszar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pogranicza polsko-ukraiński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84280"/>
            <a:ext cx="853416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peryferyjne położenie w stosunku do lepiej rozwiniętych regionów         kra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izolacja i niedoinwestowanie w okresie powojenn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niski poziom uprzemysłowi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niewielka liczba dużych ośrodków miejsko-przemysłow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wysoki odsetek ludności wiejski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dominacja funkcji rolniczych w gospoda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4221000"/>
            <a:ext cx="287280" cy="1009800"/>
          </a:xfrm>
          <a:prstGeom prst="downArrow">
            <a:avLst>
              <a:gd name="adj1" fmla="val 50000"/>
              <a:gd name="adj2" fmla="val 878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589720"/>
            <a:ext cx="8496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specyfika procesów demograficznych i ich odmienność na tle kra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71600" y="228600"/>
            <a:ext cx="62485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Powojenne zmiany ludnościow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na pograniczu do 2002 ro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26708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00cc66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00cc66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cc66"/>
                </a:solidFill>
                <a:latin typeface="Bookman Old Style"/>
              </a:rPr>
              <a:t>w latach 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371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woj. lubelskie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obwody ukraińs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680" y="2362320"/>
            <a:ext cx="3042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dodatni przyrost natural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intensywna emigr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yludnian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6560" y="2362320"/>
            <a:ext cx="38412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słabiony potencjał demograficz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dodatni przyrost natural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intensywne ruchy wędrówk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stosunkowo wolny przyrost licz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ludn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4800600"/>
            <a:ext cx="853416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spadek przyrostu natural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intensywna emigr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spadek liczby ludności – depopulac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52800" y="1905120"/>
            <a:ext cx="232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Bookman Old Style"/>
              </a:rPr>
              <a:t>do początku lat 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0400" y="252360"/>
            <a:ext cx="6483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Czynniki zmian demograficznych w latach 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000" y="213516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Bookman Old Style"/>
              </a:rPr>
              <a:t>„</a:t>
            </a:r>
            <a:r>
              <a:rPr b="1" i="1" lang="en-US" sz="2000" spc="-1" strike="noStrike">
                <a:solidFill>
                  <a:srgbClr val="ff3300"/>
                </a:solidFill>
                <a:latin typeface="Bookman Old Style"/>
              </a:rPr>
              <a:t>drugie przejście demograficz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7400" y="213372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Bookman Old Style"/>
              </a:rPr>
              <a:t>transformacja system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700000">
            <a:off x="1676160" y="304920"/>
            <a:ext cx="304560" cy="213336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8900000">
            <a:off x="6934320" y="304920"/>
            <a:ext cx="304560" cy="213336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42670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relacje państwo </a:t>
            </a:r>
            <a:r>
              <a:rPr b="1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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społeczeńs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aktywność lud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63560" y="3124080"/>
            <a:ext cx="2582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zmiany ekonom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zachodnioeuropejsk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zorce post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1066680"/>
            <a:ext cx="3276720" cy="914400"/>
          </a:xfrm>
          <a:custGeom>
            <a:avLst/>
            <a:gdLst>
              <a:gd name="textAreaLeft" fmla="*/ 660600 w 3276720"/>
              <a:gd name="textAreaRight" fmla="*/ 2288520 w 32767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09" hR="21600" stAng="10800000" swAng="5400000"/>
                <a:lnTo>
                  <a:pt x="10731" y="0"/>
                </a:lnTo>
                <a:arcTo wR="8709" hR="21600" stAng="-5400000" swAng="3174048"/>
                <a:lnTo>
                  <a:pt x="21221" y="15300"/>
                </a:lnTo>
                <a:lnTo>
                  <a:pt x="18429" y="21600"/>
                </a:lnTo>
                <a:lnTo>
                  <a:pt x="14879" y="15300"/>
                </a:lnTo>
                <a:lnTo>
                  <a:pt x="17039" y="15300"/>
                </a:lnTo>
                <a:arcTo wR="8709" hR="21600" stAng="-2225952" swAng="-3012166"/>
                <a:lnTo>
                  <a:pt x="9720" y="146"/>
                </a:lnTo>
                <a:arcTo wR="8709" hR="21600" stAng="-5561881" swAng="-5238119"/>
                <a:close/>
              </a:path>
              <a:path fill="darkenLess" w="21600" h="21600">
                <a:moveTo>
                  <a:pt x="0" y="21600"/>
                </a:moveTo>
                <a:arcTo wR="8709" hR="21600" stAng="10800000" swAng="5400000"/>
                <a:lnTo>
                  <a:pt x="8709" y="0"/>
                </a:lnTo>
                <a:arcTo wR="8709" hR="21600" stAng="-5400000" swAng="161881"/>
                <a:lnTo>
                  <a:pt x="9720" y="146"/>
                </a:lnTo>
                <a:arcTo wR="8709" hR="21600" stAng="-5561881" swAng="-5238119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2666520" y="2514600"/>
            <a:ext cx="3429000" cy="914400"/>
          </a:xfrm>
          <a:custGeom>
            <a:avLst/>
            <a:gdLst>
              <a:gd name="textAreaLeft" fmla="*/ 691200 w 3429000"/>
              <a:gd name="textAreaRight" fmla="*/ 2394720 w 3429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09" hR="21600" stAng="10800000" swAng="5400000"/>
                <a:lnTo>
                  <a:pt x="10731" y="0"/>
                </a:lnTo>
                <a:arcTo wR="8709" hR="21600" stAng="-5400000" swAng="3089020"/>
                <a:lnTo>
                  <a:pt x="21183" y="15000"/>
                </a:lnTo>
                <a:lnTo>
                  <a:pt x="18429" y="21600"/>
                </a:lnTo>
                <a:lnTo>
                  <a:pt x="14841" y="15000"/>
                </a:lnTo>
                <a:lnTo>
                  <a:pt x="17001" y="15000"/>
                </a:lnTo>
                <a:arcTo wR="8709" hR="21600" stAng="-2310980" swAng="-2927139"/>
                <a:lnTo>
                  <a:pt x="9720" y="146"/>
                </a:lnTo>
                <a:arcTo wR="8709" hR="21600" stAng="-5561881" swAng="-5238119"/>
                <a:close/>
              </a:path>
              <a:path fill="darkenLess" w="21600" h="21600">
                <a:moveTo>
                  <a:pt x="0" y="21600"/>
                </a:moveTo>
                <a:arcTo wR="8709" hR="21600" stAng="10800000" swAng="5400000"/>
                <a:lnTo>
                  <a:pt x="8709" y="0"/>
                </a:lnTo>
                <a:arcTo wR="8709" hR="21600" stAng="-5400000" swAng="161881"/>
                <a:lnTo>
                  <a:pt x="9720" y="146"/>
                </a:lnTo>
                <a:arcTo wR="8709" hR="21600" stAng="-5561881" swAng="-5238119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419720"/>
            <a:ext cx="51814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spadek liczby małżeńst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wzrost liczby wolnych związk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zmniejszenie płodności </a:t>
            </a: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wzrost liczby urodzeń pozamałżeńsk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444920"/>
            <a:ext cx="43434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38400" indent="1904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spadek liczby małżeńst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1904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wzrost liczby rozwod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1904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zmniejszenie licz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190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urodze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1904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wzrost śmierteln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1904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Bookman Old Style"/>
              </a:rPr>
              <a:t>nasilenie emigr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304920"/>
            <a:ext cx="6248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Zmiany ludnościowe po 2002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600200"/>
            <a:ext cx="85341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kontynuacja dotychczasowych tendencji spadku liczby lu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 u="sng">
                <a:solidFill>
                  <a:srgbClr val="00cc66"/>
                </a:solidFill>
                <a:uFillTx/>
                <a:latin typeface="Bookman Old Style"/>
              </a:rPr>
              <a:t>W okresie 1991-2001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oj. lubelskie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,6%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      o. wołyń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2,4%          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lwow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2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       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cc66"/>
                </a:solidFill>
                <a:latin typeface="Bookman Old Style"/>
              </a:rPr>
              <a:t>W</a:t>
            </a:r>
            <a:r>
              <a:rPr b="1" lang="en-US" sz="1600" spc="-1" strike="noStrike" u="sng">
                <a:solidFill>
                  <a:srgbClr val="00cc66"/>
                </a:solidFill>
                <a:uFillTx/>
                <a:latin typeface="Bookman Old Style"/>
              </a:rPr>
              <a:t> okresie 2002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oj. lubelskie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,6%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     o. wołyń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2,3%          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lwow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2,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3385800" y="993960"/>
            <a:ext cx="539640" cy="152280"/>
          </a:xfrm>
          <a:custGeom>
            <a:avLst/>
            <a:gdLst>
              <a:gd name="textAreaLeft" fmla="*/ 84240 w 539640"/>
              <a:gd name="textAreaRight" fmla="*/ 472320 w 539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 vert="eaVert" rot="10800000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962520"/>
            <a:ext cx="8458200" cy="23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różna skala regresu zaludnienia w miastach i na w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n-US" sz="1600" spc="-1" strike="noStrike" u="sng">
                <a:solidFill>
                  <a:srgbClr val="00cc66"/>
                </a:solidFill>
                <a:uFillTx/>
                <a:latin typeface="Bookman Old Style"/>
              </a:rPr>
              <a:t>W okresie 2002-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66"/>
                </a:solidFill>
                <a:latin typeface="Bookman Old Style"/>
              </a:rPr>
              <a:t>Mias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oj. lubelskie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,7%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     o. wołyń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0,6%          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lwow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66"/>
                </a:solidFill>
                <a:latin typeface="Bookman Old Style"/>
              </a:rPr>
              <a:t>Obszary wiejsk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oj. lubelskie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,5%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      o. wołyń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4,0%           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o. lwowski –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5,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8240" y="83808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. Przyrost rzeczywi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567320" y="3424320"/>
          <a:ext cx="9360" cy="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67320" y="3424320"/>
                    <a:ext cx="93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4920" y="228600"/>
            <a:ext cx="8534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. Przyrost rzeczywisty c.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wyraźne przestrzenne zróżnicowanie zmian zaludni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505320" y="1066680"/>
          <a:ext cx="5089320" cy="5410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05320" y="1066680"/>
                    <a:ext cx="50893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>
            <a:off x="6705720" y="5257800"/>
            <a:ext cx="1743120" cy="107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1160" y="5181480"/>
            <a:ext cx="289044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Ryc. 1. Zmiany zaludnien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na obszarze pogranic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polsko-ukraiński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w latach 2002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Źródło: 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stat.gov.pl, www.stat.lviv.u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vous.in.lutsk.ua</a:t>
            </a: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304920"/>
            <a:ext cx="73152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66"/>
                </a:solidFill>
                <a:latin typeface="Bookman Old Style"/>
              </a:rPr>
              <a:t>Zmiany ludnościowe po 2002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II. Przyrost natural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219320"/>
            <a:ext cx="853416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wzrost współczynników </a:t>
            </a:r>
            <a:r>
              <a:rPr b="1" i="1" lang="en-US" sz="1800" spc="-1" strike="noStrike">
                <a:solidFill>
                  <a:srgbClr val="00cc66"/>
                </a:solidFill>
                <a:latin typeface="Bookman Old Style"/>
              </a:rPr>
              <a:t>urodze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wzrost liczby zawieranych małżeńst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brak zmian w zakresie współczynnika dzietności kobiet</a:t>
            </a:r>
            <a:r>
              <a:rPr b="1" lang="en-US" sz="1600" spc="-1" strike="noStrike">
                <a:solidFill>
                  <a:srgbClr val="000099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3200400"/>
          <a:ext cx="5715000" cy="280836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3200400"/>
                    <a:ext cx="5715000" cy="28083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04920" y="6172200"/>
            <a:ext cx="85341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Bookman Old Style"/>
              </a:rPr>
              <a:t>Ryc. 2a. Współczynniki urodzeń na obszarze pogranicza polsko-ukraińskiego w latach 2002 i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Źródło: 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  <a:ea typeface="Times New Roman"/>
              </a:rPr>
              <a:t>www.stat.gov.pl, www.stat.lviv.ua, www.vous.in.lutsk.ua</a:t>
            </a:r>
            <a:r>
              <a:rPr b="1" lang="pl-PL" sz="1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86284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8862840" y="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4800600"/>
            <a:ext cx="281160" cy="2057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049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049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6705720" y="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6705720" y="6567480"/>
            <a:ext cx="2133360" cy="290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1828800" y="228600"/>
            <a:ext cx="5486400" cy="632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1828800" y="228600"/>
            <a:ext cx="5486400" cy="6324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0:47:32Z</dcterms:created>
  <dc:creator>mflaga</dc:creator>
  <dc:description/>
  <dc:language>en-US</dc:language>
  <cp:lastModifiedBy>.</cp:lastModifiedBy>
  <dcterms:modified xsi:type="dcterms:W3CDTF">2008-09-26T15:22:11Z</dcterms:modified>
  <cp:revision>1098</cp:revision>
  <dc:subject/>
  <dc:title>  MAŁGORZATA  FLAGA </dc:title>
</cp:coreProperties>
</file>