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5531-CA0D-461D-8E68-901DAE69D5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D179-310D-4459-B8B1-DD9D232D11B9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C71D-274E-44D9-8C1B-02D47FBCF987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4C3B-657B-4275-BFEE-22B2E49B5423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C87C-271F-464A-B414-B49682DE79D4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784B-086B-4D65-98AC-896F9060383F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4451-A70D-4D93-B5F1-460B6A5234FF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BC5-488B-4511-B005-EE20C3FA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79D-5A95-471A-898B-F517EC4F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0A0-2CEF-4283-8B54-94A8951A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01D-0491-462E-B0E4-9CEADD9C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4AF4-1A21-43D5-9B4D-4B2ED84A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F9CA-B5B7-478D-906A-9C801534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855B-8AF5-4AF9-A8DD-C0F93E56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8C6D-ED3C-4220-808F-D014F90B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B2BA-E8F4-4FBC-B027-57A4A0C9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BC10-15CC-4F8E-9AFD-C457F839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910A-3969-4320-AE25-D11F4DDE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09C-4716-491F-9F68-06BA2D3D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78C9-E04A-48FF-8F4F-DE466C46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06B4-A3E0-45CE-941C-E6E678E6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0DC1-D737-46B8-9D77-109B6081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C38E-06B3-40A2-BA20-847F1C20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8661-6029-4467-8BD4-02A3E9AD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1FF-632D-4AD1-8792-D8954ECB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257-33E7-4EC9-A113-1B728648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1EC-BCBF-4EFC-ACE5-19324195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145-47C1-4E19-AA0A-455AF3A2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320-0B0B-4B75-9B07-8745978F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036-625D-44C5-AC22-DBF3ED56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A7D-9432-45F2-B560-7BE06F03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D77A-6885-4F10-80C6-013D6E7F7498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6FC3-5E95-4723-A6F3-FE3187D19F97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271476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pl-PL" sz="3200" spc="-1" strike="noStrike">
                <a:solidFill>
                  <a:srgbClr val="ffffff"/>
                </a:solidFill>
                <a:latin typeface="Arial"/>
              </a:rPr>
              <a:t>Potrzeby informacyjne w procesie budowy strategii rozwoju pogranicza polsko-ukraińsko-białoruskiego</a:t>
            </a:r>
            <a:br>
              <a:rPr sz="3200"/>
            </a:br>
            <a:br>
              <a:rPr sz="3200"/>
            </a:b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Ryszard Boguszewski</a:t>
            </a:r>
            <a:br>
              <a:rPr sz="1800"/>
            </a:b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BDE EuroCompass</a:t>
            </a:r>
            <a:br>
              <a:rPr sz="32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9680" y="5143320"/>
            <a:ext cx="8358120" cy="15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Times New Roman"/>
              </a:rPr>
              <a:t>Konferencja naukow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i="1" lang="pl-PL" sz="1800" spc="-1" strike="noStrike">
                <a:solidFill>
                  <a:srgbClr val="ffffff"/>
                </a:solidFill>
                <a:latin typeface="Times New Roman"/>
              </a:rPr>
              <a:t>Statystyka publiczna w procesie integracji europejskiej ze szczególnym uwzględnieniem problematyki obszarów transgranicznych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Times New Roman"/>
              </a:rPr>
              <a:t>Lublin, 22-24 września 2008 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3929040" y="214200"/>
            <a:ext cx="5008680" cy="1043280"/>
            <a:chOff x="3929040" y="214200"/>
            <a:chExt cx="5008680" cy="104328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3929040" y="283320"/>
              <a:ext cx="1000800" cy="97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5351400" y="259560"/>
              <a:ext cx="957600" cy="9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0" descr=""/>
            <p:cNvPicPr/>
            <p:nvPr/>
          </p:nvPicPr>
          <p:blipFill>
            <a:blip r:embed="rId3"/>
            <a:stretch/>
          </p:blipFill>
          <p:spPr>
            <a:xfrm>
              <a:off x="6730560" y="214200"/>
              <a:ext cx="97920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1" descr=""/>
            <p:cNvPicPr/>
            <p:nvPr/>
          </p:nvPicPr>
          <p:blipFill>
            <a:blip r:embed="rId4"/>
            <a:stretch/>
          </p:blipFill>
          <p:spPr>
            <a:xfrm>
              <a:off x="8131320" y="259560"/>
              <a:ext cx="806400" cy="93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429400" cy="785880"/>
          </a:xfrm>
          <a:prstGeom prst="rect">
            <a:avLst/>
          </a:prstGeom>
          <a:solidFill>
            <a:srgbClr val="0e2a7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ogranicze polsko-białorusko-ukraińskie (953 km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840" y="142884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418 km granicy polsko-białoruskie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535 km granicy polsko-ukraińskiej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Obszar polskiego pogranicza to województwa: podlaskie, lubelskie i podkarpack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rogram Współpracy Transgranicznej Polska-Białoruś-Ukraina 2007-2013  - szansą na podjęcie koniecznych prac planistyczny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7" descr="00_2008_03_06_EISiP"/>
          <p:cNvPicPr/>
          <p:nvPr/>
        </p:nvPicPr>
        <p:blipFill>
          <a:blip r:embed="rId1"/>
          <a:stretch/>
        </p:blipFill>
        <p:spPr>
          <a:xfrm>
            <a:off x="3786120" y="1143000"/>
            <a:ext cx="5170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solidFill>
            <a:srgbClr val="0e2a7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róby budowania strategii rozwoju pogranicza polsko-ukraińsko-białoruskiego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8400" y="15001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brak całościowej strategii rozwoju pogranicza polsko-ukraińsko-białoruskie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podejmowano próby tworzenia strategii cząstkowy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trategia rozwoju  Euroregionu BUG (19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Wspólna polsko-ukraińska strategia współpracy transgranicznej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 lata 2005-2015  (2005/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tworzono również opracowania monografi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ogranicze polsko-ukraińskie. Środowisko. Społeczeństwo. Gospodarka (WSZiA w Zamościu, 200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solidFill>
            <a:srgbClr val="0e2a7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otrzeby informacyjne wynikające z doświadczeń nad opracowaniem Wspólnej Polsko-Ukraińskiej Strategii Współpracy Transgranicznej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na lata 2005-2015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3880" y="1571400"/>
            <a:ext cx="77439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odjęto próbę skorelowania opisu pogranicza z wymogami polityki spójności UE (m.in. wzorując się na danych z raportów kohezyjny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tylko w przypadku około 30% wymaganych danych statystycznych okazało się, że istnieje realna szansa ich pozyska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jmniej problemów odnotowano w takich obszarach j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Przyroda i terytori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Demografia oraz warunki bytowe mieszkańcó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Rynek pracy (ale tylko w zakresie aktywności ekonomicznej ludności i liczby pracujących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Makroekonomia (WDB, przeciętne miesięczne wynagrodzenie brutto, wartość brutto środków trwałych, podmioty gospodarki narodowej, it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Sektor rolny i jego potencjał produkcyj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solidFill>
            <a:srgbClr val="0e2a7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identyfikowane luki informacyjne w ramach prac nad Wspólną Polsko-Ukraińską Strategią Współpracy Transgranicznej (1/2)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5840" y="1428840"/>
            <a:ext cx="85723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3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stopień rozwoju gospodarczego regionu (mierzony m.in. poziomem  PKB i dynamiką jego zmia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produktywność gospodarki (mierzona poziomem PKB / WDB na osobę zatrudnioną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konkurencyjność regionalnej gospodarki (mierzona m.in. poziomem napływu bezpośrednich inwestycji zagranicznych, wartością i strukturą eksportowanych towarów i usług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innowacyjność regionalnej gospodarki, z uwzględnieniem takich kategorii jak: czynniki innowacyjności (głównie poziom wykształcenia i wiedzy), zwiększanie wiedzy (głównie wydatki publiczne na badania i rozwój oraz wydatki przedsiębiorstw na badania i rozwój), innowacje i przedsiębiorczość (głównie MŚP zaangażowane w innowacje), zastosowanie (zatrudnienie w usługach sektora zaawansowanych technologii i w produkcji średnio-zawansowanych technologii) oraz własność intelektualna (wnioski patentowe i zarejestrowane znaki towarow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dostępność komunikacyjna (drogowa, kolejowa i lotnicza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produkcja i zużycie energii (w tym udział odnawialnych źródeł energii w łącznym zużyciu energii pierwotnej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solidFill>
            <a:srgbClr val="0e2a7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identyfikowane luki informacyjne w ramach prac nad Wspólną Polsko-Ukraińską Strategią Współpracy Transgranicznej (2/2)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3880" y="1571400"/>
            <a:ext cx="77439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dostęp do sieci komunikacyjnych o wysokiej wydajności (np. mierzony liczbą gospodarstw domowych i firm podłączonych do szerokopasmowego Internetu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infrastruktura ochrony środowiska (w tym liczba osób podłączonych do zbiorczej sieci wodociągowej i kanalizacyjnej, ilość wytwarzanych odpadów i stopień ich utylizacji, stopień zanieczyszczenia głównych zbiorników wodnych, itd..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rynek pracy (w tym poziom zatrudnienia z podziałem na sektory, stopa bezrobocia, w tym długotrwałego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edukacja (w tym wskaźniki wykształcenia mieszkańców na poziomie wyższym i średnim, kształcenie przez całe życi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marginalizacja społeczna (w tym zagrożenie ubóstwem mierzone udziałem osób z dochodem netto poniżej 60% średniego krajowego wynagrodzenia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dostęp do infrastruktury społecznej (np. mierzone liczbą łóżek szpitalnych na 100 tys. mieszkańców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solidFill>
            <a:srgbClr val="0e2a7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otrzeby informacyjne – uwagi końcow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3880" y="1571400"/>
            <a:ext cx="77439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należy efektywnie wykorzystać szanse na rozwój planowania  strategicznego w układzie transgranicznym  wynikające z  PWT Polska-Białoruś-Ukraina 2007-201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konieczne jest zaangażowanie i współdziałanie władz krajowych i regionalnych po obu stronach granicy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należy wykorzystać  dotychczasowe doświadczenie w zakresie planowania transgranicznego  (dokumenty planistyczne i  dorobek instytucjonalny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kluczowa rola statystyki publicznej i jej dostosowywania się do potrzeb planistów i wymogów polityki EU (w tym polityki spójności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6526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2400"/>
            </a:br>
            <a:r>
              <a:rPr b="1" lang="pl-PL" sz="6600" spc="-1" strike="noStrike">
                <a:solidFill>
                  <a:srgbClr val="ffffff"/>
                </a:solidFill>
                <a:latin typeface="Times New Roman"/>
              </a:rPr>
              <a:t>Dziękuję za uwagę</a:t>
            </a:r>
            <a:r>
              <a:rPr b="1" lang="pl-PL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6572160" y="5857920"/>
            <a:ext cx="2367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0:57:39Z</dcterms:created>
  <dc:creator>Komp</dc:creator>
  <dc:description/>
  <dc:language>en-US</dc:language>
  <cp:lastModifiedBy>Rysiek</cp:lastModifiedBy>
  <dcterms:modified xsi:type="dcterms:W3CDTF">2008-09-22T20:14:15Z</dcterms:modified>
  <cp:revision>93</cp:revision>
  <dc:subject/>
  <dc:title>Nowe perspektywy 2007-2013</dc:title>
</cp:coreProperties>
</file>