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6C1-9681-4481-9398-ED8C890F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289-D11C-409F-A174-36F9BA68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460-A329-4302-8D4B-C744C579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189-6A90-48BB-A2B9-2C7C1CA5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DCB2-DFA6-4C0D-A809-CC2CD4E8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606-2760-4A73-920B-8D9ADFA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F12A-F8C5-4817-B9C1-29BF6EFB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97A-7558-4F92-976D-943A61A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446F-C616-4625-985E-591B990A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1463-F363-4CCE-92BF-B59722DE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88F9-C933-44F5-A11E-E0D2234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7A2-A0A8-4EA0-AC82-3E55A06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CBD7-F0F0-4856-BB80-2BB76B5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E24F-5976-4EA8-A355-BEB519D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53BE-D23B-48BC-8FE3-88107355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5BC9-65AF-4FA4-B2C1-ED02BFE1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7E5C-09EE-4505-AB4A-6EAFAC2E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3334-B108-4387-879A-69F50116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8D0E-2C43-4156-B767-E23ECB71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1D38-AF02-402B-A217-1F8E69EE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B98E-C8EE-43EB-A69E-B3D8BA8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0C3C-E3C6-463E-83CD-C23C340C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AC3-EEEB-4168-A659-CE0C13CC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2FB8-6D23-4337-850B-9B49FBFB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E2A5-8306-4C5C-8F2E-7DC40B83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085B-F53D-4759-94D4-63D0FFC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870E-6A6E-4F7C-815D-ACEE916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26FC-A523-4C08-AC5E-102E2169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602A-9B4D-4484-BB3F-E78AAC2D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708C-6D93-41DE-83FA-EE89FAD2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0DAE-C7B6-4EB7-A767-1C4F7084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457C-CB27-495C-BCD6-E409D50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5ABC-F314-4928-A043-74A88584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A5A-8E12-4E4D-B3F1-73A767A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DCE6-FCD3-4197-BC2B-DF2F3F57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8A9E-C547-4862-8E01-60340AEE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B7772-1EF0-42ED-96B2-AAA77EB3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184D-AD72-4F78-A897-9CF2976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DBBA-BA8C-4895-A339-96348567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1B59-EA46-48D8-BD09-29309D1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7119-54DB-4CF9-B832-B9350694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6624-F13D-47D4-A919-92A8A4F9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B1B5-80CC-4FD1-9344-677B7C95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76B-D226-4C6C-A855-F8B404D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648-1EFC-4138-AC7B-8AD4EBE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BCA-00C6-4FEF-A1EE-6FAF54C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125-CCBB-4068-8EF4-9633CBC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844-0ADA-475D-A25A-AC8F170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78EE-19FE-4B88-A52C-EB2771181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827-0291-49BD-BA79-D8ADBF1364B7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4709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b4eb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4709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b4eb5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4709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F62E-7EC0-4E6D-98EA-2046C20E551A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47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47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66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B307-B5C7-4AA6-A78D-42C18A2BB90C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47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47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97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BANK DANYCH REGIONALNYCH JAKO ELEMENT KRAJOWEGO        I EUROPEJSKIEGO SYSTEMU INFORMACJI STATYSTYCZNEJ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 Beata Bal-Domań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ząd Statystyczny we Wrocław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1718" t="52718" r="29564" b="19869"/>
          <a:stretch/>
        </p:blipFill>
        <p:spPr>
          <a:xfrm>
            <a:off x="3851280" y="5157720"/>
            <a:ext cx="47512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15201" r="3623" b="7832"/>
          <a:stretch/>
        </p:blipFill>
        <p:spPr>
          <a:xfrm>
            <a:off x="1476360" y="189000"/>
            <a:ext cx="66168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840720" cy="632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356000" y="189000"/>
            <a:ext cx="1152720" cy="50328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6360" y="2565360"/>
            <a:ext cx="1152360" cy="50328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67820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25406" r="24335" b="13123"/>
          <a:stretch/>
        </p:blipFill>
        <p:spPr>
          <a:xfrm>
            <a:off x="0" y="476280"/>
            <a:ext cx="8820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0" t="18558" r="0" b="8775"/>
          <a:stretch/>
        </p:blipFill>
        <p:spPr>
          <a:xfrm>
            <a:off x="179280" y="0"/>
            <a:ext cx="66232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-1046160"/>
            <a:ext cx="9144000" cy="7904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348000" y="2637000"/>
            <a:ext cx="1152720" cy="50292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8000" y="3645000"/>
            <a:ext cx="2663640" cy="64764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43280" y="4508640"/>
            <a:ext cx="1152360" cy="50292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rcRect l="-567" t="65694" r="27818" b="14343"/>
          <a:stretch/>
        </p:blipFill>
        <p:spPr>
          <a:xfrm>
            <a:off x="179280" y="2349360"/>
            <a:ext cx="8642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-192" t="25406" r="19728" b="5962"/>
          <a:stretch/>
        </p:blipFill>
        <p:spPr>
          <a:xfrm>
            <a:off x="0" y="549360"/>
            <a:ext cx="9144000" cy="5621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796000" y="2421000"/>
            <a:ext cx="1152360" cy="50328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27296" r="7130" b="6808"/>
          <a:stretch/>
        </p:blipFill>
        <p:spPr>
          <a:xfrm>
            <a:off x="250920" y="279360"/>
            <a:ext cx="8101080" cy="6578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03640" y="189000"/>
            <a:ext cx="1800000" cy="71892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3860640"/>
            <a:ext cx="1800360" cy="71928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3450" t="16792" r="10898" b="12370"/>
          <a:stretch/>
        </p:blipFill>
        <p:spPr>
          <a:xfrm>
            <a:off x="755640" y="836640"/>
            <a:ext cx="7704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39" t="25393" r="24903" b="10636"/>
          <a:stretch/>
        </p:blipFill>
        <p:spPr>
          <a:xfrm>
            <a:off x="179280" y="692280"/>
            <a:ext cx="8748720" cy="56293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4920" y="1773360"/>
            <a:ext cx="1800360" cy="718920"/>
          </a:xfrm>
          <a:custGeom>
            <a:avLst/>
            <a:gdLst/>
            <a:ahLst/>
            <a:rect l="l" t="t" r="r" b="b"/>
            <a:pathLst>
              <a:path w="1870" h="794">
                <a:moveTo>
                  <a:pt x="423" y="81"/>
                </a:moveTo>
                <a:cubicBezTo>
                  <a:pt x="375" y="78"/>
                  <a:pt x="251" y="62"/>
                  <a:pt x="198" y="81"/>
                </a:cubicBezTo>
                <a:cubicBezTo>
                  <a:pt x="191" y="84"/>
                  <a:pt x="127" y="170"/>
                  <a:pt x="117" y="180"/>
                </a:cubicBezTo>
                <a:cubicBezTo>
                  <a:pt x="63" y="234"/>
                  <a:pt x="119" y="148"/>
                  <a:pt x="54" y="234"/>
                </a:cubicBezTo>
                <a:cubicBezTo>
                  <a:pt x="26" y="271"/>
                  <a:pt x="11" y="316"/>
                  <a:pt x="0" y="360"/>
                </a:cubicBezTo>
                <a:cubicBezTo>
                  <a:pt x="8" y="422"/>
                  <a:pt x="4" y="490"/>
                  <a:pt x="72" y="513"/>
                </a:cubicBezTo>
                <a:cubicBezTo>
                  <a:pt x="109" y="540"/>
                  <a:pt x="127" y="547"/>
                  <a:pt x="171" y="558"/>
                </a:cubicBezTo>
                <a:cubicBezTo>
                  <a:pt x="228" y="596"/>
                  <a:pt x="302" y="604"/>
                  <a:pt x="369" y="612"/>
                </a:cubicBezTo>
                <a:cubicBezTo>
                  <a:pt x="484" y="650"/>
                  <a:pt x="618" y="659"/>
                  <a:pt x="738" y="666"/>
                </a:cubicBezTo>
                <a:cubicBezTo>
                  <a:pt x="816" y="683"/>
                  <a:pt x="884" y="707"/>
                  <a:pt x="963" y="720"/>
                </a:cubicBezTo>
                <a:cubicBezTo>
                  <a:pt x="1070" y="738"/>
                  <a:pt x="1179" y="738"/>
                  <a:pt x="1287" y="747"/>
                </a:cubicBezTo>
                <a:cubicBezTo>
                  <a:pt x="1405" y="794"/>
                  <a:pt x="1517" y="770"/>
                  <a:pt x="1647" y="765"/>
                </a:cubicBezTo>
                <a:cubicBezTo>
                  <a:pt x="1668" y="759"/>
                  <a:pt x="1689" y="754"/>
                  <a:pt x="1710" y="747"/>
                </a:cubicBezTo>
                <a:cubicBezTo>
                  <a:pt x="1802" y="714"/>
                  <a:pt x="1830" y="632"/>
                  <a:pt x="1863" y="549"/>
                </a:cubicBezTo>
                <a:cubicBezTo>
                  <a:pt x="1859" y="473"/>
                  <a:pt x="1870" y="356"/>
                  <a:pt x="1827" y="279"/>
                </a:cubicBezTo>
                <a:cubicBezTo>
                  <a:pt x="1767" y="171"/>
                  <a:pt x="1672" y="203"/>
                  <a:pt x="1566" y="180"/>
                </a:cubicBezTo>
                <a:cubicBezTo>
                  <a:pt x="1420" y="148"/>
                  <a:pt x="1361" y="135"/>
                  <a:pt x="1206" y="126"/>
                </a:cubicBezTo>
                <a:cubicBezTo>
                  <a:pt x="1093" y="107"/>
                  <a:pt x="1009" y="88"/>
                  <a:pt x="891" y="81"/>
                </a:cubicBezTo>
                <a:cubicBezTo>
                  <a:pt x="849" y="73"/>
                  <a:pt x="807" y="71"/>
                  <a:pt x="765" y="63"/>
                </a:cubicBezTo>
                <a:cubicBezTo>
                  <a:pt x="660" y="42"/>
                  <a:pt x="759" y="50"/>
                  <a:pt x="666" y="27"/>
                </a:cubicBezTo>
                <a:cubicBezTo>
                  <a:pt x="597" y="10"/>
                  <a:pt x="521" y="0"/>
                  <a:pt x="450" y="0"/>
                </a:cubicBezTo>
                <a:lnTo>
                  <a:pt x="423" y="81"/>
                </a:lnTo>
                <a:close/>
              </a:path>
            </a:pathLst>
          </a:custGeom>
          <a:noFill/>
          <a:ln w="507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ykres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4564080" cy="4753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rcRect l="1757" t="45893" r="25468" b="41917"/>
          <a:stretch/>
        </p:blipFill>
        <p:spPr>
          <a:xfrm>
            <a:off x="3024360" y="4941720"/>
            <a:ext cx="6119640" cy="1513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rcRect l="3008" t="12355" r="16115" b="59834"/>
          <a:stretch/>
        </p:blipFill>
        <p:spPr>
          <a:xfrm>
            <a:off x="4197240" y="-73080"/>
            <a:ext cx="4859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43026" r="35014" b="6777"/>
          <a:stretch/>
        </p:blipFill>
        <p:spPr>
          <a:xfrm>
            <a:off x="324000" y="1903320"/>
            <a:ext cx="4752720" cy="4478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5761080" cy="2452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rcRect l="0" t="25611" r="35014" b="59038"/>
          <a:stretch/>
        </p:blipFill>
        <p:spPr>
          <a:xfrm>
            <a:off x="2949480" y="4797360"/>
            <a:ext cx="6194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LAN WYSTĄPIE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 Banku Danych Regionalny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e rozwojowe w BD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 Danych Lokalny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2303640"/>
            <a:ext cx="5041800" cy="4554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EŚ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223" t="31338" r="23422" b="23292"/>
          <a:stretch/>
        </p:blipFill>
        <p:spPr>
          <a:xfrm>
            <a:off x="2843280" y="0"/>
            <a:ext cx="6119640" cy="2908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599" t="43758" r="68525" b="10871"/>
          <a:stretch/>
        </p:blipFill>
        <p:spPr>
          <a:xfrm>
            <a:off x="5292720" y="2852640"/>
            <a:ext cx="3205080" cy="3716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-252360" y="4076640"/>
            <a:ext cx="8893080" cy="1387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618080" y="2498760"/>
            <a:ext cx="3048120" cy="1252440"/>
          </a:xfrm>
          <a:custGeom>
            <a:avLst/>
            <a:gdLst/>
            <a:ahLst/>
            <a:rect l="l" t="t" r="r" b="b"/>
            <a:pathLst>
              <a:path w="1920" h="789">
                <a:moveTo>
                  <a:pt x="797" y="39"/>
                </a:moveTo>
                <a:cubicBezTo>
                  <a:pt x="681" y="30"/>
                  <a:pt x="567" y="13"/>
                  <a:pt x="451" y="0"/>
                </a:cubicBezTo>
                <a:cubicBezTo>
                  <a:pt x="337" y="6"/>
                  <a:pt x="223" y="2"/>
                  <a:pt x="115" y="39"/>
                </a:cubicBezTo>
                <a:cubicBezTo>
                  <a:pt x="47" y="107"/>
                  <a:pt x="18" y="175"/>
                  <a:pt x="0" y="269"/>
                </a:cubicBezTo>
                <a:cubicBezTo>
                  <a:pt x="3" y="317"/>
                  <a:pt x="1" y="366"/>
                  <a:pt x="9" y="413"/>
                </a:cubicBezTo>
                <a:cubicBezTo>
                  <a:pt x="11" y="425"/>
                  <a:pt x="23" y="432"/>
                  <a:pt x="29" y="442"/>
                </a:cubicBezTo>
                <a:cubicBezTo>
                  <a:pt x="58" y="491"/>
                  <a:pt x="82" y="520"/>
                  <a:pt x="125" y="557"/>
                </a:cubicBezTo>
                <a:cubicBezTo>
                  <a:pt x="199" y="621"/>
                  <a:pt x="272" y="645"/>
                  <a:pt x="355" y="692"/>
                </a:cubicBezTo>
                <a:cubicBezTo>
                  <a:pt x="369" y="700"/>
                  <a:pt x="378" y="715"/>
                  <a:pt x="393" y="720"/>
                </a:cubicBezTo>
                <a:cubicBezTo>
                  <a:pt x="418" y="728"/>
                  <a:pt x="444" y="727"/>
                  <a:pt x="470" y="730"/>
                </a:cubicBezTo>
                <a:cubicBezTo>
                  <a:pt x="560" y="789"/>
                  <a:pt x="711" y="768"/>
                  <a:pt x="816" y="778"/>
                </a:cubicBezTo>
                <a:cubicBezTo>
                  <a:pt x="933" y="774"/>
                  <a:pt x="1103" y="748"/>
                  <a:pt x="1229" y="768"/>
                </a:cubicBezTo>
                <a:cubicBezTo>
                  <a:pt x="1408" y="761"/>
                  <a:pt x="1580" y="737"/>
                  <a:pt x="1757" y="720"/>
                </a:cubicBezTo>
                <a:cubicBezTo>
                  <a:pt x="1766" y="717"/>
                  <a:pt x="1777" y="716"/>
                  <a:pt x="1785" y="711"/>
                </a:cubicBezTo>
                <a:cubicBezTo>
                  <a:pt x="1793" y="706"/>
                  <a:pt x="1797" y="696"/>
                  <a:pt x="1805" y="692"/>
                </a:cubicBezTo>
                <a:cubicBezTo>
                  <a:pt x="1826" y="682"/>
                  <a:pt x="1850" y="680"/>
                  <a:pt x="1872" y="672"/>
                </a:cubicBezTo>
                <a:cubicBezTo>
                  <a:pt x="1893" y="641"/>
                  <a:pt x="1908" y="611"/>
                  <a:pt x="1920" y="576"/>
                </a:cubicBezTo>
                <a:cubicBezTo>
                  <a:pt x="1913" y="526"/>
                  <a:pt x="1916" y="495"/>
                  <a:pt x="1881" y="461"/>
                </a:cubicBezTo>
                <a:cubicBezTo>
                  <a:pt x="1846" y="390"/>
                  <a:pt x="1765" y="332"/>
                  <a:pt x="1689" y="308"/>
                </a:cubicBezTo>
                <a:cubicBezTo>
                  <a:pt x="1543" y="204"/>
                  <a:pt x="1344" y="186"/>
                  <a:pt x="1171" y="173"/>
                </a:cubicBezTo>
                <a:cubicBezTo>
                  <a:pt x="1008" y="142"/>
                  <a:pt x="1243" y="190"/>
                  <a:pt x="1075" y="144"/>
                </a:cubicBezTo>
                <a:cubicBezTo>
                  <a:pt x="1021" y="129"/>
                  <a:pt x="957" y="122"/>
                  <a:pt x="902" y="116"/>
                </a:cubicBezTo>
                <a:cubicBezTo>
                  <a:pt x="803" y="81"/>
                  <a:pt x="743" y="58"/>
                  <a:pt x="633" y="58"/>
                </a:cubicBezTo>
                <a:lnTo>
                  <a:pt x="697" y="87"/>
                </a:lnTo>
              </a:path>
            </a:pathLst>
          </a:custGeom>
          <a:noFill/>
          <a:ln w="57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rcRect l="2828" t="24588" r="8491" b="7853"/>
          <a:stretch/>
        </p:blipFill>
        <p:spPr>
          <a:xfrm>
            <a:off x="1482840" y="212760"/>
            <a:ext cx="720072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Zestawienie zmian wprowadzonych       od 2008 roku w interfejsie użytkownika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39640" y="1916280"/>
          <a:ext cx="8280360" cy="4547880"/>
        </p:xfrm>
        <a:graphic>
          <a:graphicData uri="http://schemas.openxmlformats.org/drawingml/2006/table">
            <a:tbl>
              <a:tblPr/>
              <a:tblGrid>
                <a:gridCol w="460440"/>
                <a:gridCol w="3043440"/>
                <a:gridCol w="477648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ł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st (nowy internetowy interfejs użytkowni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bór cechy poprzez jej definiowanie w kolejnych oknach wyboru (kategoria, podgru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bór cechy z „drzewa”, czyli rozwijalnego menu hierarchicznie przyporządkowującego cechy (kategorie, grupy, podgrupy) bez konieczności przechodzenia do kolejnych okien (ekranó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efiniowanie zakresu (przestrzennego, czasowego i rzeczowego) cechy w kolejnych oknach wyb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cieżka wyboru cechy na jednym ekranie – wybór odbywa się przez wskazanie wariantów dla kolejnych wymiarów – tj. zakres jednostek terytorialnych, okres sprawozdawczy, zakres rzeczowy, c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graniczona możliwości wyboru poziomu prezentacji terytorialnej da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yczny wybór poziomu prezentacji danych (opcja: zaznacz wszystkie gminy lub powiaty lub podregiony, itp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ocne strony bazy BD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ożliwość wyboru jednostek (np. tylko gminy!!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ożliwość definiowania układu tablicy (zestawu cech, poziomu agregacji, kolejność nagłówków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Możliwość generowania wykresó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łabe strony bazy BD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Użytkownic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ówki naukowe i badawcz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dnostki administracji publicznej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 i instytucje ubezpieczeniow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mioty gospodarcz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ci studiów licencjackich, magisterskich i doktoranckich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akże urzędy statyczn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biorcy zagranicz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6b749"/>
                </a:solidFill>
                <a:latin typeface="Tahoma"/>
              </a:rPr>
              <a:t>Prace rozwojowe BDR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343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zbudowa tzw. dziedzinowych modułów BD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 układzie opracowania „Województwa w latach”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kaźników zrównoważonego rozwoj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 – wyciąg z danych prezentowanych zgodnie z metodologią informacji zawartych w bazie REGI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tniejącego modułu „Portret terytorium” poprzez rozszerzenie zakresu informacji i  wprowadzenie możliwości porównania dwóch jednostek terytorialnych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kaźników GOW – kształcenie, badania, innowac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Tahoma"/>
              </a:rPr>
              <a:t>Prace rozwojowe BDR 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(cd.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76b749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zamówieni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76b749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budowa opcji FAQ - opinie dotyczące zawartości bazy danych i funkcjonalności systemu wyboru i opisu danych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76b749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łącznie narzędzi umożliwiających graficzną wizualizację danych na mapach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Tahoma"/>
              </a:rPr>
              <a:t>Prace rozwojowe BDR 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(cd.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41536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76b749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ypracowanie trybu pobierania danych ze źródeł administracyjny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6b749"/>
                </a:solidFill>
                <a:latin typeface="Tahoma"/>
              </a:rPr>
              <a:t>BDR a BDL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soby obecnie dostępne w BDR będą włączone do BDL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ększa liczba cech ze źródeł administracyjnych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zentacja danych na niższych poziomach podziału terytorialnego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zewiduje się pozyskanie informacji z następujących źródeł administracyjnych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2033280"/>
            <a:ext cx="85597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Gminne systemy ewidencji ludności i PESE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REGON – w zakresie lokalizacji podmiotów gospodarczych w tereni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ystem ewidencji podatkowej urzędów gmin – w zakresie powierzchni gruntów oraz powierzchni budynków lub ich częśc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atystyczny Rejestr Gospodarstw Rolnych i Leśnych (SRGRiL) i REGON – w zakresie ustalenia położenia oraz wielkości gospodarstw rol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integrowany System Zarządzania i Kontroli (IACS) administrowany przez Agencję Restrukturyzacji i Modernizacji Rolnictwa – w zakresie ewidencji producentów rolnych prowadzonej na poziomie działki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ystem Ewidencji Gruntów i Budynków (EGiB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integrowany System Informacji o Nieruchomościach (ZSIN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Krajowa Ewidencja Podatników (KE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Centralny Rejestr Ubezpieczonych (ZUS, KRUS), Kompleksowy System Informacji KSI ZU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ystemy informacyjne obsługujące obszar pomocy społecznej.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4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ystem POBYT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BDR – Bank Danych Regionalnych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dnostka GUS, której celem jest gromadzenie i udostępnianie danych statystycznych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poczęcie prac nad BD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  październik 1993 roku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ostępnienie internetowej bazy danych - marzec 1998 rok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oziom prezentacji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ejscowość statystyczna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ręb geodezyjny stosowanego w ewidencji gruntów i budynków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awet punkt adresow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ziękuję za uwagę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58920" y="2276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6327"/>
                </a:solidFill>
                <a:latin typeface="Tahoma"/>
              </a:rPr>
              <a:t>zachęcamy do korzystania z zasobów bazy BD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1718" t="52718" r="29564" b="19869"/>
          <a:stretch/>
        </p:blipFill>
        <p:spPr>
          <a:xfrm>
            <a:off x="5796000" y="189000"/>
            <a:ext cx="3097080" cy="838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684360" y="3606840"/>
            <a:ext cx="43923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uktura zasobów informacyjnych BD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według typu danych w latach 1995-2008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0920" y="2133720"/>
          <a:ext cx="8705880" cy="4133880"/>
        </p:xfrm>
        <a:graphic>
          <a:graphicData uri="http://schemas.openxmlformats.org/drawingml/2006/table">
            <a:tbl>
              <a:tblPr/>
              <a:tblGrid>
                <a:gridCol w="822240"/>
                <a:gridCol w="606240"/>
                <a:gridCol w="606600"/>
                <a:gridCol w="606600"/>
                <a:gridCol w="606240"/>
                <a:gridCol w="606600"/>
                <a:gridCol w="606240"/>
                <a:gridCol w="606600"/>
                <a:gridCol w="606240"/>
                <a:gridCol w="606600"/>
                <a:gridCol w="606240"/>
                <a:gridCol w="606600"/>
                <a:gridCol w="606240"/>
                <a:gridCol w="606600"/>
              </a:tblGrid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Z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j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ART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j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709a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09520" y="6379920"/>
            <a:ext cx="87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iczba cech dla danych kwartalnych podana jest łącznie w roku – sumując każde wystąpienie cechy we wszystkich kwartał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Zakres tematyczny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za danych (ok. 16 tys. cech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ły tematyczne (HERMIN, Portret terytoriu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truktura przedmiotowa danych statystycznych BD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43120" y="2322360"/>
            <a:ext cx="7457760" cy="3483000"/>
            <a:chOff x="843120" y="2322360"/>
            <a:chExt cx="7457760" cy="3483000"/>
          </a:xfrm>
        </p:grpSpPr>
        <p:sp>
          <p:nvSpPr>
            <p:cNvPr id="198" name=""/>
            <p:cNvSpPr/>
            <p:nvPr/>
          </p:nvSpPr>
          <p:spPr>
            <a:xfrm>
              <a:off x="843120" y="2322360"/>
              <a:ext cx="26733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  <a:ea typeface="Times New Roman"/>
                </a:rPr>
                <a:t>KATEGORI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51080" y="3081240"/>
              <a:ext cx="239220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up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13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40200" y="3838680"/>
              <a:ext cx="2390760" cy="56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dgrupy (61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125360" y="2890800"/>
              <a:ext cx="1125720" cy="379440"/>
              <a:chOff x="1125360" y="2890800"/>
              <a:chExt cx="1125720" cy="379440"/>
            </a:xfrm>
          </p:grpSpPr>
          <p:sp>
            <p:nvSpPr>
              <p:cNvPr id="202" name=""/>
              <p:cNvSpPr/>
              <p:nvPr/>
            </p:nvSpPr>
            <p:spPr>
              <a:xfrm>
                <a:off x="1125360" y="289080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25360" y="3270240"/>
                <a:ext cx="112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362480" y="4406760"/>
              <a:ext cx="1125360" cy="379440"/>
              <a:chOff x="4362480" y="4406760"/>
              <a:chExt cx="1125360" cy="379440"/>
            </a:xfrm>
          </p:grpSpPr>
          <p:sp>
            <p:nvSpPr>
              <p:cNvPr id="205" name=""/>
              <p:cNvSpPr/>
              <p:nvPr/>
            </p:nvSpPr>
            <p:spPr>
              <a:xfrm>
                <a:off x="4362480" y="440676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62480" y="4786200"/>
                <a:ext cx="112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814480" y="3649680"/>
              <a:ext cx="1125720" cy="379440"/>
              <a:chOff x="2814480" y="3649680"/>
              <a:chExt cx="1125720" cy="379440"/>
            </a:xfrm>
          </p:grpSpPr>
          <p:sp>
            <p:nvSpPr>
              <p:cNvPr id="208" name=""/>
              <p:cNvSpPr/>
              <p:nvPr/>
            </p:nvSpPr>
            <p:spPr>
              <a:xfrm>
                <a:off x="2814480" y="364968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14480" y="4029120"/>
                <a:ext cx="112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435640" y="4597560"/>
              <a:ext cx="2865240" cy="120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chy (16 tys.) - zakr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zestrzen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zecz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zas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06160" y="5949000"/>
            <a:ext cx="79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nawiasach podano liczbę kategorii, grup i podgrup według stanu w dniu 24 czerwca 2008 ro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025640"/>
          <a:ext cx="7920000" cy="4927320"/>
        </p:xfrm>
        <a:graphic>
          <a:graphicData uri="http://schemas.openxmlformats.org/drawingml/2006/table">
            <a:tbl>
              <a:tblPr/>
              <a:tblGrid>
                <a:gridCol w="795600"/>
                <a:gridCol w="1149120"/>
                <a:gridCol w="2158920"/>
                <a:gridCol w="381636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f6327"/>
                          </a:solidFill>
                          <a:latin typeface="Arial"/>
                        </a:rPr>
                        <a:t>Poziom prezen-tacji da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6b7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  <a:ea typeface="Times New Roman"/>
                        </a:rPr>
                        <a:t>gm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1440" indent="-117144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</a:rPr>
                        <a:t>miej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1440" indent="-117144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</a:rPr>
                        <a:t>wiejsk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1440" indent="-117144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</a:rPr>
                        <a:t>miejsko-wiejsk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1440" indent="-117144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</a:rPr>
                        <a:t>część miejska                  część wiej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81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  <a:ea typeface="Times New Roman"/>
                        </a:rPr>
                        <a:t>powi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  <a:ea typeface="Times New Roman"/>
                        </a:rPr>
                        <a:t>podreg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f6327"/>
                          </a:solidFill>
                          <a:latin typeface="Calibri"/>
                          <a:ea typeface="Times New Roman"/>
                        </a:rPr>
                        <a:t>wojewódz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659" t="24868" r="5592" b="5752"/>
          <a:stretch/>
        </p:blipFill>
        <p:spPr>
          <a:xfrm>
            <a:off x="0" y="26028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żliwość pozyskania dany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1640" y="1557360"/>
            <a:ext cx="7993080" cy="5300640"/>
            <a:chOff x="971640" y="1557360"/>
            <a:chExt cx="7993080" cy="5300640"/>
          </a:xfrm>
        </p:grpSpPr>
        <p:sp>
          <p:nvSpPr>
            <p:cNvPr id="219" name=""/>
            <p:cNvSpPr/>
            <p:nvPr/>
          </p:nvSpPr>
          <p:spPr>
            <a:xfrm>
              <a:off x="6227640" y="5132520"/>
              <a:ext cx="1173240" cy="123336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PODZBIÓ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bf, t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71640" y="1798560"/>
              <a:ext cx="1671120" cy="3703680"/>
              <a:chOff x="971640" y="1798560"/>
              <a:chExt cx="1671120" cy="370368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1697040" y="3899520"/>
                <a:ext cx="102960" cy="493200"/>
              </a:xfrm>
              <a:prstGeom prst="downArrow">
                <a:avLst>
                  <a:gd name="adj1" fmla="val 50000"/>
                  <a:gd name="adj2" fmla="val 119755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697040" y="2543040"/>
                <a:ext cx="102960" cy="739800"/>
              </a:xfrm>
              <a:prstGeom prst="downArrow">
                <a:avLst>
                  <a:gd name="adj1" fmla="val 50000"/>
                  <a:gd name="adj2" fmla="val 179633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71640" y="3282840"/>
                <a:ext cx="1657800" cy="648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</a:rPr>
                  <a:t>ZAKRES ZAMÓWIENI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84600" y="1798560"/>
                <a:ext cx="1658160" cy="7560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00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66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1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www..stat.gov.p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75320" y="4392720"/>
                <a:ext cx="1450800" cy="1109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ZBIÓR WYJŚCIOW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H="1">
              <a:off x="4185360" y="3898800"/>
              <a:ext cx="103320" cy="493920"/>
            </a:xfrm>
            <a:prstGeom prst="downArrow">
              <a:avLst>
                <a:gd name="adj1" fmla="val 50000"/>
                <a:gd name="adj2" fmla="val 119512"/>
              </a:avLst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85360" y="2543040"/>
              <a:ext cx="103320" cy="739800"/>
            </a:xfrm>
            <a:prstGeom prst="downArrow">
              <a:avLst>
                <a:gd name="adj1" fmla="val 50000"/>
                <a:gd name="adj2" fmla="val 179007"/>
              </a:avLst>
            </a:prstGeom>
            <a:solidFill>
              <a:srgbClr val="76b7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43360" y="1805040"/>
              <a:ext cx="3108240" cy="738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66"/>
                  </a:solidFill>
                  <a:latin typeface="Arial"/>
                </a:rPr>
                <a:t>INTRA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 u="sng">
                  <a:solidFill>
                    <a:srgbClr val="333399"/>
                  </a:solidFill>
                  <a:uFillTx/>
                  <a:latin typeface="Arial"/>
                </a:rPr>
                <a:t>http://radhp.gus2k.stat2k.global:7778/bdr_n/app/strona.ind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60680" y="3282840"/>
              <a:ext cx="1658880" cy="64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ZAKRES UPRAWNIE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UŻYTKOWNIK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4000" y="4392720"/>
              <a:ext cx="1450800" cy="11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BIÓR WYJŚCIOW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724360" y="1557360"/>
              <a:ext cx="3240360" cy="5300640"/>
              <a:chOff x="5724360" y="1557360"/>
              <a:chExt cx="3240360" cy="5300640"/>
            </a:xfrm>
          </p:grpSpPr>
          <p:sp>
            <p:nvSpPr>
              <p:cNvPr id="232" name="computr1"/>
              <p:cNvSpPr/>
              <p:nvPr/>
            </p:nvSpPr>
            <p:spPr>
              <a:xfrm>
                <a:off x="6156360" y="1557360"/>
                <a:ext cx="2736720" cy="19717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ZAMÓWIEN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INDYWIDUAL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US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S Wrocła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24360" y="3898800"/>
                <a:ext cx="949320" cy="82548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900" spc="-1" strike="noStrike">
                    <a:solidFill>
                      <a:srgbClr val="000000"/>
                    </a:solidFill>
                    <a:latin typeface="Arial"/>
                  </a:rPr>
                  <a:t>CAŁA BA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db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81760" y="4022640"/>
                <a:ext cx="1658880" cy="615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</a:rPr>
                  <a:t>WYBÓR WARUNKOW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07160" y="4886280"/>
                <a:ext cx="1285920" cy="492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</a:rPr>
                  <a:t>PRZELICZENI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596360" y="5502240"/>
                <a:ext cx="1368360" cy="135576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Plik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dbf, xls, txt, doc,</a:t>
                </a:r>
                <a:r>
                  <a:rPr b="1" lang="pl-PL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259680" y="3529080"/>
                <a:ext cx="102960" cy="617400"/>
              </a:xfrm>
              <a:prstGeom prst="downArrow">
                <a:avLst>
                  <a:gd name="adj1" fmla="val 50000"/>
                  <a:gd name="adj2" fmla="val 149913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606440" y="3529080"/>
                <a:ext cx="104760" cy="493560"/>
              </a:xfrm>
              <a:prstGeom prst="downArrow">
                <a:avLst>
                  <a:gd name="adj1" fmla="val 50000"/>
                  <a:gd name="adj2" fmla="val 117784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984360" y="4638600"/>
                <a:ext cx="104760" cy="617760"/>
              </a:xfrm>
              <a:prstGeom prst="downArrow">
                <a:avLst>
                  <a:gd name="adj1" fmla="val 50000"/>
                  <a:gd name="adj2" fmla="val 147423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8125560" y="4638600"/>
                <a:ext cx="103320" cy="247680"/>
              </a:xfrm>
              <a:prstGeom prst="downArrow">
                <a:avLst>
                  <a:gd name="adj1" fmla="val 50000"/>
                  <a:gd name="adj2" fmla="val 59930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8125560" y="5378400"/>
                <a:ext cx="103320" cy="370080"/>
              </a:xfrm>
              <a:prstGeom prst="downArrow">
                <a:avLst>
                  <a:gd name="adj1" fmla="val 50000"/>
                  <a:gd name="adj2" fmla="val 89547"/>
                </a:avLst>
              </a:prstGeom>
              <a:solidFill>
                <a:srgbClr val="76b74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58:49Z</dcterms:created>
  <dc:creator>AE</dc:creator>
  <dc:description/>
  <dc:language>en-US</dc:language>
  <cp:lastModifiedBy>.</cp:lastModifiedBy>
  <dcterms:modified xsi:type="dcterms:W3CDTF">2008-09-26T13:56:15Z</dcterms:modified>
  <cp:revision>130</cp:revision>
  <dc:subject/>
  <dc:title>Slajd 1</dc:title>
</cp:coreProperties>
</file>